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96C2-60C0-47F9-AB7C-F6E049D4F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AFB1-4CEC-427C-A588-EB42E9927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57A3-FE67-49B8-A086-BD0DA59FB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0BBB-014B-4F92-9D95-965C58E63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820C6-80D7-451B-8226-8FA116E15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3948B-A2AC-4289-8977-5BA88AF3B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6FC55-10A7-4006-BDF1-40D11FE24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E887C-1215-4CD0-92C1-96676165B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333E9-FE5A-443D-8BF9-A4A9F02DB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0C2A7-ACFD-443A-9162-C53EE7C3D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E25BF-B4CB-47AF-976B-E55650A02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12C3-A574-4206-9517-A6B577641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1F560-B758-49BC-9008-185451EA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935CC-1116-4CC6-A3F3-36EC1D793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9EA5E-BC72-41F0-9445-BA5B6132B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B09B3-AB46-44C1-9C72-0DC086299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49134-3588-44F6-9507-DE1A40497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CBC3-3406-438D-9132-C3EEE41A8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56F0-72F6-4F5C-BA58-7530358DD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5C19-73C1-4A62-BB31-34B0BD93E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4BAE-29F0-42F1-AAF8-574B830A3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0BEC-35FE-496C-BD1C-38A93230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BCFF-E141-47AB-AC1F-7189FE29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BE73-3F01-48EC-957B-2B275631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DE77A-9487-4DE0-9DD5-7FCFD39802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85B8C-7B0E-498C-974B-689A39FC0E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Friday, September 11th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1905120"/>
            <a:ext cx="64008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ve this equa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3" name="Object 4"/>
          <p:cNvGraphicFramePr/>
          <p:nvPr/>
        </p:nvGraphicFramePr>
        <p:xfrm>
          <a:off x="2590920" y="2590920"/>
          <a:ext cx="4114800" cy="190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2590920"/>
                    <a:ext cx="411480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bsolute value examples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.  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  <a:ea typeface="Arial"/>
              </a:rPr>
              <a:t>│x - 2│ = 8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Ink 4"/>
          <p:cNvSpPr/>
          <p:nvPr/>
        </p:nvSpPr>
        <p:spPr>
          <a:xfrm>
            <a:off x="1258920" y="2705040"/>
            <a:ext cx="1376280" cy="438120"/>
          </a:xfrm>
          <a:custGeom>
            <a:avLst/>
            <a:gdLst/>
            <a:ahLst/>
            <a:rect l="l" t="t" r="r" b="b"/>
            <a:pathLst>
              <a:path w="3821" h="1216">
                <a:moveTo>
                  <a:pt x="3497" y="7615"/>
                </a:moveTo>
                <a:cubicBezTo>
                  <a:pt x="3543" y="7661"/>
                  <a:pt x="3568" y="7705"/>
                  <a:pt x="3597" y="7764"/>
                </a:cubicBezTo>
                <a:cubicBezTo>
                  <a:pt x="3637" y="7845"/>
                  <a:pt x="3671" y="7915"/>
                  <a:pt x="3721" y="7987"/>
                </a:cubicBezTo>
                <a:cubicBezTo>
                  <a:pt x="3807" y="8111"/>
                  <a:pt x="3880" y="8241"/>
                  <a:pt x="3969" y="8359"/>
                </a:cubicBezTo>
                <a:cubicBezTo>
                  <a:pt x="4041" y="8455"/>
                  <a:pt x="4141" y="8540"/>
                  <a:pt x="4217" y="8632"/>
                </a:cubicBezTo>
                <a:cubicBezTo>
                  <a:pt x="4266" y="8692"/>
                  <a:pt x="4321" y="8721"/>
                  <a:pt x="4390" y="8731"/>
                </a:cubicBezTo>
              </a:path>
              <a:path w="3821" h="1216">
                <a:moveTo>
                  <a:pt x="4068" y="7590"/>
                </a:moveTo>
                <a:cubicBezTo>
                  <a:pt x="3994" y="7743"/>
                  <a:pt x="3902" y="7879"/>
                  <a:pt x="3845" y="8037"/>
                </a:cubicBezTo>
                <a:cubicBezTo>
                  <a:pt x="3805" y="8149"/>
                  <a:pt x="3731" y="8232"/>
                  <a:pt x="3671" y="8334"/>
                </a:cubicBezTo>
                <a:cubicBezTo>
                  <a:pt x="3626" y="8410"/>
                  <a:pt x="3612" y="8468"/>
                  <a:pt x="3547" y="8533"/>
                </a:cubicBezTo>
                <a:cubicBezTo>
                  <a:pt x="3522" y="8558"/>
                  <a:pt x="3514" y="8566"/>
                  <a:pt x="3497" y="8582"/>
                </a:cubicBezTo>
              </a:path>
              <a:path w="3821" h="1216">
                <a:moveTo>
                  <a:pt x="4093" y="8111"/>
                </a:moveTo>
                <a:cubicBezTo>
                  <a:pt x="4177" y="8120"/>
                  <a:pt x="4226" y="8136"/>
                  <a:pt x="4316" y="8136"/>
                </a:cubicBezTo>
                <a:cubicBezTo>
                  <a:pt x="4390" y="8136"/>
                  <a:pt x="4465" y="8136"/>
                  <a:pt x="4539" y="8136"/>
                </a:cubicBezTo>
              </a:path>
              <a:path w="3821" h="1216">
                <a:moveTo>
                  <a:pt x="4787" y="7739"/>
                </a:moveTo>
                <a:cubicBezTo>
                  <a:pt x="4874" y="7665"/>
                  <a:pt x="4940" y="7608"/>
                  <a:pt x="5060" y="7590"/>
                </a:cubicBezTo>
                <a:cubicBezTo>
                  <a:pt x="5140" y="7578"/>
                  <a:pt x="5262" y="7571"/>
                  <a:pt x="5333" y="7615"/>
                </a:cubicBezTo>
                <a:cubicBezTo>
                  <a:pt x="5398" y="7655"/>
                  <a:pt x="5341" y="7740"/>
                  <a:pt x="5333" y="7789"/>
                </a:cubicBezTo>
                <a:cubicBezTo>
                  <a:pt x="5314" y="7899"/>
                  <a:pt x="5288" y="7933"/>
                  <a:pt x="5209" y="8012"/>
                </a:cubicBezTo>
                <a:cubicBezTo>
                  <a:pt x="5121" y="8100"/>
                  <a:pt x="5064" y="8252"/>
                  <a:pt x="4986" y="8359"/>
                </a:cubicBezTo>
                <a:cubicBezTo>
                  <a:pt x="4950" y="8409"/>
                  <a:pt x="4915" y="8529"/>
                  <a:pt x="4862" y="8558"/>
                </a:cubicBezTo>
                <a:cubicBezTo>
                  <a:pt x="4810" y="8558"/>
                  <a:pt x="4793" y="8559"/>
                  <a:pt x="4787" y="8607"/>
                </a:cubicBezTo>
                <a:cubicBezTo>
                  <a:pt x="4836" y="8583"/>
                  <a:pt x="4913" y="8521"/>
                  <a:pt x="4961" y="8508"/>
                </a:cubicBezTo>
                <a:cubicBezTo>
                  <a:pt x="5047" y="8485"/>
                  <a:pt x="5104" y="8546"/>
                  <a:pt x="5184" y="8558"/>
                </a:cubicBezTo>
                <a:cubicBezTo>
                  <a:pt x="5279" y="8573"/>
                  <a:pt x="5389" y="8582"/>
                  <a:pt x="5482" y="8607"/>
                </a:cubicBezTo>
                <a:cubicBezTo>
                  <a:pt x="5559" y="8627"/>
                  <a:pt x="5606" y="8635"/>
                  <a:pt x="5680" y="8607"/>
                </a:cubicBezTo>
              </a:path>
              <a:path w="3821" h="1216">
                <a:moveTo>
                  <a:pt x="5854" y="8062"/>
                </a:moveTo>
                <a:cubicBezTo>
                  <a:pt x="5953" y="8062"/>
                  <a:pt x="6035" y="8040"/>
                  <a:pt x="6127" y="8037"/>
                </a:cubicBezTo>
                <a:cubicBezTo>
                  <a:pt x="6218" y="8034"/>
                  <a:pt x="6309" y="8037"/>
                  <a:pt x="6400" y="8037"/>
                </a:cubicBezTo>
              </a:path>
              <a:path w="3821" h="1216">
                <a:moveTo>
                  <a:pt x="5854" y="8186"/>
                </a:moveTo>
                <a:cubicBezTo>
                  <a:pt x="5992" y="8208"/>
                  <a:pt x="6068" y="8195"/>
                  <a:pt x="6201" y="8186"/>
                </a:cubicBezTo>
              </a:path>
              <a:path w="3821" h="1216">
                <a:moveTo>
                  <a:pt x="7317" y="7615"/>
                </a:moveTo>
                <a:cubicBezTo>
                  <a:pt x="7199" y="7567"/>
                  <a:pt x="7120" y="7540"/>
                  <a:pt x="6995" y="7590"/>
                </a:cubicBezTo>
                <a:cubicBezTo>
                  <a:pt x="6927" y="7617"/>
                  <a:pt x="6851" y="7639"/>
                  <a:pt x="6796" y="7689"/>
                </a:cubicBezTo>
                <a:cubicBezTo>
                  <a:pt x="6751" y="7730"/>
                  <a:pt x="6729" y="7803"/>
                  <a:pt x="6747" y="7863"/>
                </a:cubicBezTo>
                <a:cubicBezTo>
                  <a:pt x="6796" y="8027"/>
                  <a:pt x="6945" y="8097"/>
                  <a:pt x="7069" y="8210"/>
                </a:cubicBezTo>
                <a:cubicBezTo>
                  <a:pt x="7153" y="8287"/>
                  <a:pt x="7276" y="8421"/>
                  <a:pt x="7317" y="8533"/>
                </a:cubicBezTo>
                <a:cubicBezTo>
                  <a:pt x="7341" y="8599"/>
                  <a:pt x="7257" y="8684"/>
                  <a:pt x="7193" y="8682"/>
                </a:cubicBezTo>
                <a:cubicBezTo>
                  <a:pt x="7134" y="8680"/>
                  <a:pt x="7009" y="8636"/>
                  <a:pt x="6970" y="8582"/>
                </a:cubicBezTo>
                <a:cubicBezTo>
                  <a:pt x="6902" y="8489"/>
                  <a:pt x="6944" y="8407"/>
                  <a:pt x="6970" y="8310"/>
                </a:cubicBezTo>
                <a:cubicBezTo>
                  <a:pt x="7005" y="8179"/>
                  <a:pt x="7040" y="8118"/>
                  <a:pt x="7119" y="8012"/>
                </a:cubicBezTo>
                <a:cubicBezTo>
                  <a:pt x="7179" y="7931"/>
                  <a:pt x="7210" y="7833"/>
                  <a:pt x="7243" y="7739"/>
                </a:cubicBezTo>
                <a:cubicBezTo>
                  <a:pt x="7272" y="7657"/>
                  <a:pt x="7307" y="7605"/>
                  <a:pt x="7317" y="751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Ink 5"/>
          <p:cNvSpPr/>
          <p:nvPr/>
        </p:nvSpPr>
        <p:spPr>
          <a:xfrm>
            <a:off x="3062160" y="2946240"/>
            <a:ext cx="339840" cy="179640"/>
          </a:xfrm>
          <a:custGeom>
            <a:avLst/>
            <a:gdLst/>
            <a:ahLst/>
            <a:rect l="l" t="t" r="r" b="b"/>
            <a:pathLst>
              <a:path w="944" h="497">
                <a:moveTo>
                  <a:pt x="8682" y="8260"/>
                </a:moveTo>
                <a:cubicBezTo>
                  <a:pt x="8644" y="8313"/>
                  <a:pt x="8561" y="8387"/>
                  <a:pt x="8533" y="8434"/>
                </a:cubicBezTo>
                <a:cubicBezTo>
                  <a:pt x="8501" y="8487"/>
                  <a:pt x="8480" y="8624"/>
                  <a:pt x="8558" y="8657"/>
                </a:cubicBezTo>
                <a:cubicBezTo>
                  <a:pt x="8624" y="8685"/>
                  <a:pt x="8777" y="8709"/>
                  <a:pt x="8830" y="8632"/>
                </a:cubicBezTo>
                <a:cubicBezTo>
                  <a:pt x="8884" y="8554"/>
                  <a:pt x="8866" y="8449"/>
                  <a:pt x="8806" y="8384"/>
                </a:cubicBezTo>
                <a:cubicBezTo>
                  <a:pt x="8754" y="8328"/>
                  <a:pt x="8696" y="8274"/>
                  <a:pt x="8632" y="8235"/>
                </a:cubicBezTo>
                <a:cubicBezTo>
                  <a:pt x="8584" y="8206"/>
                  <a:pt x="8530" y="8212"/>
                  <a:pt x="8558" y="8186"/>
                </a:cubicBezTo>
              </a:path>
              <a:path w="944" h="497">
                <a:moveTo>
                  <a:pt x="9153" y="8632"/>
                </a:moveTo>
                <a:cubicBezTo>
                  <a:pt x="9153" y="8649"/>
                  <a:pt x="9153" y="8665"/>
                  <a:pt x="9153" y="8682"/>
                </a:cubicBezTo>
                <a:cubicBezTo>
                  <a:pt x="9111" y="8612"/>
                  <a:pt x="9123" y="8538"/>
                  <a:pt x="9153" y="8458"/>
                </a:cubicBezTo>
                <a:cubicBezTo>
                  <a:pt x="9178" y="8391"/>
                  <a:pt x="9221" y="8369"/>
                  <a:pt x="9277" y="8334"/>
                </a:cubicBezTo>
                <a:cubicBezTo>
                  <a:pt x="9340" y="8294"/>
                  <a:pt x="9389" y="8249"/>
                  <a:pt x="9451" y="821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Ink 6"/>
          <p:cNvSpPr/>
          <p:nvPr/>
        </p:nvSpPr>
        <p:spPr>
          <a:xfrm>
            <a:off x="3813120" y="2768760"/>
            <a:ext cx="1625760" cy="438120"/>
          </a:xfrm>
          <a:custGeom>
            <a:avLst/>
            <a:gdLst/>
            <a:ahLst/>
            <a:rect l="l" t="t" r="r" b="b"/>
            <a:pathLst>
              <a:path w="4515" h="1217">
                <a:moveTo>
                  <a:pt x="10641" y="7789"/>
                </a:moveTo>
                <a:cubicBezTo>
                  <a:pt x="10689" y="7890"/>
                  <a:pt x="10714" y="8006"/>
                  <a:pt x="10790" y="8086"/>
                </a:cubicBezTo>
                <a:cubicBezTo>
                  <a:pt x="10921" y="8224"/>
                  <a:pt x="11023" y="8383"/>
                  <a:pt x="11162" y="8508"/>
                </a:cubicBezTo>
                <a:cubicBezTo>
                  <a:pt x="11225" y="8565"/>
                  <a:pt x="11378" y="8675"/>
                  <a:pt x="11460" y="8706"/>
                </a:cubicBezTo>
                <a:cubicBezTo>
                  <a:pt x="11476" y="8706"/>
                  <a:pt x="11493" y="8706"/>
                  <a:pt x="11509" y="8706"/>
                </a:cubicBezTo>
              </a:path>
              <a:path w="4515" h="1217">
                <a:moveTo>
                  <a:pt x="11162" y="7764"/>
                </a:moveTo>
                <a:cubicBezTo>
                  <a:pt x="11088" y="7892"/>
                  <a:pt x="11012" y="8014"/>
                  <a:pt x="10939" y="8136"/>
                </a:cubicBezTo>
                <a:cubicBezTo>
                  <a:pt x="10872" y="8248"/>
                  <a:pt x="10785" y="8335"/>
                  <a:pt x="10740" y="8458"/>
                </a:cubicBezTo>
                <a:cubicBezTo>
                  <a:pt x="10712" y="8535"/>
                  <a:pt x="10664" y="8591"/>
                  <a:pt x="10616" y="8657"/>
                </a:cubicBezTo>
                <a:cubicBezTo>
                  <a:pt x="10594" y="8679"/>
                  <a:pt x="10586" y="8684"/>
                  <a:pt x="10592" y="8706"/>
                </a:cubicBezTo>
              </a:path>
              <a:path w="4515" h="1217">
                <a:moveTo>
                  <a:pt x="11410" y="8285"/>
                </a:moveTo>
                <a:cubicBezTo>
                  <a:pt x="11592" y="8267"/>
                  <a:pt x="11608" y="8258"/>
                  <a:pt x="11708" y="8260"/>
                </a:cubicBezTo>
              </a:path>
              <a:path w="4515" h="1217">
                <a:moveTo>
                  <a:pt x="11956" y="7838"/>
                </a:moveTo>
                <a:cubicBezTo>
                  <a:pt x="12035" y="7788"/>
                  <a:pt x="12105" y="7728"/>
                  <a:pt x="12204" y="7739"/>
                </a:cubicBezTo>
                <a:cubicBezTo>
                  <a:pt x="12315" y="7751"/>
                  <a:pt x="12388" y="7784"/>
                  <a:pt x="12477" y="7838"/>
                </a:cubicBezTo>
                <a:cubicBezTo>
                  <a:pt x="12558" y="7887"/>
                  <a:pt x="12576" y="7948"/>
                  <a:pt x="12526" y="8037"/>
                </a:cubicBezTo>
                <a:cubicBezTo>
                  <a:pt x="12486" y="8109"/>
                  <a:pt x="12447" y="8187"/>
                  <a:pt x="12402" y="8260"/>
                </a:cubicBezTo>
                <a:cubicBezTo>
                  <a:pt x="12332" y="8372"/>
                  <a:pt x="12247" y="8471"/>
                  <a:pt x="12179" y="8582"/>
                </a:cubicBezTo>
                <a:cubicBezTo>
                  <a:pt x="12139" y="8647"/>
                  <a:pt x="12100" y="8683"/>
                  <a:pt x="12154" y="8756"/>
                </a:cubicBezTo>
                <a:cubicBezTo>
                  <a:pt x="12211" y="8835"/>
                  <a:pt x="12345" y="8806"/>
                  <a:pt x="12427" y="8806"/>
                </a:cubicBezTo>
                <a:cubicBezTo>
                  <a:pt x="12503" y="8806"/>
                  <a:pt x="12577" y="8776"/>
                  <a:pt x="12650" y="8756"/>
                </a:cubicBezTo>
              </a:path>
              <a:path w="4515" h="1217">
                <a:moveTo>
                  <a:pt x="13047" y="8235"/>
                </a:moveTo>
                <a:cubicBezTo>
                  <a:pt x="13152" y="8241"/>
                  <a:pt x="13290" y="8284"/>
                  <a:pt x="13395" y="8260"/>
                </a:cubicBezTo>
                <a:cubicBezTo>
                  <a:pt x="13411" y="8252"/>
                  <a:pt x="13428" y="8243"/>
                  <a:pt x="13444" y="8235"/>
                </a:cubicBezTo>
              </a:path>
              <a:path w="4515" h="1217">
                <a:moveTo>
                  <a:pt x="13146" y="8458"/>
                </a:moveTo>
                <a:cubicBezTo>
                  <a:pt x="13313" y="8479"/>
                  <a:pt x="13429" y="8489"/>
                  <a:pt x="13593" y="8458"/>
                </a:cubicBezTo>
              </a:path>
              <a:path w="4515" h="1217">
                <a:moveTo>
                  <a:pt x="13915" y="8260"/>
                </a:moveTo>
                <a:cubicBezTo>
                  <a:pt x="14064" y="8241"/>
                  <a:pt x="14080" y="8233"/>
                  <a:pt x="14163" y="8235"/>
                </a:cubicBezTo>
              </a:path>
              <a:path w="4515" h="1217">
                <a:moveTo>
                  <a:pt x="14908" y="7838"/>
                </a:moveTo>
                <a:cubicBezTo>
                  <a:pt x="14832" y="7712"/>
                  <a:pt x="14832" y="7697"/>
                  <a:pt x="14684" y="7689"/>
                </a:cubicBezTo>
                <a:cubicBezTo>
                  <a:pt x="14639" y="7686"/>
                  <a:pt x="14551" y="7710"/>
                  <a:pt x="14536" y="7764"/>
                </a:cubicBezTo>
                <a:cubicBezTo>
                  <a:pt x="14512" y="7850"/>
                  <a:pt x="14610" y="7956"/>
                  <a:pt x="14660" y="8012"/>
                </a:cubicBezTo>
                <a:cubicBezTo>
                  <a:pt x="14772" y="8137"/>
                  <a:pt x="14872" y="8264"/>
                  <a:pt x="14957" y="8409"/>
                </a:cubicBezTo>
                <a:cubicBezTo>
                  <a:pt x="15021" y="8519"/>
                  <a:pt x="15051" y="8633"/>
                  <a:pt x="15056" y="8756"/>
                </a:cubicBezTo>
                <a:cubicBezTo>
                  <a:pt x="15056" y="8815"/>
                  <a:pt x="15053" y="8841"/>
                  <a:pt x="15032" y="8880"/>
                </a:cubicBezTo>
                <a:cubicBezTo>
                  <a:pt x="14939" y="8936"/>
                  <a:pt x="14888" y="8864"/>
                  <a:pt x="14833" y="8781"/>
                </a:cubicBezTo>
                <a:cubicBezTo>
                  <a:pt x="14790" y="8716"/>
                  <a:pt x="14804" y="8647"/>
                  <a:pt x="14833" y="8582"/>
                </a:cubicBezTo>
                <a:cubicBezTo>
                  <a:pt x="14866" y="8508"/>
                  <a:pt x="14888" y="8400"/>
                  <a:pt x="14932" y="8334"/>
                </a:cubicBezTo>
                <a:cubicBezTo>
                  <a:pt x="14981" y="8261"/>
                  <a:pt x="15040" y="8218"/>
                  <a:pt x="15081" y="8136"/>
                </a:cubicBezTo>
                <a:cubicBezTo>
                  <a:pt x="15116" y="8066"/>
                  <a:pt x="15124" y="8026"/>
                  <a:pt x="15106" y="796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Ink 7"/>
          <p:cNvSpPr/>
          <p:nvPr/>
        </p:nvSpPr>
        <p:spPr>
          <a:xfrm>
            <a:off x="1357200" y="2687760"/>
            <a:ext cx="1741680" cy="1652400"/>
          </a:xfrm>
          <a:custGeom>
            <a:avLst/>
            <a:gdLst/>
            <a:ahLst/>
            <a:rect l="l" t="t" r="r" b="b"/>
            <a:pathLst>
              <a:path w="4838" h="4590">
                <a:moveTo>
                  <a:pt x="4440" y="9004"/>
                </a:moveTo>
                <a:cubicBezTo>
                  <a:pt x="4432" y="9091"/>
                  <a:pt x="4394" y="9187"/>
                  <a:pt x="4415" y="9277"/>
                </a:cubicBezTo>
                <a:cubicBezTo>
                  <a:pt x="4440" y="9385"/>
                  <a:pt x="4423" y="9487"/>
                  <a:pt x="4440" y="9599"/>
                </a:cubicBezTo>
                <a:cubicBezTo>
                  <a:pt x="4462" y="9664"/>
                  <a:pt x="4470" y="9679"/>
                  <a:pt x="4465" y="9723"/>
                </a:cubicBezTo>
              </a:path>
              <a:path w="4838" h="4590">
                <a:moveTo>
                  <a:pt x="4217" y="9327"/>
                </a:moveTo>
                <a:cubicBezTo>
                  <a:pt x="4333" y="9334"/>
                  <a:pt x="4422" y="9351"/>
                  <a:pt x="4539" y="9351"/>
                </a:cubicBezTo>
                <a:cubicBezTo>
                  <a:pt x="4589" y="9351"/>
                  <a:pt x="4605" y="9351"/>
                  <a:pt x="4638" y="9351"/>
                </a:cubicBezTo>
              </a:path>
              <a:path w="4838" h="4590">
                <a:moveTo>
                  <a:pt x="4837" y="9153"/>
                </a:moveTo>
                <a:cubicBezTo>
                  <a:pt x="4860" y="9083"/>
                  <a:pt x="4896" y="9083"/>
                  <a:pt x="4986" y="9079"/>
                </a:cubicBezTo>
                <a:cubicBezTo>
                  <a:pt x="5093" y="9074"/>
                  <a:pt x="5164" y="9088"/>
                  <a:pt x="5234" y="9178"/>
                </a:cubicBezTo>
                <a:cubicBezTo>
                  <a:pt x="5285" y="9243"/>
                  <a:pt x="5299" y="9347"/>
                  <a:pt x="5283" y="9426"/>
                </a:cubicBezTo>
                <a:cubicBezTo>
                  <a:pt x="5267" y="9505"/>
                  <a:pt x="5189" y="9570"/>
                  <a:pt x="5135" y="9624"/>
                </a:cubicBezTo>
                <a:cubicBezTo>
                  <a:pt x="5095" y="9665"/>
                  <a:pt x="5049" y="9699"/>
                  <a:pt x="4986" y="9674"/>
                </a:cubicBezTo>
                <a:cubicBezTo>
                  <a:pt x="4929" y="9652"/>
                  <a:pt x="4941" y="9596"/>
                  <a:pt x="4936" y="9550"/>
                </a:cubicBezTo>
                <a:cubicBezTo>
                  <a:pt x="5029" y="9529"/>
                  <a:pt x="5075" y="9533"/>
                  <a:pt x="5135" y="9599"/>
                </a:cubicBezTo>
                <a:cubicBezTo>
                  <a:pt x="5186" y="9656"/>
                  <a:pt x="5267" y="9657"/>
                  <a:pt x="5333" y="9674"/>
                </a:cubicBezTo>
                <a:cubicBezTo>
                  <a:pt x="5407" y="9699"/>
                  <a:pt x="5432" y="9707"/>
                  <a:pt x="5482" y="9723"/>
                </a:cubicBezTo>
              </a:path>
              <a:path w="4838" h="4590">
                <a:moveTo>
                  <a:pt x="6548" y="9054"/>
                </a:moveTo>
                <a:cubicBezTo>
                  <a:pt x="6548" y="9153"/>
                  <a:pt x="6561" y="9236"/>
                  <a:pt x="6573" y="9327"/>
                </a:cubicBezTo>
                <a:cubicBezTo>
                  <a:pt x="6584" y="9414"/>
                  <a:pt x="6572" y="9541"/>
                  <a:pt x="6598" y="9624"/>
                </a:cubicBezTo>
                <a:cubicBezTo>
                  <a:pt x="6626" y="9652"/>
                  <a:pt x="6635" y="9666"/>
                  <a:pt x="6623" y="9699"/>
                </a:cubicBezTo>
              </a:path>
              <a:path w="4838" h="4590">
                <a:moveTo>
                  <a:pt x="6276" y="9401"/>
                </a:moveTo>
                <a:cubicBezTo>
                  <a:pt x="6391" y="9434"/>
                  <a:pt x="6453" y="9451"/>
                  <a:pt x="6573" y="9451"/>
                </a:cubicBezTo>
                <a:cubicBezTo>
                  <a:pt x="6631" y="9451"/>
                  <a:pt x="6656" y="9451"/>
                  <a:pt x="6697" y="9451"/>
                </a:cubicBezTo>
              </a:path>
              <a:path w="4838" h="4590">
                <a:moveTo>
                  <a:pt x="6871" y="9153"/>
                </a:moveTo>
                <a:cubicBezTo>
                  <a:pt x="6920" y="9104"/>
                  <a:pt x="6945" y="9069"/>
                  <a:pt x="7020" y="9054"/>
                </a:cubicBezTo>
                <a:cubicBezTo>
                  <a:pt x="7096" y="9039"/>
                  <a:pt x="7162" y="9053"/>
                  <a:pt x="7218" y="9103"/>
                </a:cubicBezTo>
                <a:cubicBezTo>
                  <a:pt x="7247" y="9129"/>
                  <a:pt x="7264" y="9240"/>
                  <a:pt x="7243" y="9277"/>
                </a:cubicBezTo>
                <a:cubicBezTo>
                  <a:pt x="7200" y="9355"/>
                  <a:pt x="7164" y="9483"/>
                  <a:pt x="7094" y="9550"/>
                </a:cubicBezTo>
                <a:cubicBezTo>
                  <a:pt x="7049" y="9593"/>
                  <a:pt x="6974" y="9638"/>
                  <a:pt x="6945" y="9699"/>
                </a:cubicBezTo>
                <a:cubicBezTo>
                  <a:pt x="6925" y="9759"/>
                  <a:pt x="6907" y="9774"/>
                  <a:pt x="6945" y="9798"/>
                </a:cubicBezTo>
                <a:cubicBezTo>
                  <a:pt x="7027" y="9798"/>
                  <a:pt x="7116" y="9799"/>
                  <a:pt x="7193" y="9823"/>
                </a:cubicBezTo>
                <a:cubicBezTo>
                  <a:pt x="7284" y="9851"/>
                  <a:pt x="7368" y="9847"/>
                  <a:pt x="7466" y="9847"/>
                </a:cubicBezTo>
              </a:path>
              <a:path w="4838" h="4590">
                <a:moveTo>
                  <a:pt x="4638" y="10170"/>
                </a:moveTo>
                <a:cubicBezTo>
                  <a:pt x="4586" y="10287"/>
                  <a:pt x="4620" y="10293"/>
                  <a:pt x="4663" y="10418"/>
                </a:cubicBezTo>
                <a:cubicBezTo>
                  <a:pt x="4700" y="10523"/>
                  <a:pt x="4746" y="10651"/>
                  <a:pt x="4812" y="10740"/>
                </a:cubicBezTo>
                <a:cubicBezTo>
                  <a:pt x="4907" y="10868"/>
                  <a:pt x="5001" y="10934"/>
                  <a:pt x="5110" y="11038"/>
                </a:cubicBezTo>
                <a:cubicBezTo>
                  <a:pt x="5175" y="11101"/>
                  <a:pt x="5235" y="11107"/>
                  <a:pt x="5308" y="11063"/>
                </a:cubicBezTo>
              </a:path>
              <a:path w="4838" h="4590">
                <a:moveTo>
                  <a:pt x="4936" y="10418"/>
                </a:moveTo>
                <a:cubicBezTo>
                  <a:pt x="4843" y="10571"/>
                  <a:pt x="4763" y="10766"/>
                  <a:pt x="4663" y="10914"/>
                </a:cubicBezTo>
                <a:cubicBezTo>
                  <a:pt x="4620" y="10977"/>
                  <a:pt x="4580" y="11010"/>
                  <a:pt x="4564" y="11088"/>
                </a:cubicBezTo>
              </a:path>
              <a:path w="4838" h="4590">
                <a:moveTo>
                  <a:pt x="5209" y="10567"/>
                </a:moveTo>
                <a:cubicBezTo>
                  <a:pt x="5322" y="10548"/>
                  <a:pt x="5417" y="10542"/>
                  <a:pt x="5531" y="10542"/>
                </a:cubicBezTo>
                <a:cubicBezTo>
                  <a:pt x="5597" y="10542"/>
                  <a:pt x="5614" y="10542"/>
                  <a:pt x="5655" y="10542"/>
                </a:cubicBezTo>
              </a:path>
              <a:path w="4838" h="4590">
                <a:moveTo>
                  <a:pt x="5457" y="10765"/>
                </a:moveTo>
                <a:cubicBezTo>
                  <a:pt x="5507" y="10790"/>
                  <a:pt x="5617" y="10814"/>
                  <a:pt x="5680" y="10790"/>
                </a:cubicBezTo>
                <a:cubicBezTo>
                  <a:pt x="5730" y="10765"/>
                  <a:pt x="5779" y="10741"/>
                  <a:pt x="5829" y="10716"/>
                </a:cubicBezTo>
              </a:path>
              <a:path w="4838" h="4590">
                <a:moveTo>
                  <a:pt x="5358" y="7466"/>
                </a:moveTo>
                <a:cubicBezTo>
                  <a:pt x="5329" y="7597"/>
                  <a:pt x="5323" y="7736"/>
                  <a:pt x="5283" y="7863"/>
                </a:cubicBezTo>
                <a:cubicBezTo>
                  <a:pt x="5232" y="8025"/>
                  <a:pt x="5190" y="8165"/>
                  <a:pt x="5159" y="8334"/>
                </a:cubicBezTo>
                <a:cubicBezTo>
                  <a:pt x="5112" y="8588"/>
                  <a:pt x="5092" y="8834"/>
                  <a:pt x="5011" y="9079"/>
                </a:cubicBezTo>
                <a:cubicBezTo>
                  <a:pt x="4968" y="9208"/>
                  <a:pt x="4908" y="9339"/>
                  <a:pt x="4887" y="9475"/>
                </a:cubicBezTo>
                <a:cubicBezTo>
                  <a:pt x="4887" y="9534"/>
                  <a:pt x="4884" y="9560"/>
                  <a:pt x="4862" y="9599"/>
                </a:cubicBezTo>
              </a:path>
              <a:path w="4838" h="4590">
                <a:moveTo>
                  <a:pt x="6276" y="10567"/>
                </a:moveTo>
                <a:cubicBezTo>
                  <a:pt x="6252" y="10694"/>
                  <a:pt x="6251" y="10809"/>
                  <a:pt x="6251" y="10939"/>
                </a:cubicBezTo>
                <a:cubicBezTo>
                  <a:pt x="6251" y="11062"/>
                  <a:pt x="6234" y="11164"/>
                  <a:pt x="6251" y="11286"/>
                </a:cubicBezTo>
                <a:cubicBezTo>
                  <a:pt x="6259" y="11345"/>
                  <a:pt x="6236" y="11359"/>
                  <a:pt x="6276" y="11385"/>
                </a:cubicBezTo>
              </a:path>
              <a:path w="4838" h="4590">
                <a:moveTo>
                  <a:pt x="6623" y="10567"/>
                </a:moveTo>
                <a:cubicBezTo>
                  <a:pt x="6586" y="10654"/>
                  <a:pt x="6558" y="10728"/>
                  <a:pt x="6524" y="10815"/>
                </a:cubicBezTo>
                <a:cubicBezTo>
                  <a:pt x="6488" y="10908"/>
                  <a:pt x="6490" y="10994"/>
                  <a:pt x="6524" y="11088"/>
                </a:cubicBezTo>
                <a:cubicBezTo>
                  <a:pt x="6544" y="11142"/>
                  <a:pt x="6602" y="11256"/>
                  <a:pt x="6648" y="11286"/>
                </a:cubicBezTo>
                <a:cubicBezTo>
                  <a:pt x="6711" y="11327"/>
                  <a:pt x="6906" y="11347"/>
                  <a:pt x="6970" y="11336"/>
                </a:cubicBezTo>
                <a:cubicBezTo>
                  <a:pt x="7021" y="11328"/>
                  <a:pt x="7095" y="11253"/>
                  <a:pt x="7119" y="11212"/>
                </a:cubicBezTo>
                <a:cubicBezTo>
                  <a:pt x="7163" y="11137"/>
                  <a:pt x="7189" y="11052"/>
                  <a:pt x="7169" y="10964"/>
                </a:cubicBezTo>
                <a:cubicBezTo>
                  <a:pt x="7148" y="10871"/>
                  <a:pt x="7084" y="10794"/>
                  <a:pt x="7045" y="10716"/>
                </a:cubicBezTo>
                <a:cubicBezTo>
                  <a:pt x="6991" y="10607"/>
                  <a:pt x="6943" y="10620"/>
                  <a:pt x="6871" y="10542"/>
                </a:cubicBezTo>
                <a:cubicBezTo>
                  <a:pt x="6846" y="10492"/>
                  <a:pt x="6838" y="10476"/>
                  <a:pt x="6796" y="10468"/>
                </a:cubicBezTo>
              </a:path>
              <a:path w="4838" h="4590">
                <a:moveTo>
                  <a:pt x="8607" y="10492"/>
                </a:moveTo>
                <a:cubicBezTo>
                  <a:pt x="8379" y="10420"/>
                  <a:pt x="8164" y="10317"/>
                  <a:pt x="7938" y="10244"/>
                </a:cubicBezTo>
                <a:cubicBezTo>
                  <a:pt x="7632" y="10145"/>
                  <a:pt x="7332" y="10049"/>
                  <a:pt x="7020" y="9971"/>
                </a:cubicBezTo>
                <a:cubicBezTo>
                  <a:pt x="6739" y="9901"/>
                  <a:pt x="6487" y="9848"/>
                  <a:pt x="6201" y="9823"/>
                </a:cubicBezTo>
                <a:cubicBezTo>
                  <a:pt x="5909" y="9797"/>
                  <a:pt x="5625" y="9800"/>
                  <a:pt x="5333" y="9823"/>
                </a:cubicBezTo>
                <a:cubicBezTo>
                  <a:pt x="4949" y="9854"/>
                  <a:pt x="4622" y="9985"/>
                  <a:pt x="4291" y="10170"/>
                </a:cubicBezTo>
                <a:cubicBezTo>
                  <a:pt x="4047" y="10306"/>
                  <a:pt x="3883" y="10478"/>
                  <a:pt x="3795" y="10740"/>
                </a:cubicBezTo>
                <a:cubicBezTo>
                  <a:pt x="3751" y="10871"/>
                  <a:pt x="3778" y="11069"/>
                  <a:pt x="3845" y="11187"/>
                </a:cubicBezTo>
                <a:cubicBezTo>
                  <a:pt x="3933" y="11342"/>
                  <a:pt x="4082" y="11482"/>
                  <a:pt x="4242" y="11559"/>
                </a:cubicBezTo>
                <a:cubicBezTo>
                  <a:pt x="4553" y="11709"/>
                  <a:pt x="4867" y="11829"/>
                  <a:pt x="5209" y="11881"/>
                </a:cubicBezTo>
                <a:cubicBezTo>
                  <a:pt x="5618" y="11943"/>
                  <a:pt x="6009" y="12025"/>
                  <a:pt x="6424" y="12030"/>
                </a:cubicBezTo>
                <a:cubicBezTo>
                  <a:pt x="6752" y="12034"/>
                  <a:pt x="7066" y="12065"/>
                  <a:pt x="7392" y="12005"/>
                </a:cubicBezTo>
                <a:cubicBezTo>
                  <a:pt x="7650" y="11958"/>
                  <a:pt x="7895" y="11853"/>
                  <a:pt x="8111" y="11708"/>
                </a:cubicBezTo>
                <a:cubicBezTo>
                  <a:pt x="8320" y="11568"/>
                  <a:pt x="8347" y="11433"/>
                  <a:pt x="8359" y="11187"/>
                </a:cubicBezTo>
                <a:cubicBezTo>
                  <a:pt x="8371" y="10939"/>
                  <a:pt x="8154" y="10715"/>
                  <a:pt x="7987" y="10567"/>
                </a:cubicBezTo>
                <a:cubicBezTo>
                  <a:pt x="7686" y="10300"/>
                  <a:pt x="7390" y="10129"/>
                  <a:pt x="7020" y="9971"/>
                </a:cubicBezTo>
                <a:cubicBezTo>
                  <a:pt x="6937" y="9938"/>
                  <a:pt x="6855" y="9905"/>
                  <a:pt x="6772" y="987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Ink 8"/>
          <p:cNvSpPr/>
          <p:nvPr/>
        </p:nvSpPr>
        <p:spPr>
          <a:xfrm>
            <a:off x="4000680" y="3714840"/>
            <a:ext cx="1455480" cy="777960"/>
          </a:xfrm>
          <a:custGeom>
            <a:avLst/>
            <a:gdLst/>
            <a:ahLst/>
            <a:rect l="l" t="t" r="r" b="b"/>
            <a:pathLst>
              <a:path w="4045" h="2159">
                <a:moveTo>
                  <a:pt x="12030" y="10840"/>
                </a:moveTo>
                <a:cubicBezTo>
                  <a:pt x="12065" y="11105"/>
                  <a:pt x="12088" y="11251"/>
                  <a:pt x="12254" y="11460"/>
                </a:cubicBezTo>
                <a:cubicBezTo>
                  <a:pt x="12346" y="11576"/>
                  <a:pt x="12465" y="11674"/>
                  <a:pt x="12601" y="11733"/>
                </a:cubicBezTo>
                <a:cubicBezTo>
                  <a:pt x="12666" y="11754"/>
                  <a:pt x="12682" y="11762"/>
                  <a:pt x="12725" y="11757"/>
                </a:cubicBezTo>
              </a:path>
              <a:path w="4045" h="2159">
                <a:moveTo>
                  <a:pt x="12402" y="10889"/>
                </a:moveTo>
                <a:cubicBezTo>
                  <a:pt x="12285" y="11041"/>
                  <a:pt x="12159" y="11199"/>
                  <a:pt x="12055" y="11361"/>
                </a:cubicBezTo>
                <a:cubicBezTo>
                  <a:pt x="11958" y="11511"/>
                  <a:pt x="11868" y="11646"/>
                  <a:pt x="11782" y="11807"/>
                </a:cubicBezTo>
                <a:cubicBezTo>
                  <a:pt x="11730" y="11904"/>
                  <a:pt x="11781" y="11868"/>
                  <a:pt x="11832" y="11832"/>
                </a:cubicBezTo>
              </a:path>
              <a:path w="4045" h="2159">
                <a:moveTo>
                  <a:pt x="12601" y="11286"/>
                </a:moveTo>
                <a:cubicBezTo>
                  <a:pt x="12708" y="11286"/>
                  <a:pt x="12816" y="11286"/>
                  <a:pt x="12923" y="11286"/>
                </a:cubicBezTo>
              </a:path>
              <a:path w="4045" h="2159">
                <a:moveTo>
                  <a:pt x="12650" y="11509"/>
                </a:moveTo>
                <a:cubicBezTo>
                  <a:pt x="12790" y="11530"/>
                  <a:pt x="12865" y="11542"/>
                  <a:pt x="12998" y="11509"/>
                </a:cubicBezTo>
              </a:path>
              <a:path w="4045" h="2159">
                <a:moveTo>
                  <a:pt x="13519" y="11237"/>
                </a:moveTo>
                <a:cubicBezTo>
                  <a:pt x="13656" y="11237"/>
                  <a:pt x="13782" y="11237"/>
                  <a:pt x="13915" y="11212"/>
                </a:cubicBezTo>
              </a:path>
              <a:path w="4045" h="2159">
                <a:moveTo>
                  <a:pt x="14188" y="11013"/>
                </a:moveTo>
                <a:cubicBezTo>
                  <a:pt x="14179" y="11084"/>
                  <a:pt x="14155" y="11144"/>
                  <a:pt x="14139" y="11212"/>
                </a:cubicBezTo>
                <a:cubicBezTo>
                  <a:pt x="14113" y="11320"/>
                  <a:pt x="14058" y="11418"/>
                  <a:pt x="14064" y="11534"/>
                </a:cubicBezTo>
                <a:cubicBezTo>
                  <a:pt x="14068" y="11611"/>
                  <a:pt x="14131" y="11752"/>
                  <a:pt x="14188" y="11807"/>
                </a:cubicBezTo>
                <a:cubicBezTo>
                  <a:pt x="14279" y="11893"/>
                  <a:pt x="14370" y="11918"/>
                  <a:pt x="14486" y="11956"/>
                </a:cubicBezTo>
                <a:cubicBezTo>
                  <a:pt x="14618" y="11999"/>
                  <a:pt x="14660" y="11947"/>
                  <a:pt x="14759" y="11881"/>
                </a:cubicBezTo>
                <a:cubicBezTo>
                  <a:pt x="14816" y="11843"/>
                  <a:pt x="14888" y="11782"/>
                  <a:pt x="14833" y="11708"/>
                </a:cubicBezTo>
                <a:cubicBezTo>
                  <a:pt x="14757" y="11605"/>
                  <a:pt x="14741" y="11539"/>
                  <a:pt x="14610" y="11534"/>
                </a:cubicBezTo>
                <a:cubicBezTo>
                  <a:pt x="14507" y="11530"/>
                  <a:pt x="14411" y="11526"/>
                  <a:pt x="14337" y="11609"/>
                </a:cubicBezTo>
                <a:cubicBezTo>
                  <a:pt x="14287" y="11665"/>
                  <a:pt x="14313" y="11783"/>
                  <a:pt x="14362" y="11832"/>
                </a:cubicBezTo>
                <a:cubicBezTo>
                  <a:pt x="14406" y="11876"/>
                  <a:pt x="14511" y="11857"/>
                  <a:pt x="14560" y="11857"/>
                </a:cubicBezTo>
              </a:path>
              <a:path w="4045" h="2159">
                <a:moveTo>
                  <a:pt x="15056" y="11435"/>
                </a:moveTo>
                <a:cubicBezTo>
                  <a:pt x="14992" y="11300"/>
                  <a:pt x="14917" y="11147"/>
                  <a:pt x="14808" y="11038"/>
                </a:cubicBezTo>
                <a:cubicBezTo>
                  <a:pt x="14667" y="10898"/>
                  <a:pt x="14465" y="10778"/>
                  <a:pt x="14288" y="10691"/>
                </a:cubicBezTo>
                <a:cubicBezTo>
                  <a:pt x="13979" y="10539"/>
                  <a:pt x="13659" y="10421"/>
                  <a:pt x="13320" y="10368"/>
                </a:cubicBezTo>
                <a:cubicBezTo>
                  <a:pt x="12860" y="10295"/>
                  <a:pt x="12414" y="10335"/>
                  <a:pt x="11956" y="10393"/>
                </a:cubicBezTo>
                <a:cubicBezTo>
                  <a:pt x="11742" y="10420"/>
                  <a:pt x="11470" y="10504"/>
                  <a:pt x="11311" y="10666"/>
                </a:cubicBezTo>
                <a:cubicBezTo>
                  <a:pt x="11135" y="10845"/>
                  <a:pt x="11093" y="10959"/>
                  <a:pt x="11137" y="11187"/>
                </a:cubicBezTo>
                <a:cubicBezTo>
                  <a:pt x="11171" y="11365"/>
                  <a:pt x="11334" y="11532"/>
                  <a:pt x="11485" y="11633"/>
                </a:cubicBezTo>
                <a:cubicBezTo>
                  <a:pt x="11689" y="11770"/>
                  <a:pt x="11916" y="11927"/>
                  <a:pt x="12154" y="12005"/>
                </a:cubicBezTo>
                <a:cubicBezTo>
                  <a:pt x="12449" y="12102"/>
                  <a:pt x="12743" y="12205"/>
                  <a:pt x="13047" y="12278"/>
                </a:cubicBezTo>
                <a:cubicBezTo>
                  <a:pt x="13495" y="12386"/>
                  <a:pt x="13993" y="12505"/>
                  <a:pt x="14461" y="12477"/>
                </a:cubicBezTo>
                <a:cubicBezTo>
                  <a:pt x="14650" y="12466"/>
                  <a:pt x="14875" y="12431"/>
                  <a:pt x="15007" y="12278"/>
                </a:cubicBezTo>
                <a:cubicBezTo>
                  <a:pt x="15139" y="12124"/>
                  <a:pt x="15152" y="11949"/>
                  <a:pt x="15156" y="11757"/>
                </a:cubicBezTo>
                <a:cubicBezTo>
                  <a:pt x="15160" y="11564"/>
                  <a:pt x="15134" y="11354"/>
                  <a:pt x="15032" y="11187"/>
                </a:cubicBezTo>
                <a:cubicBezTo>
                  <a:pt x="14885" y="10945"/>
                  <a:pt x="14713" y="10756"/>
                  <a:pt x="14486" y="10592"/>
                </a:cubicBezTo>
                <a:cubicBezTo>
                  <a:pt x="14341" y="10494"/>
                  <a:pt x="14295" y="10463"/>
                  <a:pt x="14188" y="1041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Ink 9"/>
          <p:cNvSpPr/>
          <p:nvPr/>
        </p:nvSpPr>
        <p:spPr>
          <a:xfrm>
            <a:off x="3929040" y="3384720"/>
            <a:ext cx="519120" cy="231480"/>
          </a:xfrm>
          <a:custGeom>
            <a:avLst/>
            <a:gdLst/>
            <a:ahLst/>
            <a:rect l="l" t="t" r="r" b="b"/>
            <a:pathLst>
              <a:path w="1440" h="646">
                <a:moveTo>
                  <a:pt x="11187" y="9525"/>
                </a:moveTo>
                <a:cubicBezTo>
                  <a:pt x="11164" y="9656"/>
                  <a:pt x="11172" y="9704"/>
                  <a:pt x="11187" y="9823"/>
                </a:cubicBezTo>
                <a:cubicBezTo>
                  <a:pt x="11194" y="9880"/>
                  <a:pt x="11201" y="9917"/>
                  <a:pt x="11212" y="9971"/>
                </a:cubicBezTo>
              </a:path>
              <a:path w="1440" h="646">
                <a:moveTo>
                  <a:pt x="10914" y="9723"/>
                </a:moveTo>
                <a:cubicBezTo>
                  <a:pt x="11009" y="9749"/>
                  <a:pt x="11087" y="9748"/>
                  <a:pt x="11187" y="9748"/>
                </a:cubicBezTo>
                <a:cubicBezTo>
                  <a:pt x="11263" y="9748"/>
                  <a:pt x="11289" y="9747"/>
                  <a:pt x="11336" y="9723"/>
                </a:cubicBezTo>
              </a:path>
              <a:path w="1440" h="646">
                <a:moveTo>
                  <a:pt x="11633" y="9426"/>
                </a:moveTo>
                <a:cubicBezTo>
                  <a:pt x="11841" y="9395"/>
                  <a:pt x="11776" y="9408"/>
                  <a:pt x="11931" y="9475"/>
                </a:cubicBezTo>
                <a:cubicBezTo>
                  <a:pt x="12039" y="9522"/>
                  <a:pt x="12074" y="9579"/>
                  <a:pt x="12080" y="9699"/>
                </a:cubicBezTo>
                <a:cubicBezTo>
                  <a:pt x="12084" y="9780"/>
                  <a:pt x="12082" y="9855"/>
                  <a:pt x="12030" y="9922"/>
                </a:cubicBezTo>
                <a:cubicBezTo>
                  <a:pt x="11979" y="9988"/>
                  <a:pt x="11946" y="10069"/>
                  <a:pt x="11857" y="10021"/>
                </a:cubicBezTo>
                <a:cubicBezTo>
                  <a:pt x="11829" y="9993"/>
                  <a:pt x="11820" y="9980"/>
                  <a:pt x="11832" y="9947"/>
                </a:cubicBezTo>
                <a:cubicBezTo>
                  <a:pt x="11915" y="9877"/>
                  <a:pt x="12009" y="9953"/>
                  <a:pt x="12129" y="9996"/>
                </a:cubicBezTo>
                <a:cubicBezTo>
                  <a:pt x="12212" y="10026"/>
                  <a:pt x="12263" y="10021"/>
                  <a:pt x="12353" y="1002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Ink 10"/>
          <p:cNvSpPr/>
          <p:nvPr/>
        </p:nvSpPr>
        <p:spPr>
          <a:xfrm>
            <a:off x="4946760" y="3357720"/>
            <a:ext cx="571320" cy="339480"/>
          </a:xfrm>
          <a:custGeom>
            <a:avLst/>
            <a:gdLst/>
            <a:ahLst/>
            <a:rect l="l" t="t" r="r" b="b"/>
            <a:pathLst>
              <a:path w="1588" h="943">
                <a:moveTo>
                  <a:pt x="13940" y="9674"/>
                </a:moveTo>
                <a:cubicBezTo>
                  <a:pt x="13940" y="9820"/>
                  <a:pt x="13919" y="9942"/>
                  <a:pt x="13990" y="10071"/>
                </a:cubicBezTo>
                <a:cubicBezTo>
                  <a:pt x="14018" y="10099"/>
                  <a:pt x="14027" y="10112"/>
                  <a:pt x="14015" y="10145"/>
                </a:cubicBezTo>
              </a:path>
              <a:path w="1588" h="943">
                <a:moveTo>
                  <a:pt x="13742" y="9847"/>
                </a:moveTo>
                <a:cubicBezTo>
                  <a:pt x="13868" y="9865"/>
                  <a:pt x="14010" y="9892"/>
                  <a:pt x="14139" y="9872"/>
                </a:cubicBezTo>
                <a:cubicBezTo>
                  <a:pt x="14172" y="9864"/>
                  <a:pt x="14205" y="9855"/>
                  <a:pt x="14238" y="9847"/>
                </a:cubicBezTo>
              </a:path>
              <a:path w="1588" h="943">
                <a:moveTo>
                  <a:pt x="14585" y="9401"/>
                </a:moveTo>
                <a:cubicBezTo>
                  <a:pt x="14702" y="9357"/>
                  <a:pt x="14811" y="9283"/>
                  <a:pt x="14932" y="9351"/>
                </a:cubicBezTo>
                <a:cubicBezTo>
                  <a:pt x="15041" y="9412"/>
                  <a:pt x="15068" y="9446"/>
                  <a:pt x="15056" y="9550"/>
                </a:cubicBezTo>
                <a:cubicBezTo>
                  <a:pt x="15044" y="9654"/>
                  <a:pt x="14983" y="9685"/>
                  <a:pt x="14908" y="9748"/>
                </a:cubicBezTo>
                <a:cubicBezTo>
                  <a:pt x="14795" y="9843"/>
                  <a:pt x="14676" y="9897"/>
                  <a:pt x="14734" y="10046"/>
                </a:cubicBezTo>
                <a:cubicBezTo>
                  <a:pt x="14760" y="10112"/>
                  <a:pt x="14900" y="10168"/>
                  <a:pt x="14957" y="10195"/>
                </a:cubicBezTo>
                <a:cubicBezTo>
                  <a:pt x="15060" y="10245"/>
                  <a:pt x="15165" y="10263"/>
                  <a:pt x="15280" y="10269"/>
                </a:cubicBezTo>
                <a:cubicBezTo>
                  <a:pt x="15296" y="10269"/>
                  <a:pt x="15313" y="10269"/>
                  <a:pt x="15329" y="1026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2.  │x + 1│ - 5 = 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Ink 4"/>
          <p:cNvSpPr/>
          <p:nvPr/>
        </p:nvSpPr>
        <p:spPr>
          <a:xfrm>
            <a:off x="3983040" y="2419200"/>
            <a:ext cx="581040" cy="385920"/>
          </a:xfrm>
          <a:custGeom>
            <a:avLst/>
            <a:gdLst/>
            <a:ahLst/>
            <a:rect l="l" t="t" r="r" b="b"/>
            <a:pathLst>
              <a:path w="1613" h="1068">
                <a:moveTo>
                  <a:pt x="11361" y="6747"/>
                </a:moveTo>
                <a:cubicBezTo>
                  <a:pt x="11397" y="6857"/>
                  <a:pt x="11410" y="6929"/>
                  <a:pt x="11410" y="7045"/>
                </a:cubicBezTo>
                <a:cubicBezTo>
                  <a:pt x="11410" y="7269"/>
                  <a:pt x="11399" y="7500"/>
                  <a:pt x="11435" y="7714"/>
                </a:cubicBezTo>
                <a:cubicBezTo>
                  <a:pt x="11435" y="7731"/>
                  <a:pt x="11435" y="7747"/>
                  <a:pt x="11435" y="7764"/>
                </a:cubicBezTo>
              </a:path>
              <a:path w="1613" h="1068">
                <a:moveTo>
                  <a:pt x="11063" y="7243"/>
                </a:moveTo>
                <a:cubicBezTo>
                  <a:pt x="11173" y="7271"/>
                  <a:pt x="11270" y="7268"/>
                  <a:pt x="11385" y="7268"/>
                </a:cubicBezTo>
                <a:cubicBezTo>
                  <a:pt x="11484" y="7268"/>
                  <a:pt x="11584" y="7268"/>
                  <a:pt x="11683" y="7268"/>
                </a:cubicBezTo>
              </a:path>
              <a:path w="1613" h="1068">
                <a:moveTo>
                  <a:pt x="12055" y="6772"/>
                </a:moveTo>
                <a:cubicBezTo>
                  <a:pt x="12177" y="6741"/>
                  <a:pt x="12300" y="6727"/>
                  <a:pt x="12427" y="6722"/>
                </a:cubicBezTo>
                <a:cubicBezTo>
                  <a:pt x="12493" y="6720"/>
                  <a:pt x="12560" y="6722"/>
                  <a:pt x="12626" y="6722"/>
                </a:cubicBezTo>
              </a:path>
              <a:path w="1613" h="1068">
                <a:moveTo>
                  <a:pt x="12229" y="6722"/>
                </a:moveTo>
                <a:cubicBezTo>
                  <a:pt x="12101" y="6795"/>
                  <a:pt x="12091" y="6818"/>
                  <a:pt x="12030" y="6945"/>
                </a:cubicBezTo>
                <a:cubicBezTo>
                  <a:pt x="12008" y="6991"/>
                  <a:pt x="11948" y="7095"/>
                  <a:pt x="11956" y="7144"/>
                </a:cubicBezTo>
                <a:cubicBezTo>
                  <a:pt x="11986" y="7174"/>
                  <a:pt x="11997" y="7188"/>
                  <a:pt x="12005" y="7218"/>
                </a:cubicBezTo>
                <a:cubicBezTo>
                  <a:pt x="12073" y="7179"/>
                  <a:pt x="12131" y="7150"/>
                  <a:pt x="12204" y="7119"/>
                </a:cubicBezTo>
                <a:cubicBezTo>
                  <a:pt x="12273" y="7089"/>
                  <a:pt x="12366" y="7069"/>
                  <a:pt x="12427" y="7119"/>
                </a:cubicBezTo>
                <a:cubicBezTo>
                  <a:pt x="12559" y="7227"/>
                  <a:pt x="12582" y="7280"/>
                  <a:pt x="12650" y="7441"/>
                </a:cubicBezTo>
                <a:cubicBezTo>
                  <a:pt x="12689" y="7535"/>
                  <a:pt x="12670" y="7578"/>
                  <a:pt x="12626" y="7665"/>
                </a:cubicBezTo>
                <a:cubicBezTo>
                  <a:pt x="12591" y="7735"/>
                  <a:pt x="12479" y="7784"/>
                  <a:pt x="12402" y="7789"/>
                </a:cubicBezTo>
                <a:cubicBezTo>
                  <a:pt x="12295" y="7796"/>
                  <a:pt x="12203" y="7780"/>
                  <a:pt x="12105" y="7764"/>
                </a:cubicBezTo>
                <a:cubicBezTo>
                  <a:pt x="12029" y="7752"/>
                  <a:pt x="12041" y="7766"/>
                  <a:pt x="12030" y="768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Ink 5"/>
          <p:cNvSpPr/>
          <p:nvPr/>
        </p:nvSpPr>
        <p:spPr>
          <a:xfrm>
            <a:off x="5072040" y="2428920"/>
            <a:ext cx="635040" cy="384120"/>
          </a:xfrm>
          <a:custGeom>
            <a:avLst/>
            <a:gdLst/>
            <a:ahLst/>
            <a:rect l="l" t="t" r="r" b="b"/>
            <a:pathLst>
              <a:path w="1762" h="1067">
                <a:moveTo>
                  <a:pt x="14511" y="7020"/>
                </a:moveTo>
                <a:cubicBezTo>
                  <a:pt x="14492" y="7134"/>
                  <a:pt x="14465" y="7252"/>
                  <a:pt x="14461" y="7367"/>
                </a:cubicBezTo>
                <a:cubicBezTo>
                  <a:pt x="14458" y="7468"/>
                  <a:pt x="14491" y="7546"/>
                  <a:pt x="14511" y="7640"/>
                </a:cubicBezTo>
                <a:cubicBezTo>
                  <a:pt x="14511" y="7648"/>
                  <a:pt x="14511" y="7657"/>
                  <a:pt x="14511" y="7665"/>
                </a:cubicBezTo>
              </a:path>
              <a:path w="1762" h="1067">
                <a:moveTo>
                  <a:pt x="14089" y="7243"/>
                </a:moveTo>
                <a:cubicBezTo>
                  <a:pt x="14377" y="7243"/>
                  <a:pt x="14651" y="7254"/>
                  <a:pt x="14932" y="7193"/>
                </a:cubicBezTo>
              </a:path>
              <a:path w="1762" h="1067">
                <a:moveTo>
                  <a:pt x="15304" y="6821"/>
                </a:moveTo>
                <a:cubicBezTo>
                  <a:pt x="15480" y="6821"/>
                  <a:pt x="15682" y="6839"/>
                  <a:pt x="15850" y="6796"/>
                </a:cubicBezTo>
              </a:path>
              <a:path w="1762" h="1067">
                <a:moveTo>
                  <a:pt x="15230" y="6747"/>
                </a:moveTo>
                <a:cubicBezTo>
                  <a:pt x="15134" y="6875"/>
                  <a:pt x="15065" y="6916"/>
                  <a:pt x="15131" y="7069"/>
                </a:cubicBezTo>
                <a:cubicBezTo>
                  <a:pt x="15150" y="7113"/>
                  <a:pt x="15210" y="7152"/>
                  <a:pt x="15255" y="7144"/>
                </a:cubicBezTo>
                <a:cubicBezTo>
                  <a:pt x="15367" y="7123"/>
                  <a:pt x="15410" y="7111"/>
                  <a:pt x="15528" y="7144"/>
                </a:cubicBezTo>
                <a:cubicBezTo>
                  <a:pt x="15667" y="7183"/>
                  <a:pt x="15781" y="7332"/>
                  <a:pt x="15825" y="7466"/>
                </a:cubicBezTo>
                <a:cubicBezTo>
                  <a:pt x="15853" y="7550"/>
                  <a:pt x="15834" y="7689"/>
                  <a:pt x="15751" y="7739"/>
                </a:cubicBezTo>
                <a:cubicBezTo>
                  <a:pt x="15664" y="7791"/>
                  <a:pt x="15551" y="7810"/>
                  <a:pt x="15453" y="7813"/>
                </a:cubicBezTo>
                <a:cubicBezTo>
                  <a:pt x="15323" y="7816"/>
                  <a:pt x="15209" y="7787"/>
                  <a:pt x="15081" y="776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Ink 6"/>
          <p:cNvSpPr/>
          <p:nvPr/>
        </p:nvSpPr>
        <p:spPr>
          <a:xfrm>
            <a:off x="2187720" y="2911320"/>
            <a:ext cx="1662120" cy="839880"/>
          </a:xfrm>
          <a:custGeom>
            <a:avLst/>
            <a:gdLst/>
            <a:ahLst/>
            <a:rect l="l" t="t" r="r" b="b"/>
            <a:pathLst>
              <a:path w="4615" h="2333">
                <a:moveTo>
                  <a:pt x="6251" y="8086"/>
                </a:moveTo>
                <a:cubicBezTo>
                  <a:pt x="6229" y="8254"/>
                  <a:pt x="6226" y="8412"/>
                  <a:pt x="6226" y="8582"/>
                </a:cubicBezTo>
                <a:cubicBezTo>
                  <a:pt x="6226" y="8902"/>
                  <a:pt x="6253" y="9235"/>
                  <a:pt x="6201" y="9550"/>
                </a:cubicBezTo>
                <a:cubicBezTo>
                  <a:pt x="6179" y="9685"/>
                  <a:pt x="6157" y="9840"/>
                  <a:pt x="6127" y="9971"/>
                </a:cubicBezTo>
                <a:cubicBezTo>
                  <a:pt x="6113" y="10033"/>
                  <a:pt x="6102" y="10056"/>
                  <a:pt x="6102" y="10120"/>
                </a:cubicBezTo>
              </a:path>
              <a:path w="4615" h="2333">
                <a:moveTo>
                  <a:pt x="6598" y="9178"/>
                </a:moveTo>
                <a:cubicBezTo>
                  <a:pt x="6688" y="9408"/>
                  <a:pt x="6740" y="9605"/>
                  <a:pt x="6921" y="9773"/>
                </a:cubicBezTo>
                <a:cubicBezTo>
                  <a:pt x="6994" y="9841"/>
                  <a:pt x="7084" y="9922"/>
                  <a:pt x="7169" y="9971"/>
                </a:cubicBezTo>
                <a:cubicBezTo>
                  <a:pt x="7217" y="9995"/>
                  <a:pt x="7231" y="10004"/>
                  <a:pt x="7268" y="9996"/>
                </a:cubicBezTo>
              </a:path>
              <a:path w="4615" h="2333">
                <a:moveTo>
                  <a:pt x="6970" y="9178"/>
                </a:moveTo>
                <a:cubicBezTo>
                  <a:pt x="6839" y="9268"/>
                  <a:pt x="6792" y="9348"/>
                  <a:pt x="6697" y="9475"/>
                </a:cubicBezTo>
                <a:cubicBezTo>
                  <a:pt x="6632" y="9562"/>
                  <a:pt x="6593" y="9699"/>
                  <a:pt x="6524" y="9773"/>
                </a:cubicBezTo>
                <a:cubicBezTo>
                  <a:pt x="6474" y="9826"/>
                  <a:pt x="6456" y="9800"/>
                  <a:pt x="6499" y="9872"/>
                </a:cubicBezTo>
              </a:path>
              <a:path w="4615" h="2333">
                <a:moveTo>
                  <a:pt x="7441" y="9178"/>
                </a:moveTo>
                <a:cubicBezTo>
                  <a:pt x="7441" y="9332"/>
                  <a:pt x="7421" y="9500"/>
                  <a:pt x="7466" y="9649"/>
                </a:cubicBezTo>
                <a:cubicBezTo>
                  <a:pt x="7483" y="9707"/>
                  <a:pt x="7516" y="9786"/>
                  <a:pt x="7491" y="9798"/>
                </a:cubicBezTo>
              </a:path>
              <a:path w="4615" h="2333">
                <a:moveTo>
                  <a:pt x="7169" y="9451"/>
                </a:moveTo>
                <a:cubicBezTo>
                  <a:pt x="7329" y="9490"/>
                  <a:pt x="7476" y="9500"/>
                  <a:pt x="7640" y="9500"/>
                </a:cubicBezTo>
                <a:cubicBezTo>
                  <a:pt x="7673" y="9500"/>
                  <a:pt x="7706" y="9500"/>
                  <a:pt x="7739" y="9500"/>
                </a:cubicBezTo>
              </a:path>
              <a:path w="4615" h="2333">
                <a:moveTo>
                  <a:pt x="8285" y="8979"/>
                </a:moveTo>
                <a:cubicBezTo>
                  <a:pt x="8264" y="9129"/>
                  <a:pt x="8258" y="9279"/>
                  <a:pt x="8235" y="9426"/>
                </a:cubicBezTo>
                <a:cubicBezTo>
                  <a:pt x="8213" y="9562"/>
                  <a:pt x="8208" y="9687"/>
                  <a:pt x="8235" y="9823"/>
                </a:cubicBezTo>
                <a:cubicBezTo>
                  <a:pt x="8250" y="9899"/>
                  <a:pt x="8258" y="10027"/>
                  <a:pt x="8285" y="10096"/>
                </a:cubicBezTo>
                <a:cubicBezTo>
                  <a:pt x="8310" y="10120"/>
                  <a:pt x="8318" y="10128"/>
                  <a:pt x="8334" y="10096"/>
                </a:cubicBezTo>
              </a:path>
              <a:path w="4615" h="2333">
                <a:moveTo>
                  <a:pt x="8657" y="8409"/>
                </a:moveTo>
                <a:cubicBezTo>
                  <a:pt x="8672" y="8539"/>
                  <a:pt x="8697" y="8671"/>
                  <a:pt x="8682" y="8806"/>
                </a:cubicBezTo>
                <a:cubicBezTo>
                  <a:pt x="8662" y="8981"/>
                  <a:pt x="8657" y="9149"/>
                  <a:pt x="8657" y="9327"/>
                </a:cubicBezTo>
                <a:cubicBezTo>
                  <a:pt x="8657" y="9611"/>
                  <a:pt x="8658" y="9889"/>
                  <a:pt x="8682" y="10170"/>
                </a:cubicBezTo>
                <a:cubicBezTo>
                  <a:pt x="8687" y="10232"/>
                  <a:pt x="8682" y="10369"/>
                  <a:pt x="8731" y="10418"/>
                </a:cubicBezTo>
                <a:cubicBezTo>
                  <a:pt x="8739" y="10418"/>
                  <a:pt x="8748" y="10418"/>
                  <a:pt x="8756" y="10418"/>
                </a:cubicBezTo>
              </a:path>
              <a:path w="4615" h="2333">
                <a:moveTo>
                  <a:pt x="9029" y="9475"/>
                </a:moveTo>
                <a:cubicBezTo>
                  <a:pt x="9198" y="9459"/>
                  <a:pt x="9356" y="9451"/>
                  <a:pt x="9525" y="9451"/>
                </a:cubicBezTo>
                <a:cubicBezTo>
                  <a:pt x="9550" y="9451"/>
                  <a:pt x="9574" y="9451"/>
                  <a:pt x="9599" y="9451"/>
                </a:cubicBezTo>
              </a:path>
              <a:path w="4615" h="2333">
                <a:moveTo>
                  <a:pt x="9252" y="9773"/>
                </a:moveTo>
                <a:cubicBezTo>
                  <a:pt x="9493" y="9825"/>
                  <a:pt x="9583" y="9819"/>
                  <a:pt x="9823" y="9748"/>
                </a:cubicBezTo>
              </a:path>
              <a:path w="4615" h="2333">
                <a:moveTo>
                  <a:pt x="10616" y="9103"/>
                </a:moveTo>
                <a:cubicBezTo>
                  <a:pt x="10547" y="9021"/>
                  <a:pt x="10492" y="8937"/>
                  <a:pt x="10368" y="8954"/>
                </a:cubicBezTo>
                <a:cubicBezTo>
                  <a:pt x="10261" y="8969"/>
                  <a:pt x="10195" y="8960"/>
                  <a:pt x="10145" y="9054"/>
                </a:cubicBezTo>
                <a:cubicBezTo>
                  <a:pt x="10081" y="9174"/>
                  <a:pt x="10190" y="9335"/>
                  <a:pt x="10269" y="9426"/>
                </a:cubicBezTo>
                <a:cubicBezTo>
                  <a:pt x="10385" y="9559"/>
                  <a:pt x="10493" y="9679"/>
                  <a:pt x="10567" y="9847"/>
                </a:cubicBezTo>
                <a:cubicBezTo>
                  <a:pt x="10618" y="9961"/>
                  <a:pt x="10672" y="10079"/>
                  <a:pt x="10691" y="10195"/>
                </a:cubicBezTo>
                <a:cubicBezTo>
                  <a:pt x="10635" y="10250"/>
                  <a:pt x="10613" y="10255"/>
                  <a:pt x="10542" y="10220"/>
                </a:cubicBezTo>
                <a:cubicBezTo>
                  <a:pt x="10398" y="10149"/>
                  <a:pt x="10382" y="10008"/>
                  <a:pt x="10319" y="9872"/>
                </a:cubicBezTo>
                <a:cubicBezTo>
                  <a:pt x="10269" y="9765"/>
                  <a:pt x="10309" y="9701"/>
                  <a:pt x="10344" y="9599"/>
                </a:cubicBezTo>
                <a:cubicBezTo>
                  <a:pt x="10385" y="9478"/>
                  <a:pt x="10422" y="9457"/>
                  <a:pt x="10517" y="9376"/>
                </a:cubicBezTo>
                <a:cubicBezTo>
                  <a:pt x="10577" y="9325"/>
                  <a:pt x="10645" y="9266"/>
                  <a:pt x="10641" y="9178"/>
                </a:cubicBezTo>
                <a:cubicBezTo>
                  <a:pt x="10633" y="9161"/>
                  <a:pt x="10624" y="9145"/>
                  <a:pt x="10616" y="912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Ink 7"/>
          <p:cNvSpPr/>
          <p:nvPr/>
        </p:nvSpPr>
        <p:spPr>
          <a:xfrm>
            <a:off x="1554120" y="3813120"/>
            <a:ext cx="1384200" cy="517680"/>
          </a:xfrm>
          <a:custGeom>
            <a:avLst/>
            <a:gdLst/>
            <a:ahLst/>
            <a:rect l="l" t="t" r="r" b="b"/>
            <a:pathLst>
              <a:path w="3846" h="1439">
                <a:moveTo>
                  <a:pt x="4316" y="10592"/>
                </a:moveTo>
                <a:cubicBezTo>
                  <a:pt x="4344" y="10665"/>
                  <a:pt x="4366" y="10737"/>
                  <a:pt x="4390" y="10815"/>
                </a:cubicBezTo>
                <a:cubicBezTo>
                  <a:pt x="4438" y="10972"/>
                  <a:pt x="4505" y="11143"/>
                  <a:pt x="4589" y="11286"/>
                </a:cubicBezTo>
                <a:cubicBezTo>
                  <a:pt x="4685" y="11449"/>
                  <a:pt x="4792" y="11612"/>
                  <a:pt x="4911" y="11757"/>
                </a:cubicBezTo>
                <a:cubicBezTo>
                  <a:pt x="4971" y="11830"/>
                  <a:pt x="5116" y="11982"/>
                  <a:pt x="5209" y="12005"/>
                </a:cubicBezTo>
                <a:cubicBezTo>
                  <a:pt x="5234" y="12005"/>
                  <a:pt x="5258" y="12005"/>
                  <a:pt x="5283" y="12005"/>
                </a:cubicBezTo>
              </a:path>
              <a:path w="3846" h="1439">
                <a:moveTo>
                  <a:pt x="5060" y="10765"/>
                </a:moveTo>
                <a:cubicBezTo>
                  <a:pt x="4968" y="10904"/>
                  <a:pt x="4870" y="11044"/>
                  <a:pt x="4787" y="11187"/>
                </a:cubicBezTo>
                <a:cubicBezTo>
                  <a:pt x="4705" y="11327"/>
                  <a:pt x="4636" y="11467"/>
                  <a:pt x="4564" y="11609"/>
                </a:cubicBezTo>
                <a:cubicBezTo>
                  <a:pt x="4552" y="11634"/>
                  <a:pt x="4435" y="11827"/>
                  <a:pt x="4440" y="11832"/>
                </a:cubicBezTo>
                <a:cubicBezTo>
                  <a:pt x="4448" y="11824"/>
                  <a:pt x="4457" y="11815"/>
                  <a:pt x="4465" y="11807"/>
                </a:cubicBezTo>
              </a:path>
              <a:path w="3846" h="1439">
                <a:moveTo>
                  <a:pt x="5507" y="11063"/>
                </a:moveTo>
                <a:cubicBezTo>
                  <a:pt x="5502" y="11255"/>
                  <a:pt x="5482" y="11422"/>
                  <a:pt x="5482" y="11609"/>
                </a:cubicBezTo>
                <a:cubicBezTo>
                  <a:pt x="5482" y="11680"/>
                  <a:pt x="5498" y="11696"/>
                  <a:pt x="5482" y="11757"/>
                </a:cubicBezTo>
              </a:path>
              <a:path w="3846" h="1439">
                <a:moveTo>
                  <a:pt x="5184" y="11286"/>
                </a:moveTo>
                <a:cubicBezTo>
                  <a:pt x="5364" y="11301"/>
                  <a:pt x="5551" y="11331"/>
                  <a:pt x="5730" y="11336"/>
                </a:cubicBezTo>
                <a:cubicBezTo>
                  <a:pt x="5763" y="11336"/>
                  <a:pt x="5796" y="11336"/>
                  <a:pt x="5829" y="11336"/>
                </a:cubicBezTo>
              </a:path>
              <a:path w="3846" h="1439">
                <a:moveTo>
                  <a:pt x="6276" y="10740"/>
                </a:moveTo>
                <a:cubicBezTo>
                  <a:pt x="6268" y="10827"/>
                  <a:pt x="6266" y="10925"/>
                  <a:pt x="6251" y="11013"/>
                </a:cubicBezTo>
                <a:cubicBezTo>
                  <a:pt x="6224" y="11170"/>
                  <a:pt x="6226" y="11323"/>
                  <a:pt x="6226" y="11485"/>
                </a:cubicBezTo>
                <a:cubicBezTo>
                  <a:pt x="6226" y="11592"/>
                  <a:pt x="6235" y="11683"/>
                  <a:pt x="6251" y="11782"/>
                </a:cubicBezTo>
                <a:cubicBezTo>
                  <a:pt x="6251" y="11799"/>
                  <a:pt x="6251" y="11815"/>
                  <a:pt x="6251" y="11832"/>
                </a:cubicBezTo>
              </a:path>
              <a:path w="3846" h="1439">
                <a:moveTo>
                  <a:pt x="6648" y="11261"/>
                </a:moveTo>
                <a:cubicBezTo>
                  <a:pt x="6772" y="11261"/>
                  <a:pt x="6896" y="11261"/>
                  <a:pt x="7020" y="11261"/>
                </a:cubicBezTo>
              </a:path>
              <a:path w="3846" h="1439">
                <a:moveTo>
                  <a:pt x="6648" y="11485"/>
                </a:moveTo>
                <a:cubicBezTo>
                  <a:pt x="6821" y="11540"/>
                  <a:pt x="6964" y="11584"/>
                  <a:pt x="7144" y="11584"/>
                </a:cubicBezTo>
              </a:path>
              <a:path w="3846" h="1439">
                <a:moveTo>
                  <a:pt x="8037" y="10988"/>
                </a:moveTo>
                <a:cubicBezTo>
                  <a:pt x="7894" y="10923"/>
                  <a:pt x="7816" y="10889"/>
                  <a:pt x="7665" y="10889"/>
                </a:cubicBezTo>
                <a:cubicBezTo>
                  <a:pt x="7618" y="10889"/>
                  <a:pt x="7534" y="10901"/>
                  <a:pt x="7516" y="10964"/>
                </a:cubicBezTo>
                <a:cubicBezTo>
                  <a:pt x="7472" y="11118"/>
                  <a:pt x="7654" y="11238"/>
                  <a:pt x="7714" y="11336"/>
                </a:cubicBezTo>
                <a:cubicBezTo>
                  <a:pt x="7806" y="11487"/>
                  <a:pt x="7956" y="11678"/>
                  <a:pt x="7987" y="11857"/>
                </a:cubicBezTo>
                <a:cubicBezTo>
                  <a:pt x="8008" y="11981"/>
                  <a:pt x="7944" y="12012"/>
                  <a:pt x="7863" y="12005"/>
                </a:cubicBezTo>
                <a:cubicBezTo>
                  <a:pt x="7760" y="11996"/>
                  <a:pt x="7723" y="11944"/>
                  <a:pt x="7665" y="11857"/>
                </a:cubicBezTo>
                <a:cubicBezTo>
                  <a:pt x="7594" y="11750"/>
                  <a:pt x="7604" y="11595"/>
                  <a:pt x="7665" y="11485"/>
                </a:cubicBezTo>
                <a:cubicBezTo>
                  <a:pt x="7712" y="11401"/>
                  <a:pt x="7769" y="11309"/>
                  <a:pt x="7838" y="11237"/>
                </a:cubicBezTo>
                <a:cubicBezTo>
                  <a:pt x="7911" y="11160"/>
                  <a:pt x="7983" y="11105"/>
                  <a:pt x="8062" y="11038"/>
                </a:cubicBezTo>
                <a:cubicBezTo>
                  <a:pt x="8108" y="10991"/>
                  <a:pt x="8120" y="10977"/>
                  <a:pt x="8161" y="1096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Ink 8"/>
          <p:cNvSpPr/>
          <p:nvPr/>
        </p:nvSpPr>
        <p:spPr>
          <a:xfrm>
            <a:off x="3205080" y="4125960"/>
            <a:ext cx="393840" cy="214200"/>
          </a:xfrm>
          <a:custGeom>
            <a:avLst/>
            <a:gdLst/>
            <a:ahLst/>
            <a:rect l="l" t="t" r="r" b="b"/>
            <a:pathLst>
              <a:path w="1092" h="596">
                <a:moveTo>
                  <a:pt x="8930" y="11782"/>
                </a:moveTo>
                <a:cubicBezTo>
                  <a:pt x="8920" y="11946"/>
                  <a:pt x="8913" y="11935"/>
                  <a:pt x="9054" y="12005"/>
                </a:cubicBezTo>
                <a:cubicBezTo>
                  <a:pt x="9135" y="12045"/>
                  <a:pt x="9220" y="12081"/>
                  <a:pt x="9302" y="12030"/>
                </a:cubicBezTo>
                <a:cubicBezTo>
                  <a:pt x="9380" y="11982"/>
                  <a:pt x="9333" y="11923"/>
                  <a:pt x="9302" y="11857"/>
                </a:cubicBezTo>
                <a:cubicBezTo>
                  <a:pt x="9246" y="11739"/>
                  <a:pt x="9148" y="11683"/>
                  <a:pt x="9079" y="11584"/>
                </a:cubicBezTo>
                <a:cubicBezTo>
                  <a:pt x="9016" y="11494"/>
                  <a:pt x="9020" y="11518"/>
                  <a:pt x="9079" y="11460"/>
                </a:cubicBezTo>
              </a:path>
              <a:path w="1092" h="596">
                <a:moveTo>
                  <a:pt x="9649" y="11881"/>
                </a:moveTo>
                <a:cubicBezTo>
                  <a:pt x="9649" y="11906"/>
                  <a:pt x="9649" y="11931"/>
                  <a:pt x="9649" y="11956"/>
                </a:cubicBezTo>
                <a:cubicBezTo>
                  <a:pt x="9618" y="11834"/>
                  <a:pt x="9621" y="11768"/>
                  <a:pt x="9699" y="11658"/>
                </a:cubicBezTo>
                <a:cubicBezTo>
                  <a:pt x="9756" y="11578"/>
                  <a:pt x="9835" y="11518"/>
                  <a:pt x="9922" y="11485"/>
                </a:cubicBezTo>
                <a:cubicBezTo>
                  <a:pt x="9947" y="11477"/>
                  <a:pt x="9971" y="11468"/>
                  <a:pt x="9996" y="1146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Ink 9"/>
          <p:cNvSpPr/>
          <p:nvPr/>
        </p:nvSpPr>
        <p:spPr>
          <a:xfrm>
            <a:off x="3990960" y="4010040"/>
            <a:ext cx="1581120" cy="473040"/>
          </a:xfrm>
          <a:custGeom>
            <a:avLst/>
            <a:gdLst/>
            <a:ahLst/>
            <a:rect l="l" t="t" r="r" b="b"/>
            <a:pathLst>
              <a:path w="4391" h="1316">
                <a:moveTo>
                  <a:pt x="11088" y="11137"/>
                </a:moveTo>
                <a:cubicBezTo>
                  <a:pt x="11123" y="11299"/>
                  <a:pt x="11161" y="11375"/>
                  <a:pt x="11261" y="11509"/>
                </a:cubicBezTo>
                <a:cubicBezTo>
                  <a:pt x="11390" y="11683"/>
                  <a:pt x="11517" y="11862"/>
                  <a:pt x="11683" y="12005"/>
                </a:cubicBezTo>
                <a:cubicBezTo>
                  <a:pt x="11755" y="12067"/>
                  <a:pt x="11829" y="12127"/>
                  <a:pt x="11906" y="12179"/>
                </a:cubicBezTo>
              </a:path>
              <a:path w="4391" h="1316">
                <a:moveTo>
                  <a:pt x="11658" y="11212"/>
                </a:moveTo>
                <a:cubicBezTo>
                  <a:pt x="11546" y="11366"/>
                  <a:pt x="11386" y="11531"/>
                  <a:pt x="11311" y="11708"/>
                </a:cubicBezTo>
                <a:cubicBezTo>
                  <a:pt x="11270" y="11804"/>
                  <a:pt x="11163" y="11887"/>
                  <a:pt x="11137" y="11981"/>
                </a:cubicBezTo>
                <a:cubicBezTo>
                  <a:pt x="11137" y="12022"/>
                  <a:pt x="11129" y="12038"/>
                  <a:pt x="11162" y="12030"/>
                </a:cubicBezTo>
              </a:path>
              <a:path w="4391" h="1316">
                <a:moveTo>
                  <a:pt x="12055" y="11311"/>
                </a:moveTo>
                <a:cubicBezTo>
                  <a:pt x="12089" y="11517"/>
                  <a:pt x="12116" y="11688"/>
                  <a:pt x="12179" y="11881"/>
                </a:cubicBezTo>
                <a:cubicBezTo>
                  <a:pt x="12196" y="11932"/>
                  <a:pt x="12219" y="11979"/>
                  <a:pt x="12229" y="12030"/>
                </a:cubicBezTo>
              </a:path>
              <a:path w="4391" h="1316">
                <a:moveTo>
                  <a:pt x="11906" y="11683"/>
                </a:moveTo>
                <a:cubicBezTo>
                  <a:pt x="12081" y="11693"/>
                  <a:pt x="12249" y="11721"/>
                  <a:pt x="12427" y="11733"/>
                </a:cubicBezTo>
                <a:cubicBezTo>
                  <a:pt x="12452" y="11733"/>
                  <a:pt x="12477" y="11733"/>
                  <a:pt x="12502" y="11733"/>
                </a:cubicBezTo>
              </a:path>
              <a:path w="4391" h="1316">
                <a:moveTo>
                  <a:pt x="12849" y="11212"/>
                </a:moveTo>
                <a:cubicBezTo>
                  <a:pt x="12849" y="11316"/>
                  <a:pt x="12833" y="11408"/>
                  <a:pt x="12824" y="11509"/>
                </a:cubicBezTo>
                <a:cubicBezTo>
                  <a:pt x="12810" y="11674"/>
                  <a:pt x="12805" y="11893"/>
                  <a:pt x="12849" y="12055"/>
                </a:cubicBezTo>
                <a:cubicBezTo>
                  <a:pt x="12884" y="12181"/>
                  <a:pt x="12877" y="12255"/>
                  <a:pt x="12973" y="12278"/>
                </a:cubicBezTo>
              </a:path>
              <a:path w="4391" h="1316">
                <a:moveTo>
                  <a:pt x="13221" y="11658"/>
                </a:moveTo>
                <a:cubicBezTo>
                  <a:pt x="13374" y="11646"/>
                  <a:pt x="13513" y="11658"/>
                  <a:pt x="13667" y="11658"/>
                </a:cubicBezTo>
                <a:cubicBezTo>
                  <a:pt x="13692" y="11658"/>
                  <a:pt x="13717" y="11658"/>
                  <a:pt x="13742" y="11658"/>
                </a:cubicBezTo>
              </a:path>
              <a:path w="4391" h="1316">
                <a:moveTo>
                  <a:pt x="13419" y="11931"/>
                </a:moveTo>
                <a:cubicBezTo>
                  <a:pt x="13608" y="12032"/>
                  <a:pt x="13616" y="12039"/>
                  <a:pt x="13791" y="12080"/>
                </a:cubicBezTo>
              </a:path>
              <a:path w="4391" h="1316">
                <a:moveTo>
                  <a:pt x="14288" y="11658"/>
                </a:moveTo>
                <a:cubicBezTo>
                  <a:pt x="14461" y="11631"/>
                  <a:pt x="14633" y="11617"/>
                  <a:pt x="14808" y="11609"/>
                </a:cubicBezTo>
              </a:path>
              <a:path w="4391" h="1316">
                <a:moveTo>
                  <a:pt x="15329" y="11460"/>
                </a:moveTo>
                <a:cubicBezTo>
                  <a:pt x="15254" y="11338"/>
                  <a:pt x="15229" y="11317"/>
                  <a:pt x="15081" y="11311"/>
                </a:cubicBezTo>
                <a:cubicBezTo>
                  <a:pt x="15002" y="11311"/>
                  <a:pt x="14972" y="11314"/>
                  <a:pt x="14932" y="11361"/>
                </a:cubicBezTo>
                <a:cubicBezTo>
                  <a:pt x="14978" y="11489"/>
                  <a:pt x="15044" y="11606"/>
                  <a:pt x="15106" y="11733"/>
                </a:cubicBezTo>
                <a:cubicBezTo>
                  <a:pt x="15200" y="11925"/>
                  <a:pt x="15324" y="12112"/>
                  <a:pt x="15354" y="12328"/>
                </a:cubicBezTo>
                <a:cubicBezTo>
                  <a:pt x="15354" y="12396"/>
                  <a:pt x="15357" y="12415"/>
                  <a:pt x="15329" y="12452"/>
                </a:cubicBezTo>
                <a:cubicBezTo>
                  <a:pt x="15222" y="12441"/>
                  <a:pt x="15176" y="12419"/>
                  <a:pt x="15106" y="12328"/>
                </a:cubicBezTo>
                <a:cubicBezTo>
                  <a:pt x="15048" y="12253"/>
                  <a:pt x="14991" y="12128"/>
                  <a:pt x="15007" y="12030"/>
                </a:cubicBezTo>
                <a:cubicBezTo>
                  <a:pt x="15020" y="11949"/>
                  <a:pt x="15094" y="11784"/>
                  <a:pt x="15156" y="11733"/>
                </a:cubicBezTo>
                <a:cubicBezTo>
                  <a:pt x="15250" y="11655"/>
                  <a:pt x="15393" y="11585"/>
                  <a:pt x="15453" y="11460"/>
                </a:cubicBezTo>
                <a:cubicBezTo>
                  <a:pt x="15472" y="11420"/>
                  <a:pt x="15474" y="11307"/>
                  <a:pt x="15478" y="1126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Ink 10"/>
          <p:cNvSpPr/>
          <p:nvPr/>
        </p:nvSpPr>
        <p:spPr>
          <a:xfrm>
            <a:off x="2259000" y="4830840"/>
            <a:ext cx="706320" cy="349200"/>
          </a:xfrm>
          <a:custGeom>
            <a:avLst/>
            <a:gdLst/>
            <a:ahLst/>
            <a:rect l="l" t="t" r="r" b="b"/>
            <a:pathLst>
              <a:path w="1960" h="969">
                <a:moveTo>
                  <a:pt x="6276" y="13419"/>
                </a:moveTo>
                <a:cubicBezTo>
                  <a:pt x="6385" y="13659"/>
                  <a:pt x="6471" y="13885"/>
                  <a:pt x="6672" y="14064"/>
                </a:cubicBezTo>
                <a:cubicBezTo>
                  <a:pt x="6740" y="14124"/>
                  <a:pt x="6817" y="14169"/>
                  <a:pt x="6896" y="14213"/>
                </a:cubicBezTo>
              </a:path>
              <a:path w="1960" h="969">
                <a:moveTo>
                  <a:pt x="6697" y="13667"/>
                </a:moveTo>
                <a:cubicBezTo>
                  <a:pt x="6571" y="13857"/>
                  <a:pt x="6461" y="14052"/>
                  <a:pt x="6300" y="14213"/>
                </a:cubicBezTo>
              </a:path>
              <a:path w="1960" h="969">
                <a:moveTo>
                  <a:pt x="6970" y="13667"/>
                </a:moveTo>
                <a:cubicBezTo>
                  <a:pt x="7069" y="13667"/>
                  <a:pt x="7169" y="13667"/>
                  <a:pt x="7268" y="13667"/>
                </a:cubicBezTo>
              </a:path>
              <a:path w="1960" h="969">
                <a:moveTo>
                  <a:pt x="6995" y="13891"/>
                </a:moveTo>
                <a:cubicBezTo>
                  <a:pt x="7270" y="13936"/>
                  <a:pt x="7276" y="13947"/>
                  <a:pt x="7491" y="13791"/>
                </a:cubicBezTo>
              </a:path>
              <a:path w="1960" h="969">
                <a:moveTo>
                  <a:pt x="7565" y="13519"/>
                </a:moveTo>
                <a:cubicBezTo>
                  <a:pt x="7645" y="13459"/>
                  <a:pt x="7684" y="13469"/>
                  <a:pt x="7789" y="13469"/>
                </a:cubicBezTo>
                <a:cubicBezTo>
                  <a:pt x="7903" y="13469"/>
                  <a:pt x="8000" y="13488"/>
                  <a:pt x="8111" y="13494"/>
                </a:cubicBezTo>
                <a:cubicBezTo>
                  <a:pt x="8223" y="13500"/>
                  <a:pt x="8274" y="13530"/>
                  <a:pt x="8210" y="13643"/>
                </a:cubicBezTo>
                <a:cubicBezTo>
                  <a:pt x="8158" y="13734"/>
                  <a:pt x="8175" y="13789"/>
                  <a:pt x="8161" y="13891"/>
                </a:cubicBezTo>
                <a:cubicBezTo>
                  <a:pt x="8143" y="14026"/>
                  <a:pt x="8157" y="14104"/>
                  <a:pt x="8161" y="14238"/>
                </a:cubicBezTo>
                <a:cubicBezTo>
                  <a:pt x="8161" y="14321"/>
                  <a:pt x="8161" y="14337"/>
                  <a:pt x="8161" y="1438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Ink 11"/>
          <p:cNvSpPr/>
          <p:nvPr/>
        </p:nvSpPr>
        <p:spPr>
          <a:xfrm>
            <a:off x="4241880" y="4491000"/>
            <a:ext cx="1241280" cy="965160"/>
          </a:xfrm>
          <a:custGeom>
            <a:avLst/>
            <a:gdLst/>
            <a:ahLst/>
            <a:rect l="l" t="t" r="r" b="b"/>
            <a:pathLst>
              <a:path w="3449" h="2680">
                <a:moveTo>
                  <a:pt x="11782" y="12750"/>
                </a:moveTo>
                <a:cubicBezTo>
                  <a:pt x="11915" y="12719"/>
                  <a:pt x="12045" y="12746"/>
                  <a:pt x="12179" y="12725"/>
                </a:cubicBezTo>
                <a:cubicBezTo>
                  <a:pt x="12204" y="12717"/>
                  <a:pt x="12229" y="12708"/>
                  <a:pt x="12254" y="12700"/>
                </a:cubicBezTo>
              </a:path>
              <a:path w="3449" h="2680">
                <a:moveTo>
                  <a:pt x="12626" y="12477"/>
                </a:moveTo>
                <a:cubicBezTo>
                  <a:pt x="12602" y="12673"/>
                  <a:pt x="12582" y="12875"/>
                  <a:pt x="12576" y="13072"/>
                </a:cubicBezTo>
                <a:cubicBezTo>
                  <a:pt x="12576" y="13133"/>
                  <a:pt x="12567" y="13149"/>
                  <a:pt x="12601" y="13171"/>
                </a:cubicBezTo>
              </a:path>
              <a:path w="3449" h="2680">
                <a:moveTo>
                  <a:pt x="14188" y="12824"/>
                </a:moveTo>
                <a:cubicBezTo>
                  <a:pt x="14337" y="12824"/>
                  <a:pt x="14486" y="12824"/>
                  <a:pt x="14635" y="12824"/>
                </a:cubicBezTo>
              </a:path>
              <a:path w="3449" h="2680">
                <a:moveTo>
                  <a:pt x="15156" y="12576"/>
                </a:moveTo>
                <a:cubicBezTo>
                  <a:pt x="15156" y="12783"/>
                  <a:pt x="15141" y="12993"/>
                  <a:pt x="15180" y="13196"/>
                </a:cubicBezTo>
                <a:cubicBezTo>
                  <a:pt x="15199" y="13293"/>
                  <a:pt x="15222" y="13373"/>
                  <a:pt x="15230" y="13469"/>
                </a:cubicBezTo>
              </a:path>
              <a:path w="3449" h="2680">
                <a:moveTo>
                  <a:pt x="12750" y="13643"/>
                </a:moveTo>
                <a:cubicBezTo>
                  <a:pt x="12803" y="13863"/>
                  <a:pt x="12825" y="14014"/>
                  <a:pt x="12973" y="14188"/>
                </a:cubicBezTo>
                <a:cubicBezTo>
                  <a:pt x="13065" y="14297"/>
                  <a:pt x="13146" y="14392"/>
                  <a:pt x="13271" y="14461"/>
                </a:cubicBezTo>
              </a:path>
              <a:path w="3449" h="2680">
                <a:moveTo>
                  <a:pt x="13171" y="13568"/>
                </a:moveTo>
                <a:cubicBezTo>
                  <a:pt x="13086" y="13702"/>
                  <a:pt x="13042" y="13791"/>
                  <a:pt x="12973" y="13940"/>
                </a:cubicBezTo>
                <a:cubicBezTo>
                  <a:pt x="12914" y="14068"/>
                  <a:pt x="12842" y="14187"/>
                  <a:pt x="12774" y="14312"/>
                </a:cubicBezTo>
                <a:cubicBezTo>
                  <a:pt x="12725" y="14387"/>
                  <a:pt x="12709" y="14412"/>
                  <a:pt x="12675" y="14461"/>
                </a:cubicBezTo>
              </a:path>
              <a:path w="3449" h="2680">
                <a:moveTo>
                  <a:pt x="13271" y="13915"/>
                </a:moveTo>
                <a:cubicBezTo>
                  <a:pt x="13430" y="13932"/>
                  <a:pt x="13587" y="13934"/>
                  <a:pt x="13742" y="13965"/>
                </a:cubicBezTo>
              </a:path>
              <a:path w="3449" h="2680">
                <a:moveTo>
                  <a:pt x="13419" y="14089"/>
                </a:moveTo>
                <a:cubicBezTo>
                  <a:pt x="13598" y="14141"/>
                  <a:pt x="13650" y="14163"/>
                  <a:pt x="13816" y="14163"/>
                </a:cubicBezTo>
              </a:path>
              <a:path w="3449" h="2680">
                <a:moveTo>
                  <a:pt x="14312" y="13866"/>
                </a:moveTo>
                <a:cubicBezTo>
                  <a:pt x="14519" y="13866"/>
                  <a:pt x="14725" y="13866"/>
                  <a:pt x="14932" y="13866"/>
                </a:cubicBezTo>
              </a:path>
              <a:path w="3449" h="2680">
                <a:moveTo>
                  <a:pt x="15007" y="13841"/>
                </a:moveTo>
                <a:cubicBezTo>
                  <a:pt x="14918" y="13763"/>
                  <a:pt x="14880" y="13746"/>
                  <a:pt x="14759" y="13742"/>
                </a:cubicBezTo>
                <a:cubicBezTo>
                  <a:pt x="14662" y="13739"/>
                  <a:pt x="14506" y="13725"/>
                  <a:pt x="14511" y="13866"/>
                </a:cubicBezTo>
                <a:cubicBezTo>
                  <a:pt x="14516" y="14014"/>
                  <a:pt x="14569" y="14039"/>
                  <a:pt x="14684" y="14089"/>
                </a:cubicBezTo>
                <a:cubicBezTo>
                  <a:pt x="14757" y="14121"/>
                  <a:pt x="14805" y="14150"/>
                  <a:pt x="14883" y="14114"/>
                </a:cubicBezTo>
                <a:cubicBezTo>
                  <a:pt x="14954" y="14081"/>
                  <a:pt x="15008" y="14017"/>
                  <a:pt x="15032" y="13940"/>
                </a:cubicBezTo>
                <a:cubicBezTo>
                  <a:pt x="15032" y="13924"/>
                  <a:pt x="15032" y="13907"/>
                  <a:pt x="15032" y="13891"/>
                </a:cubicBezTo>
                <a:cubicBezTo>
                  <a:pt x="15003" y="14052"/>
                  <a:pt x="15008" y="14173"/>
                  <a:pt x="15032" y="14337"/>
                </a:cubicBezTo>
                <a:cubicBezTo>
                  <a:pt x="15073" y="14612"/>
                  <a:pt x="15144" y="14885"/>
                  <a:pt x="15205" y="1515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Ink 12"/>
          <p:cNvSpPr/>
          <p:nvPr/>
        </p:nvSpPr>
        <p:spPr>
          <a:xfrm>
            <a:off x="1928880" y="4456080"/>
            <a:ext cx="125280" cy="9720"/>
          </a:xfrm>
          <a:custGeom>
            <a:avLst/>
            <a:gdLst/>
            <a:ahLst/>
            <a:rect l="l" t="t" r="r" b="b"/>
            <a:pathLst>
              <a:path w="348" h="25">
                <a:moveTo>
                  <a:pt x="5358" y="12378"/>
                </a:moveTo>
                <a:cubicBezTo>
                  <a:pt x="5453" y="12388"/>
                  <a:pt x="5533" y="12402"/>
                  <a:pt x="5631" y="12402"/>
                </a:cubicBezTo>
                <a:cubicBezTo>
                  <a:pt x="5656" y="12402"/>
                  <a:pt x="5680" y="12402"/>
                  <a:pt x="5705" y="1240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Ink 13"/>
          <p:cNvSpPr/>
          <p:nvPr/>
        </p:nvSpPr>
        <p:spPr>
          <a:xfrm>
            <a:off x="2232000" y="4456080"/>
            <a:ext cx="19080" cy="223920"/>
          </a:xfrm>
          <a:custGeom>
            <a:avLst/>
            <a:gdLst/>
            <a:ahLst/>
            <a:rect l="l" t="t" r="r" b="b"/>
            <a:pathLst>
              <a:path w="51" h="621">
                <a:moveTo>
                  <a:pt x="6251" y="12378"/>
                </a:moveTo>
                <a:cubicBezTo>
                  <a:pt x="6232" y="12566"/>
                  <a:pt x="6201" y="12738"/>
                  <a:pt x="6201" y="12923"/>
                </a:cubicBezTo>
                <a:cubicBezTo>
                  <a:pt x="6201" y="12968"/>
                  <a:pt x="6198" y="12981"/>
                  <a:pt x="6226" y="1299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Ink 14"/>
          <p:cNvSpPr/>
          <p:nvPr/>
        </p:nvSpPr>
        <p:spPr>
          <a:xfrm>
            <a:off x="2581200" y="4411800"/>
            <a:ext cx="293760" cy="276120"/>
          </a:xfrm>
          <a:custGeom>
            <a:avLst/>
            <a:gdLst/>
            <a:ahLst/>
            <a:rect l="l" t="t" r="r" b="b"/>
            <a:pathLst>
              <a:path w="819" h="769">
                <a:moveTo>
                  <a:pt x="7169" y="12452"/>
                </a:moveTo>
                <a:cubicBezTo>
                  <a:pt x="7318" y="12476"/>
                  <a:pt x="7421" y="12468"/>
                  <a:pt x="7565" y="12452"/>
                </a:cubicBezTo>
                <a:cubicBezTo>
                  <a:pt x="7590" y="12452"/>
                  <a:pt x="7615" y="12452"/>
                  <a:pt x="7640" y="12452"/>
                </a:cubicBezTo>
              </a:path>
              <a:path w="819" h="769">
                <a:moveTo>
                  <a:pt x="7987" y="12254"/>
                </a:moveTo>
                <a:cubicBezTo>
                  <a:pt x="7972" y="12457"/>
                  <a:pt x="7962" y="12647"/>
                  <a:pt x="7962" y="12849"/>
                </a:cubicBezTo>
                <a:cubicBezTo>
                  <a:pt x="7962" y="12940"/>
                  <a:pt x="7962" y="12964"/>
                  <a:pt x="7962" y="1302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3.  │2x│ = x + 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Ink 4"/>
          <p:cNvSpPr/>
          <p:nvPr/>
        </p:nvSpPr>
        <p:spPr>
          <a:xfrm>
            <a:off x="1339920" y="2633760"/>
            <a:ext cx="741240" cy="573120"/>
          </a:xfrm>
          <a:custGeom>
            <a:avLst/>
            <a:gdLst/>
            <a:ahLst/>
            <a:rect l="l" t="t" r="r" b="b"/>
            <a:pathLst>
              <a:path w="2059" h="1589">
                <a:moveTo>
                  <a:pt x="3845" y="7640"/>
                </a:moveTo>
                <a:cubicBezTo>
                  <a:pt x="3845" y="7689"/>
                  <a:pt x="3845" y="7706"/>
                  <a:pt x="3845" y="7739"/>
                </a:cubicBezTo>
                <a:cubicBezTo>
                  <a:pt x="3845" y="7872"/>
                  <a:pt x="3861" y="7666"/>
                  <a:pt x="3870" y="7640"/>
                </a:cubicBezTo>
                <a:cubicBezTo>
                  <a:pt x="3901" y="7549"/>
                  <a:pt x="3928" y="7500"/>
                  <a:pt x="3994" y="7441"/>
                </a:cubicBezTo>
                <a:cubicBezTo>
                  <a:pt x="4069" y="7375"/>
                  <a:pt x="4120" y="7304"/>
                  <a:pt x="4217" y="7342"/>
                </a:cubicBezTo>
                <a:cubicBezTo>
                  <a:pt x="4269" y="7362"/>
                  <a:pt x="4380" y="7433"/>
                  <a:pt x="4390" y="7491"/>
                </a:cubicBezTo>
                <a:cubicBezTo>
                  <a:pt x="4411" y="7604"/>
                  <a:pt x="4437" y="7721"/>
                  <a:pt x="4440" y="7838"/>
                </a:cubicBezTo>
                <a:cubicBezTo>
                  <a:pt x="4444" y="8001"/>
                  <a:pt x="4405" y="8229"/>
                  <a:pt x="4341" y="8384"/>
                </a:cubicBezTo>
                <a:cubicBezTo>
                  <a:pt x="4309" y="8461"/>
                  <a:pt x="4218" y="8640"/>
                  <a:pt x="4142" y="8682"/>
                </a:cubicBezTo>
                <a:cubicBezTo>
                  <a:pt x="4044" y="8736"/>
                  <a:pt x="3992" y="8722"/>
                  <a:pt x="3894" y="8706"/>
                </a:cubicBezTo>
                <a:cubicBezTo>
                  <a:pt x="3814" y="8693"/>
                  <a:pt x="3818" y="8646"/>
                  <a:pt x="3770" y="8582"/>
                </a:cubicBezTo>
                <a:cubicBezTo>
                  <a:pt x="3725" y="8522"/>
                  <a:pt x="3721" y="8515"/>
                  <a:pt x="3721" y="8434"/>
                </a:cubicBezTo>
                <a:cubicBezTo>
                  <a:pt x="3721" y="8410"/>
                  <a:pt x="3735" y="8282"/>
                  <a:pt x="3795" y="8285"/>
                </a:cubicBezTo>
                <a:cubicBezTo>
                  <a:pt x="3890" y="8290"/>
                  <a:pt x="3965" y="8384"/>
                  <a:pt x="3994" y="8458"/>
                </a:cubicBezTo>
                <a:cubicBezTo>
                  <a:pt x="4024" y="8535"/>
                  <a:pt x="4066" y="8615"/>
                  <a:pt x="4118" y="8682"/>
                </a:cubicBezTo>
                <a:cubicBezTo>
                  <a:pt x="4124" y="8690"/>
                  <a:pt x="4242" y="8830"/>
                  <a:pt x="4242" y="8830"/>
                </a:cubicBezTo>
                <a:cubicBezTo>
                  <a:pt x="4275" y="8814"/>
                  <a:pt x="4308" y="8797"/>
                  <a:pt x="4341" y="8781"/>
                </a:cubicBezTo>
              </a:path>
              <a:path w="2059" h="1589">
                <a:moveTo>
                  <a:pt x="4663" y="8136"/>
                </a:moveTo>
                <a:cubicBezTo>
                  <a:pt x="4729" y="8235"/>
                  <a:pt x="4779" y="8335"/>
                  <a:pt x="4837" y="8434"/>
                </a:cubicBezTo>
                <a:cubicBezTo>
                  <a:pt x="4902" y="8544"/>
                  <a:pt x="4959" y="8615"/>
                  <a:pt x="5035" y="8706"/>
                </a:cubicBezTo>
                <a:cubicBezTo>
                  <a:pt x="5090" y="8772"/>
                  <a:pt x="5142" y="8879"/>
                  <a:pt x="5234" y="8905"/>
                </a:cubicBezTo>
                <a:cubicBezTo>
                  <a:pt x="5283" y="8905"/>
                  <a:pt x="5300" y="8905"/>
                  <a:pt x="5333" y="8905"/>
                </a:cubicBezTo>
              </a:path>
              <a:path w="2059" h="1589">
                <a:moveTo>
                  <a:pt x="5135" y="8136"/>
                </a:moveTo>
                <a:cubicBezTo>
                  <a:pt x="5060" y="8247"/>
                  <a:pt x="4988" y="8359"/>
                  <a:pt x="4936" y="8483"/>
                </a:cubicBezTo>
                <a:cubicBezTo>
                  <a:pt x="4887" y="8598"/>
                  <a:pt x="4788" y="8706"/>
                  <a:pt x="4762" y="8830"/>
                </a:cubicBezTo>
                <a:cubicBezTo>
                  <a:pt x="4762" y="8875"/>
                  <a:pt x="4766" y="8888"/>
                  <a:pt x="4738" y="8905"/>
                </a:cubicBezTo>
              </a:path>
              <a:path w="2059" h="1589">
                <a:moveTo>
                  <a:pt x="5358" y="8285"/>
                </a:moveTo>
                <a:cubicBezTo>
                  <a:pt x="5462" y="8285"/>
                  <a:pt x="5619" y="8258"/>
                  <a:pt x="5705" y="8310"/>
                </a:cubicBezTo>
              </a:path>
              <a:path w="2059" h="1589">
                <a:moveTo>
                  <a:pt x="5407" y="8508"/>
                </a:moveTo>
                <a:cubicBezTo>
                  <a:pt x="5543" y="8527"/>
                  <a:pt x="5645" y="8533"/>
                  <a:pt x="5779" y="850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Ink 5"/>
          <p:cNvSpPr/>
          <p:nvPr/>
        </p:nvSpPr>
        <p:spPr>
          <a:xfrm>
            <a:off x="2268360" y="2813040"/>
            <a:ext cx="776520" cy="473040"/>
          </a:xfrm>
          <a:custGeom>
            <a:avLst/>
            <a:gdLst/>
            <a:ahLst/>
            <a:rect l="l" t="t" r="r" b="b"/>
            <a:pathLst>
              <a:path w="2159" h="1316">
                <a:moveTo>
                  <a:pt x="6375" y="8111"/>
                </a:moveTo>
                <a:cubicBezTo>
                  <a:pt x="6420" y="8233"/>
                  <a:pt x="6445" y="8401"/>
                  <a:pt x="6524" y="8508"/>
                </a:cubicBezTo>
                <a:cubicBezTo>
                  <a:pt x="6602" y="8614"/>
                  <a:pt x="6710" y="8687"/>
                  <a:pt x="6796" y="8781"/>
                </a:cubicBezTo>
                <a:cubicBezTo>
                  <a:pt x="6885" y="8877"/>
                  <a:pt x="6913" y="8918"/>
                  <a:pt x="7045" y="8930"/>
                </a:cubicBezTo>
              </a:path>
              <a:path w="2159" h="1316">
                <a:moveTo>
                  <a:pt x="6697" y="8161"/>
                </a:moveTo>
                <a:cubicBezTo>
                  <a:pt x="6585" y="8310"/>
                  <a:pt x="6508" y="8424"/>
                  <a:pt x="6424" y="8582"/>
                </a:cubicBezTo>
                <a:cubicBezTo>
                  <a:pt x="6397" y="8633"/>
                  <a:pt x="6296" y="8767"/>
                  <a:pt x="6300" y="8830"/>
                </a:cubicBezTo>
                <a:cubicBezTo>
                  <a:pt x="6308" y="8847"/>
                  <a:pt x="6317" y="8863"/>
                  <a:pt x="6325" y="8880"/>
                </a:cubicBezTo>
              </a:path>
              <a:path w="2159" h="1316">
                <a:moveTo>
                  <a:pt x="7293" y="8062"/>
                </a:moveTo>
                <a:cubicBezTo>
                  <a:pt x="7318" y="8201"/>
                  <a:pt x="7352" y="8345"/>
                  <a:pt x="7367" y="8483"/>
                </a:cubicBezTo>
                <a:cubicBezTo>
                  <a:pt x="7376" y="8566"/>
                  <a:pt x="7374" y="8628"/>
                  <a:pt x="7392" y="8706"/>
                </a:cubicBezTo>
                <a:cubicBezTo>
                  <a:pt x="7392" y="8714"/>
                  <a:pt x="7392" y="8723"/>
                  <a:pt x="7392" y="8731"/>
                </a:cubicBezTo>
              </a:path>
              <a:path w="2159" h="1316">
                <a:moveTo>
                  <a:pt x="6970" y="8409"/>
                </a:moveTo>
                <a:cubicBezTo>
                  <a:pt x="7132" y="8443"/>
                  <a:pt x="7232" y="8447"/>
                  <a:pt x="7392" y="8434"/>
                </a:cubicBezTo>
                <a:cubicBezTo>
                  <a:pt x="7425" y="8434"/>
                  <a:pt x="7458" y="8434"/>
                  <a:pt x="7491" y="8434"/>
                </a:cubicBezTo>
              </a:path>
              <a:path w="2159" h="1316">
                <a:moveTo>
                  <a:pt x="7962" y="8086"/>
                </a:moveTo>
                <a:cubicBezTo>
                  <a:pt x="7936" y="8172"/>
                  <a:pt x="7910" y="8255"/>
                  <a:pt x="7863" y="8334"/>
                </a:cubicBezTo>
                <a:cubicBezTo>
                  <a:pt x="7833" y="8384"/>
                  <a:pt x="7740" y="8477"/>
                  <a:pt x="7813" y="8533"/>
                </a:cubicBezTo>
                <a:cubicBezTo>
                  <a:pt x="7864" y="8572"/>
                  <a:pt x="8030" y="8586"/>
                  <a:pt x="8086" y="8582"/>
                </a:cubicBezTo>
                <a:cubicBezTo>
                  <a:pt x="8159" y="8558"/>
                  <a:pt x="8183" y="8550"/>
                  <a:pt x="8235" y="8558"/>
                </a:cubicBezTo>
              </a:path>
              <a:path w="2159" h="1316">
                <a:moveTo>
                  <a:pt x="8359" y="7813"/>
                </a:moveTo>
                <a:cubicBezTo>
                  <a:pt x="8335" y="7988"/>
                  <a:pt x="8314" y="8158"/>
                  <a:pt x="8310" y="8334"/>
                </a:cubicBezTo>
                <a:cubicBezTo>
                  <a:pt x="8307" y="8484"/>
                  <a:pt x="8311" y="8634"/>
                  <a:pt x="8334" y="8781"/>
                </a:cubicBezTo>
                <a:cubicBezTo>
                  <a:pt x="8350" y="8888"/>
                  <a:pt x="8389" y="8982"/>
                  <a:pt x="8434" y="9079"/>
                </a:cubicBezTo>
                <a:cubicBezTo>
                  <a:pt x="8442" y="9095"/>
                  <a:pt x="8450" y="9112"/>
                  <a:pt x="8458" y="912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Ink 6"/>
          <p:cNvSpPr/>
          <p:nvPr/>
        </p:nvSpPr>
        <p:spPr>
          <a:xfrm>
            <a:off x="3394080" y="3071880"/>
            <a:ext cx="357120" cy="169920"/>
          </a:xfrm>
          <a:custGeom>
            <a:avLst/>
            <a:gdLst/>
            <a:ahLst/>
            <a:rect l="l" t="t" r="r" b="b"/>
            <a:pathLst>
              <a:path w="993" h="472">
                <a:moveTo>
                  <a:pt x="9649" y="8607"/>
                </a:moveTo>
                <a:cubicBezTo>
                  <a:pt x="9607" y="8679"/>
                  <a:pt x="9494" y="8835"/>
                  <a:pt x="9500" y="8930"/>
                </a:cubicBezTo>
                <a:cubicBezTo>
                  <a:pt x="9504" y="8996"/>
                  <a:pt x="9641" y="9002"/>
                  <a:pt x="9674" y="9004"/>
                </a:cubicBezTo>
                <a:cubicBezTo>
                  <a:pt x="9761" y="9008"/>
                  <a:pt x="9816" y="8964"/>
                  <a:pt x="9823" y="8880"/>
                </a:cubicBezTo>
                <a:cubicBezTo>
                  <a:pt x="9835" y="8746"/>
                  <a:pt x="9761" y="8723"/>
                  <a:pt x="9674" y="8657"/>
                </a:cubicBezTo>
                <a:cubicBezTo>
                  <a:pt x="9593" y="8595"/>
                  <a:pt x="9505" y="8604"/>
                  <a:pt x="9426" y="8558"/>
                </a:cubicBezTo>
              </a:path>
              <a:path w="993" h="472">
                <a:moveTo>
                  <a:pt x="10096" y="8830"/>
                </a:moveTo>
                <a:cubicBezTo>
                  <a:pt x="10096" y="8855"/>
                  <a:pt x="10096" y="8880"/>
                  <a:pt x="10096" y="8905"/>
                </a:cubicBezTo>
                <a:cubicBezTo>
                  <a:pt x="10077" y="8820"/>
                  <a:pt x="10093" y="8780"/>
                  <a:pt x="10145" y="8706"/>
                </a:cubicBezTo>
                <a:cubicBezTo>
                  <a:pt x="10227" y="8589"/>
                  <a:pt x="10296" y="8587"/>
                  <a:pt x="10418" y="853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Ink 7"/>
          <p:cNvSpPr/>
          <p:nvPr/>
        </p:nvSpPr>
        <p:spPr>
          <a:xfrm>
            <a:off x="4116240" y="2820960"/>
            <a:ext cx="687600" cy="438120"/>
          </a:xfrm>
          <a:custGeom>
            <a:avLst/>
            <a:gdLst/>
            <a:ahLst/>
            <a:rect l="l" t="t" r="r" b="b"/>
            <a:pathLst>
              <a:path w="1911" h="1217">
                <a:moveTo>
                  <a:pt x="11658" y="7962"/>
                </a:moveTo>
                <a:cubicBezTo>
                  <a:pt x="11683" y="7877"/>
                  <a:pt x="11706" y="7890"/>
                  <a:pt x="11782" y="7863"/>
                </a:cubicBezTo>
                <a:cubicBezTo>
                  <a:pt x="11888" y="7825"/>
                  <a:pt x="11890" y="7884"/>
                  <a:pt x="11956" y="7962"/>
                </a:cubicBezTo>
                <a:cubicBezTo>
                  <a:pt x="12042" y="8064"/>
                  <a:pt x="12047" y="8200"/>
                  <a:pt x="12030" y="8334"/>
                </a:cubicBezTo>
                <a:cubicBezTo>
                  <a:pt x="12010" y="8490"/>
                  <a:pt x="11946" y="8616"/>
                  <a:pt x="11881" y="8756"/>
                </a:cubicBezTo>
                <a:cubicBezTo>
                  <a:pt x="11817" y="8895"/>
                  <a:pt x="11727" y="8947"/>
                  <a:pt x="11584" y="8954"/>
                </a:cubicBezTo>
                <a:cubicBezTo>
                  <a:pt x="11488" y="8959"/>
                  <a:pt x="11492" y="8881"/>
                  <a:pt x="11460" y="8806"/>
                </a:cubicBezTo>
                <a:cubicBezTo>
                  <a:pt x="11431" y="8738"/>
                  <a:pt x="11418" y="8675"/>
                  <a:pt x="11460" y="8607"/>
                </a:cubicBezTo>
                <a:cubicBezTo>
                  <a:pt x="11514" y="8520"/>
                  <a:pt x="11642" y="8617"/>
                  <a:pt x="11683" y="8657"/>
                </a:cubicBezTo>
                <a:cubicBezTo>
                  <a:pt x="11762" y="8733"/>
                  <a:pt x="11823" y="8837"/>
                  <a:pt x="11906" y="8905"/>
                </a:cubicBezTo>
                <a:cubicBezTo>
                  <a:pt x="11951" y="8942"/>
                  <a:pt x="12067" y="8993"/>
                  <a:pt x="12129" y="8979"/>
                </a:cubicBezTo>
                <a:cubicBezTo>
                  <a:pt x="12146" y="8971"/>
                  <a:pt x="12162" y="8962"/>
                  <a:pt x="12179" y="8954"/>
                </a:cubicBezTo>
              </a:path>
              <a:path w="1911" h="1217">
                <a:moveTo>
                  <a:pt x="12278" y="8434"/>
                </a:moveTo>
                <a:cubicBezTo>
                  <a:pt x="12384" y="8668"/>
                  <a:pt x="12428" y="8739"/>
                  <a:pt x="12601" y="8905"/>
                </a:cubicBezTo>
                <a:cubicBezTo>
                  <a:pt x="12670" y="8971"/>
                  <a:pt x="12756" y="8988"/>
                  <a:pt x="12849" y="9004"/>
                </a:cubicBezTo>
              </a:path>
              <a:path w="1911" h="1217">
                <a:moveTo>
                  <a:pt x="12576" y="8409"/>
                </a:moveTo>
                <a:cubicBezTo>
                  <a:pt x="12427" y="8596"/>
                  <a:pt x="12313" y="8721"/>
                  <a:pt x="12229" y="8930"/>
                </a:cubicBezTo>
                <a:cubicBezTo>
                  <a:pt x="12202" y="8998"/>
                  <a:pt x="12151" y="8998"/>
                  <a:pt x="12179" y="9054"/>
                </a:cubicBezTo>
              </a:path>
              <a:path w="1911" h="1217">
                <a:moveTo>
                  <a:pt x="13047" y="8508"/>
                </a:moveTo>
                <a:cubicBezTo>
                  <a:pt x="13146" y="8508"/>
                  <a:pt x="13163" y="8508"/>
                  <a:pt x="13221" y="8508"/>
                </a:cubicBezTo>
              </a:path>
              <a:path w="1911" h="1217">
                <a:moveTo>
                  <a:pt x="12874" y="8607"/>
                </a:moveTo>
                <a:cubicBezTo>
                  <a:pt x="13039" y="8634"/>
                  <a:pt x="13179" y="8657"/>
                  <a:pt x="13345" y="865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Ink 8"/>
          <p:cNvSpPr/>
          <p:nvPr/>
        </p:nvSpPr>
        <p:spPr>
          <a:xfrm>
            <a:off x="5037120" y="2732040"/>
            <a:ext cx="1436760" cy="598680"/>
          </a:xfrm>
          <a:custGeom>
            <a:avLst/>
            <a:gdLst/>
            <a:ahLst/>
            <a:rect l="l" t="t" r="r" b="b"/>
            <a:pathLst>
              <a:path w="3994" h="1663">
                <a:moveTo>
                  <a:pt x="13990" y="8409"/>
                </a:moveTo>
                <a:cubicBezTo>
                  <a:pt x="14114" y="8409"/>
                  <a:pt x="14238" y="8409"/>
                  <a:pt x="14362" y="8409"/>
                </a:cubicBezTo>
              </a:path>
              <a:path w="3994" h="1663">
                <a:moveTo>
                  <a:pt x="15255" y="7665"/>
                </a:moveTo>
                <a:cubicBezTo>
                  <a:pt x="15146" y="7827"/>
                  <a:pt x="15015" y="7976"/>
                  <a:pt x="14908" y="8136"/>
                </a:cubicBezTo>
                <a:cubicBezTo>
                  <a:pt x="14847" y="8227"/>
                  <a:pt x="14759" y="8469"/>
                  <a:pt x="14759" y="8582"/>
                </a:cubicBezTo>
                <a:cubicBezTo>
                  <a:pt x="14759" y="8703"/>
                  <a:pt x="14788" y="8902"/>
                  <a:pt x="14858" y="9004"/>
                </a:cubicBezTo>
                <a:cubicBezTo>
                  <a:pt x="14916" y="9088"/>
                  <a:pt x="15074" y="9203"/>
                  <a:pt x="15180" y="9203"/>
                </a:cubicBezTo>
                <a:cubicBezTo>
                  <a:pt x="15221" y="9195"/>
                  <a:pt x="15263" y="9186"/>
                  <a:pt x="15304" y="9178"/>
                </a:cubicBezTo>
              </a:path>
              <a:path w="3994" h="1663">
                <a:moveTo>
                  <a:pt x="15379" y="8285"/>
                </a:moveTo>
                <a:cubicBezTo>
                  <a:pt x="15451" y="8469"/>
                  <a:pt x="15497" y="8502"/>
                  <a:pt x="15627" y="8632"/>
                </a:cubicBezTo>
                <a:cubicBezTo>
                  <a:pt x="15748" y="8753"/>
                  <a:pt x="15844" y="8848"/>
                  <a:pt x="15999" y="8930"/>
                </a:cubicBezTo>
                <a:cubicBezTo>
                  <a:pt x="16087" y="8974"/>
                  <a:pt x="16109" y="8990"/>
                  <a:pt x="16173" y="8979"/>
                </a:cubicBezTo>
              </a:path>
              <a:path w="3994" h="1663">
                <a:moveTo>
                  <a:pt x="15801" y="8285"/>
                </a:moveTo>
                <a:cubicBezTo>
                  <a:pt x="15706" y="8450"/>
                  <a:pt x="15552" y="8669"/>
                  <a:pt x="15478" y="8855"/>
                </a:cubicBezTo>
                <a:cubicBezTo>
                  <a:pt x="15452" y="8921"/>
                  <a:pt x="15442" y="9011"/>
                  <a:pt x="15429" y="9079"/>
                </a:cubicBezTo>
              </a:path>
              <a:path w="3994" h="1663">
                <a:moveTo>
                  <a:pt x="16396" y="8111"/>
                </a:moveTo>
                <a:cubicBezTo>
                  <a:pt x="16551" y="8163"/>
                  <a:pt x="16542" y="8182"/>
                  <a:pt x="16545" y="8359"/>
                </a:cubicBezTo>
                <a:cubicBezTo>
                  <a:pt x="16548" y="8516"/>
                  <a:pt x="16545" y="8673"/>
                  <a:pt x="16545" y="8830"/>
                </a:cubicBezTo>
              </a:path>
              <a:path w="3994" h="1663">
                <a:moveTo>
                  <a:pt x="16247" y="8558"/>
                </a:moveTo>
                <a:cubicBezTo>
                  <a:pt x="16388" y="8558"/>
                  <a:pt x="16531" y="8556"/>
                  <a:pt x="16669" y="8533"/>
                </a:cubicBezTo>
                <a:cubicBezTo>
                  <a:pt x="16702" y="8525"/>
                  <a:pt x="16735" y="8516"/>
                  <a:pt x="16768" y="8508"/>
                </a:cubicBezTo>
              </a:path>
              <a:path w="3994" h="1663">
                <a:moveTo>
                  <a:pt x="17016" y="8210"/>
                </a:moveTo>
                <a:cubicBezTo>
                  <a:pt x="16975" y="8256"/>
                  <a:pt x="16843" y="8374"/>
                  <a:pt x="16942" y="8434"/>
                </a:cubicBezTo>
                <a:cubicBezTo>
                  <a:pt x="17001" y="8470"/>
                  <a:pt x="17124" y="8480"/>
                  <a:pt x="17190" y="8483"/>
                </a:cubicBezTo>
                <a:cubicBezTo>
                  <a:pt x="17299" y="8488"/>
                  <a:pt x="17360" y="8452"/>
                  <a:pt x="17438" y="8384"/>
                </a:cubicBezTo>
              </a:path>
              <a:path w="3994" h="1663">
                <a:moveTo>
                  <a:pt x="17264" y="8285"/>
                </a:moveTo>
                <a:cubicBezTo>
                  <a:pt x="17241" y="8478"/>
                  <a:pt x="17197" y="8643"/>
                  <a:pt x="17239" y="8830"/>
                </a:cubicBezTo>
                <a:cubicBezTo>
                  <a:pt x="17257" y="8911"/>
                  <a:pt x="17275" y="9014"/>
                  <a:pt x="17314" y="9079"/>
                </a:cubicBezTo>
              </a:path>
              <a:path w="3994" h="1663">
                <a:moveTo>
                  <a:pt x="17686" y="7590"/>
                </a:moveTo>
                <a:cubicBezTo>
                  <a:pt x="17802" y="7774"/>
                  <a:pt x="17887" y="7971"/>
                  <a:pt x="17934" y="8186"/>
                </a:cubicBezTo>
                <a:cubicBezTo>
                  <a:pt x="17982" y="8405"/>
                  <a:pt x="18007" y="8638"/>
                  <a:pt x="17934" y="8855"/>
                </a:cubicBezTo>
                <a:cubicBezTo>
                  <a:pt x="17891" y="8982"/>
                  <a:pt x="17827" y="9060"/>
                  <a:pt x="17735" y="9153"/>
                </a:cubicBezTo>
                <a:cubicBezTo>
                  <a:pt x="17671" y="9218"/>
                  <a:pt x="17635" y="9242"/>
                  <a:pt x="17562" y="925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Ink 9"/>
          <p:cNvSpPr/>
          <p:nvPr/>
        </p:nvSpPr>
        <p:spPr>
          <a:xfrm>
            <a:off x="1374840" y="3259080"/>
            <a:ext cx="1278000" cy="992160"/>
          </a:xfrm>
          <a:custGeom>
            <a:avLst/>
            <a:gdLst/>
            <a:ahLst/>
            <a:rect l="l" t="t" r="r" b="b"/>
            <a:pathLst>
              <a:path w="3548" h="2754">
                <a:moveTo>
                  <a:pt x="5804" y="9277"/>
                </a:moveTo>
                <a:cubicBezTo>
                  <a:pt x="5895" y="9269"/>
                  <a:pt x="5984" y="9264"/>
                  <a:pt x="6077" y="9252"/>
                </a:cubicBezTo>
                <a:cubicBezTo>
                  <a:pt x="6127" y="9244"/>
                  <a:pt x="6176" y="9235"/>
                  <a:pt x="6226" y="9227"/>
                </a:cubicBezTo>
              </a:path>
              <a:path w="3548" h="2754">
                <a:moveTo>
                  <a:pt x="6474" y="9054"/>
                </a:moveTo>
                <a:cubicBezTo>
                  <a:pt x="6575" y="9143"/>
                  <a:pt x="6704" y="9231"/>
                  <a:pt x="6796" y="9327"/>
                </a:cubicBezTo>
                <a:cubicBezTo>
                  <a:pt x="6883" y="9418"/>
                  <a:pt x="6976" y="9517"/>
                  <a:pt x="7069" y="9599"/>
                </a:cubicBezTo>
                <a:cubicBezTo>
                  <a:pt x="7150" y="9653"/>
                  <a:pt x="7181" y="9673"/>
                  <a:pt x="7243" y="9699"/>
                </a:cubicBezTo>
              </a:path>
              <a:path w="3548" h="2754">
                <a:moveTo>
                  <a:pt x="6970" y="9079"/>
                </a:moveTo>
                <a:cubicBezTo>
                  <a:pt x="6869" y="9215"/>
                  <a:pt x="6771" y="9343"/>
                  <a:pt x="6672" y="9475"/>
                </a:cubicBezTo>
                <a:cubicBezTo>
                  <a:pt x="6623" y="9550"/>
                  <a:pt x="6607" y="9575"/>
                  <a:pt x="6573" y="9624"/>
                </a:cubicBezTo>
              </a:path>
              <a:path w="3548" h="2754">
                <a:moveTo>
                  <a:pt x="3845" y="9302"/>
                </a:moveTo>
                <a:cubicBezTo>
                  <a:pt x="3962" y="9342"/>
                  <a:pt x="4089" y="9307"/>
                  <a:pt x="4217" y="9302"/>
                </a:cubicBezTo>
              </a:path>
              <a:path w="3548" h="2754">
                <a:moveTo>
                  <a:pt x="4713" y="9153"/>
                </a:moveTo>
                <a:cubicBezTo>
                  <a:pt x="4799" y="9327"/>
                  <a:pt x="4879" y="9481"/>
                  <a:pt x="5035" y="9599"/>
                </a:cubicBezTo>
                <a:cubicBezTo>
                  <a:pt x="5121" y="9664"/>
                  <a:pt x="5210" y="9684"/>
                  <a:pt x="5308" y="9723"/>
                </a:cubicBezTo>
              </a:path>
              <a:path w="3548" h="2754">
                <a:moveTo>
                  <a:pt x="4986" y="9252"/>
                </a:moveTo>
                <a:cubicBezTo>
                  <a:pt x="4876" y="9384"/>
                  <a:pt x="4773" y="9499"/>
                  <a:pt x="4688" y="9649"/>
                </a:cubicBezTo>
                <a:cubicBezTo>
                  <a:pt x="4680" y="9666"/>
                  <a:pt x="4671" y="9682"/>
                  <a:pt x="4663" y="9699"/>
                </a:cubicBezTo>
              </a:path>
              <a:path w="3548" h="2754">
                <a:moveTo>
                  <a:pt x="4490" y="10418"/>
                </a:moveTo>
                <a:cubicBezTo>
                  <a:pt x="4552" y="10615"/>
                  <a:pt x="4605" y="10657"/>
                  <a:pt x="4713" y="10815"/>
                </a:cubicBezTo>
                <a:cubicBezTo>
                  <a:pt x="4772" y="10902"/>
                  <a:pt x="4886" y="11060"/>
                  <a:pt x="4986" y="11112"/>
                </a:cubicBezTo>
                <a:cubicBezTo>
                  <a:pt x="5075" y="11134"/>
                  <a:pt x="5100" y="11135"/>
                  <a:pt x="5135" y="11187"/>
                </a:cubicBezTo>
              </a:path>
              <a:path w="3548" h="2754">
                <a:moveTo>
                  <a:pt x="4911" y="10294"/>
                </a:moveTo>
                <a:cubicBezTo>
                  <a:pt x="4810" y="10425"/>
                  <a:pt x="4660" y="10588"/>
                  <a:pt x="4589" y="10740"/>
                </a:cubicBezTo>
                <a:cubicBezTo>
                  <a:pt x="4548" y="10826"/>
                  <a:pt x="4470" y="10947"/>
                  <a:pt x="4440" y="11038"/>
                </a:cubicBezTo>
                <a:cubicBezTo>
                  <a:pt x="4440" y="11088"/>
                  <a:pt x="4440" y="11104"/>
                  <a:pt x="4440" y="11137"/>
                </a:cubicBezTo>
              </a:path>
              <a:path w="3548" h="2754">
                <a:moveTo>
                  <a:pt x="5234" y="10592"/>
                </a:moveTo>
                <a:cubicBezTo>
                  <a:pt x="5363" y="10592"/>
                  <a:pt x="5445" y="10580"/>
                  <a:pt x="5556" y="10616"/>
                </a:cubicBezTo>
              </a:path>
              <a:path w="3548" h="2754">
                <a:moveTo>
                  <a:pt x="5333" y="10815"/>
                </a:moveTo>
                <a:cubicBezTo>
                  <a:pt x="5430" y="10826"/>
                  <a:pt x="5508" y="10837"/>
                  <a:pt x="5606" y="10815"/>
                </a:cubicBezTo>
                <a:cubicBezTo>
                  <a:pt x="5631" y="10807"/>
                  <a:pt x="5655" y="10798"/>
                  <a:pt x="5680" y="10790"/>
                </a:cubicBezTo>
              </a:path>
              <a:path w="3548" h="2754">
                <a:moveTo>
                  <a:pt x="6176" y="10542"/>
                </a:moveTo>
                <a:cubicBezTo>
                  <a:pt x="6135" y="10583"/>
                  <a:pt x="5997" y="10690"/>
                  <a:pt x="6003" y="10765"/>
                </a:cubicBezTo>
                <a:cubicBezTo>
                  <a:pt x="6007" y="10809"/>
                  <a:pt x="6125" y="10836"/>
                  <a:pt x="6152" y="10840"/>
                </a:cubicBezTo>
                <a:cubicBezTo>
                  <a:pt x="6237" y="10851"/>
                  <a:pt x="6344" y="10833"/>
                  <a:pt x="6424" y="10815"/>
                </a:cubicBezTo>
                <a:cubicBezTo>
                  <a:pt x="6502" y="10789"/>
                  <a:pt x="6530" y="10779"/>
                  <a:pt x="6573" y="10740"/>
                </a:cubicBezTo>
              </a:path>
              <a:path w="3548" h="2754">
                <a:moveTo>
                  <a:pt x="6648" y="10269"/>
                </a:moveTo>
                <a:cubicBezTo>
                  <a:pt x="6570" y="10468"/>
                  <a:pt x="6475" y="10673"/>
                  <a:pt x="6449" y="10889"/>
                </a:cubicBezTo>
                <a:cubicBezTo>
                  <a:pt x="6437" y="10990"/>
                  <a:pt x="6422" y="11191"/>
                  <a:pt x="6474" y="11286"/>
                </a:cubicBezTo>
                <a:cubicBezTo>
                  <a:pt x="6520" y="11332"/>
                  <a:pt x="6532" y="11351"/>
                  <a:pt x="6573" y="11311"/>
                </a:cubicBezTo>
              </a:path>
              <a:path w="3548" h="2754">
                <a:moveTo>
                  <a:pt x="7020" y="10517"/>
                </a:moveTo>
                <a:cubicBezTo>
                  <a:pt x="6822" y="10327"/>
                  <a:pt x="6684" y="10246"/>
                  <a:pt x="6449" y="10120"/>
                </a:cubicBezTo>
                <a:cubicBezTo>
                  <a:pt x="6215" y="9995"/>
                  <a:pt x="5968" y="9920"/>
                  <a:pt x="5705" y="9872"/>
                </a:cubicBezTo>
                <a:cubicBezTo>
                  <a:pt x="5390" y="9815"/>
                  <a:pt x="5055" y="9791"/>
                  <a:pt x="4738" y="9847"/>
                </a:cubicBezTo>
                <a:cubicBezTo>
                  <a:pt x="4513" y="9886"/>
                  <a:pt x="4275" y="9993"/>
                  <a:pt x="4093" y="10120"/>
                </a:cubicBezTo>
                <a:cubicBezTo>
                  <a:pt x="3941" y="10225"/>
                  <a:pt x="3829" y="10311"/>
                  <a:pt x="3820" y="10492"/>
                </a:cubicBezTo>
                <a:cubicBezTo>
                  <a:pt x="3810" y="10683"/>
                  <a:pt x="3838" y="10750"/>
                  <a:pt x="3969" y="10889"/>
                </a:cubicBezTo>
                <a:cubicBezTo>
                  <a:pt x="4216" y="11151"/>
                  <a:pt x="4552" y="11315"/>
                  <a:pt x="4887" y="11435"/>
                </a:cubicBezTo>
                <a:cubicBezTo>
                  <a:pt x="5152" y="11530"/>
                  <a:pt x="5432" y="11612"/>
                  <a:pt x="5705" y="11683"/>
                </a:cubicBezTo>
                <a:cubicBezTo>
                  <a:pt x="5947" y="11746"/>
                  <a:pt x="6220" y="11843"/>
                  <a:pt x="6474" y="11807"/>
                </a:cubicBezTo>
                <a:cubicBezTo>
                  <a:pt x="6723" y="11772"/>
                  <a:pt x="7009" y="11675"/>
                  <a:pt x="7193" y="11509"/>
                </a:cubicBezTo>
                <a:cubicBezTo>
                  <a:pt x="7374" y="11345"/>
                  <a:pt x="7383" y="11178"/>
                  <a:pt x="7367" y="10939"/>
                </a:cubicBezTo>
                <a:cubicBezTo>
                  <a:pt x="7355" y="10747"/>
                  <a:pt x="7226" y="10569"/>
                  <a:pt x="7094" y="10443"/>
                </a:cubicBezTo>
                <a:cubicBezTo>
                  <a:pt x="6863" y="10223"/>
                  <a:pt x="6558" y="10130"/>
                  <a:pt x="6251" y="10071"/>
                </a:cubicBezTo>
                <a:cubicBezTo>
                  <a:pt x="6177" y="10063"/>
                  <a:pt x="6102" y="10054"/>
                  <a:pt x="6028" y="1004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Ink 10"/>
          <p:cNvSpPr/>
          <p:nvPr/>
        </p:nvSpPr>
        <p:spPr>
          <a:xfrm>
            <a:off x="4089240" y="3402000"/>
            <a:ext cx="2144880" cy="785880"/>
          </a:xfrm>
          <a:custGeom>
            <a:avLst/>
            <a:gdLst/>
            <a:ahLst/>
            <a:rect l="l" t="t" r="r" b="b"/>
            <a:pathLst>
              <a:path w="5954" h="2183">
                <a:moveTo>
                  <a:pt x="11708" y="9674"/>
                </a:moveTo>
                <a:cubicBezTo>
                  <a:pt x="11746" y="9627"/>
                  <a:pt x="11771" y="9573"/>
                  <a:pt x="11807" y="9525"/>
                </a:cubicBezTo>
                <a:cubicBezTo>
                  <a:pt x="11847" y="9472"/>
                  <a:pt x="11920" y="9454"/>
                  <a:pt x="11981" y="9451"/>
                </a:cubicBezTo>
                <a:cubicBezTo>
                  <a:pt x="12090" y="9446"/>
                  <a:pt x="12133" y="9528"/>
                  <a:pt x="12179" y="9624"/>
                </a:cubicBezTo>
                <a:cubicBezTo>
                  <a:pt x="12241" y="9752"/>
                  <a:pt x="12185" y="9893"/>
                  <a:pt x="12154" y="10021"/>
                </a:cubicBezTo>
                <a:cubicBezTo>
                  <a:pt x="12117" y="10175"/>
                  <a:pt x="12069" y="10223"/>
                  <a:pt x="11956" y="10319"/>
                </a:cubicBezTo>
                <a:cubicBezTo>
                  <a:pt x="11901" y="10366"/>
                  <a:pt x="11775" y="10411"/>
                  <a:pt x="11708" y="10344"/>
                </a:cubicBezTo>
                <a:cubicBezTo>
                  <a:pt x="11657" y="10293"/>
                  <a:pt x="11658" y="10237"/>
                  <a:pt x="11658" y="10170"/>
                </a:cubicBezTo>
                <a:cubicBezTo>
                  <a:pt x="11658" y="10118"/>
                  <a:pt x="11659" y="10100"/>
                  <a:pt x="11683" y="10071"/>
                </a:cubicBezTo>
                <a:cubicBezTo>
                  <a:pt x="11792" y="10085"/>
                  <a:pt x="11781" y="10150"/>
                  <a:pt x="11857" y="10195"/>
                </a:cubicBezTo>
                <a:cubicBezTo>
                  <a:pt x="11918" y="10231"/>
                  <a:pt x="12052" y="10327"/>
                  <a:pt x="12129" y="10344"/>
                </a:cubicBezTo>
                <a:cubicBezTo>
                  <a:pt x="12206" y="10361"/>
                  <a:pt x="12213" y="10343"/>
                  <a:pt x="12254" y="10294"/>
                </a:cubicBezTo>
              </a:path>
              <a:path w="5954" h="2183">
                <a:moveTo>
                  <a:pt x="12402" y="9798"/>
                </a:moveTo>
                <a:cubicBezTo>
                  <a:pt x="12527" y="9991"/>
                  <a:pt x="12642" y="10112"/>
                  <a:pt x="12774" y="10269"/>
                </a:cubicBezTo>
                <a:cubicBezTo>
                  <a:pt x="12853" y="10364"/>
                  <a:pt x="12885" y="10439"/>
                  <a:pt x="13022" y="10468"/>
                </a:cubicBezTo>
                <a:cubicBezTo>
                  <a:pt x="13039" y="10468"/>
                  <a:pt x="13055" y="10468"/>
                  <a:pt x="13072" y="10468"/>
                </a:cubicBezTo>
              </a:path>
              <a:path w="5954" h="2183">
                <a:moveTo>
                  <a:pt x="12824" y="9773"/>
                </a:moveTo>
                <a:cubicBezTo>
                  <a:pt x="12766" y="9931"/>
                  <a:pt x="12701" y="10084"/>
                  <a:pt x="12601" y="10220"/>
                </a:cubicBezTo>
                <a:cubicBezTo>
                  <a:pt x="12576" y="10255"/>
                  <a:pt x="12447" y="10345"/>
                  <a:pt x="12452" y="10393"/>
                </a:cubicBezTo>
                <a:cubicBezTo>
                  <a:pt x="12460" y="10401"/>
                  <a:pt x="12469" y="10410"/>
                  <a:pt x="12477" y="10418"/>
                </a:cubicBezTo>
              </a:path>
              <a:path w="5954" h="2183">
                <a:moveTo>
                  <a:pt x="13196" y="9971"/>
                </a:moveTo>
                <a:cubicBezTo>
                  <a:pt x="13355" y="9971"/>
                  <a:pt x="13383" y="9958"/>
                  <a:pt x="13469" y="9996"/>
                </a:cubicBezTo>
              </a:path>
              <a:path w="5954" h="2183">
                <a:moveTo>
                  <a:pt x="13097" y="10170"/>
                </a:moveTo>
                <a:cubicBezTo>
                  <a:pt x="13325" y="10189"/>
                  <a:pt x="13389" y="10199"/>
                  <a:pt x="13593" y="10170"/>
                </a:cubicBezTo>
              </a:path>
              <a:path w="5954" h="2183">
                <a:moveTo>
                  <a:pt x="13940" y="9699"/>
                </a:moveTo>
                <a:cubicBezTo>
                  <a:pt x="14096" y="9711"/>
                  <a:pt x="14234" y="9723"/>
                  <a:pt x="14387" y="9723"/>
                </a:cubicBezTo>
              </a:path>
              <a:path w="5954" h="2183">
                <a:moveTo>
                  <a:pt x="14883" y="9525"/>
                </a:moveTo>
                <a:cubicBezTo>
                  <a:pt x="14918" y="9700"/>
                  <a:pt x="14956" y="9739"/>
                  <a:pt x="15032" y="9872"/>
                </a:cubicBezTo>
                <a:cubicBezTo>
                  <a:pt x="15123" y="10031"/>
                  <a:pt x="15179" y="10129"/>
                  <a:pt x="15304" y="10269"/>
                </a:cubicBezTo>
                <a:cubicBezTo>
                  <a:pt x="15416" y="10395"/>
                  <a:pt x="15512" y="10524"/>
                  <a:pt x="15652" y="10616"/>
                </a:cubicBezTo>
              </a:path>
              <a:path w="5954" h="2183">
                <a:moveTo>
                  <a:pt x="15453" y="9624"/>
                </a:moveTo>
                <a:cubicBezTo>
                  <a:pt x="15349" y="9776"/>
                  <a:pt x="15253" y="9915"/>
                  <a:pt x="15156" y="10071"/>
                </a:cubicBezTo>
                <a:cubicBezTo>
                  <a:pt x="15080" y="10194"/>
                  <a:pt x="14972" y="10315"/>
                  <a:pt x="14908" y="10443"/>
                </a:cubicBezTo>
                <a:cubicBezTo>
                  <a:pt x="14880" y="10500"/>
                  <a:pt x="14845" y="10580"/>
                  <a:pt x="14833" y="10641"/>
                </a:cubicBezTo>
              </a:path>
              <a:path w="5954" h="2183">
                <a:moveTo>
                  <a:pt x="15652" y="10021"/>
                </a:moveTo>
                <a:cubicBezTo>
                  <a:pt x="15897" y="10021"/>
                  <a:pt x="16093" y="10037"/>
                  <a:pt x="16321" y="9996"/>
                </a:cubicBezTo>
              </a:path>
              <a:path w="5954" h="2183">
                <a:moveTo>
                  <a:pt x="16793" y="9823"/>
                </a:moveTo>
                <a:cubicBezTo>
                  <a:pt x="16716" y="9924"/>
                  <a:pt x="16630" y="10000"/>
                  <a:pt x="16619" y="10120"/>
                </a:cubicBezTo>
                <a:cubicBezTo>
                  <a:pt x="16608" y="10240"/>
                  <a:pt x="16679" y="10234"/>
                  <a:pt x="16768" y="10269"/>
                </a:cubicBezTo>
                <a:cubicBezTo>
                  <a:pt x="16844" y="10299"/>
                  <a:pt x="16957" y="10310"/>
                  <a:pt x="17041" y="10294"/>
                </a:cubicBezTo>
                <a:cubicBezTo>
                  <a:pt x="17112" y="10270"/>
                  <a:pt x="17135" y="10263"/>
                  <a:pt x="17165" y="10220"/>
                </a:cubicBezTo>
              </a:path>
              <a:path w="5954" h="2183">
                <a:moveTo>
                  <a:pt x="17165" y="9451"/>
                </a:moveTo>
                <a:cubicBezTo>
                  <a:pt x="17080" y="9742"/>
                  <a:pt x="17011" y="9939"/>
                  <a:pt x="17066" y="10244"/>
                </a:cubicBezTo>
                <a:cubicBezTo>
                  <a:pt x="17139" y="10653"/>
                  <a:pt x="17223" y="11055"/>
                  <a:pt x="17314" y="11460"/>
                </a:cubicBezTo>
              </a:path>
              <a:path w="5954" h="2183">
                <a:moveTo>
                  <a:pt x="14337" y="10815"/>
                </a:moveTo>
                <a:cubicBezTo>
                  <a:pt x="14316" y="10967"/>
                  <a:pt x="14312" y="11107"/>
                  <a:pt x="14312" y="11261"/>
                </a:cubicBezTo>
                <a:cubicBezTo>
                  <a:pt x="14312" y="11346"/>
                  <a:pt x="14328" y="11425"/>
                  <a:pt x="14337" y="11509"/>
                </a:cubicBezTo>
              </a:path>
              <a:path w="5954" h="2183">
                <a:moveTo>
                  <a:pt x="14039" y="11112"/>
                </a:moveTo>
                <a:cubicBezTo>
                  <a:pt x="14156" y="11088"/>
                  <a:pt x="14267" y="11088"/>
                  <a:pt x="14387" y="11088"/>
                </a:cubicBezTo>
                <a:cubicBezTo>
                  <a:pt x="14420" y="11088"/>
                  <a:pt x="14453" y="11088"/>
                  <a:pt x="14486" y="11088"/>
                </a:cubicBezTo>
              </a:path>
              <a:path w="5954" h="2183">
                <a:moveTo>
                  <a:pt x="14734" y="10939"/>
                </a:moveTo>
                <a:cubicBezTo>
                  <a:pt x="14840" y="11113"/>
                  <a:pt x="14943" y="11234"/>
                  <a:pt x="15056" y="11385"/>
                </a:cubicBezTo>
                <a:cubicBezTo>
                  <a:pt x="15149" y="11509"/>
                  <a:pt x="15228" y="11606"/>
                  <a:pt x="15379" y="11633"/>
                </a:cubicBezTo>
              </a:path>
              <a:path w="5954" h="2183">
                <a:moveTo>
                  <a:pt x="15255" y="10939"/>
                </a:moveTo>
                <a:cubicBezTo>
                  <a:pt x="15122" y="11065"/>
                  <a:pt x="15001" y="11193"/>
                  <a:pt x="14883" y="11336"/>
                </a:cubicBezTo>
                <a:cubicBezTo>
                  <a:pt x="14820" y="11429"/>
                  <a:pt x="14789" y="11472"/>
                  <a:pt x="14734" y="11534"/>
                </a:cubicBezTo>
              </a:path>
              <a:path w="5954" h="2183">
                <a:moveTo>
                  <a:pt x="11633" y="10567"/>
                </a:moveTo>
                <a:cubicBezTo>
                  <a:pt x="11623" y="10718"/>
                  <a:pt x="11612" y="10862"/>
                  <a:pt x="11633" y="11013"/>
                </a:cubicBezTo>
                <a:cubicBezTo>
                  <a:pt x="11648" y="11124"/>
                  <a:pt x="11665" y="11116"/>
                  <a:pt x="11683" y="11187"/>
                </a:cubicBezTo>
              </a:path>
              <a:path w="5954" h="2183">
                <a:moveTo>
                  <a:pt x="11361" y="10716"/>
                </a:moveTo>
                <a:cubicBezTo>
                  <a:pt x="11507" y="10742"/>
                  <a:pt x="11634" y="10765"/>
                  <a:pt x="11782" y="10765"/>
                </a:cubicBezTo>
                <a:cubicBezTo>
                  <a:pt x="11867" y="10765"/>
                  <a:pt x="11887" y="10771"/>
                  <a:pt x="11931" y="10740"/>
                </a:cubicBezTo>
              </a:path>
              <a:path w="5954" h="2183">
                <a:moveTo>
                  <a:pt x="12278" y="10616"/>
                </a:moveTo>
                <a:cubicBezTo>
                  <a:pt x="12371" y="10854"/>
                  <a:pt x="12423" y="11025"/>
                  <a:pt x="12626" y="11187"/>
                </a:cubicBezTo>
                <a:cubicBezTo>
                  <a:pt x="12687" y="11236"/>
                  <a:pt x="12754" y="11255"/>
                  <a:pt x="12824" y="11286"/>
                </a:cubicBezTo>
              </a:path>
              <a:path w="5954" h="2183">
                <a:moveTo>
                  <a:pt x="12626" y="10592"/>
                </a:moveTo>
                <a:cubicBezTo>
                  <a:pt x="12477" y="10706"/>
                  <a:pt x="12348" y="10799"/>
                  <a:pt x="12229" y="1093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Ink 11"/>
          <p:cNvSpPr/>
          <p:nvPr/>
        </p:nvSpPr>
        <p:spPr>
          <a:xfrm>
            <a:off x="4330800" y="4286160"/>
            <a:ext cx="1224000" cy="1036800"/>
          </a:xfrm>
          <a:custGeom>
            <a:avLst/>
            <a:gdLst/>
            <a:ahLst/>
            <a:rect l="l" t="t" r="r" b="b"/>
            <a:pathLst>
              <a:path w="3400" h="2879">
                <a:moveTo>
                  <a:pt x="12055" y="12030"/>
                </a:moveTo>
                <a:cubicBezTo>
                  <a:pt x="12131" y="11976"/>
                  <a:pt x="12194" y="11953"/>
                  <a:pt x="12278" y="11931"/>
                </a:cubicBezTo>
                <a:cubicBezTo>
                  <a:pt x="12408" y="11897"/>
                  <a:pt x="12397" y="11912"/>
                  <a:pt x="12502" y="11981"/>
                </a:cubicBezTo>
                <a:cubicBezTo>
                  <a:pt x="12551" y="12005"/>
                  <a:pt x="12568" y="12014"/>
                  <a:pt x="12576" y="12055"/>
                </a:cubicBezTo>
                <a:cubicBezTo>
                  <a:pt x="12529" y="12113"/>
                  <a:pt x="12518" y="12165"/>
                  <a:pt x="12452" y="12204"/>
                </a:cubicBezTo>
                <a:cubicBezTo>
                  <a:pt x="12384" y="12244"/>
                  <a:pt x="12316" y="12248"/>
                  <a:pt x="12254" y="12278"/>
                </a:cubicBezTo>
                <a:cubicBezTo>
                  <a:pt x="12350" y="12376"/>
                  <a:pt x="12437" y="12455"/>
                  <a:pt x="12502" y="12576"/>
                </a:cubicBezTo>
                <a:cubicBezTo>
                  <a:pt x="12578" y="12718"/>
                  <a:pt x="12529" y="12757"/>
                  <a:pt x="12452" y="12874"/>
                </a:cubicBezTo>
                <a:cubicBezTo>
                  <a:pt x="12405" y="12946"/>
                  <a:pt x="12319" y="12972"/>
                  <a:pt x="12229" y="12948"/>
                </a:cubicBezTo>
                <a:cubicBezTo>
                  <a:pt x="12137" y="12924"/>
                  <a:pt x="12107" y="12842"/>
                  <a:pt x="12080" y="12774"/>
                </a:cubicBezTo>
                <a:cubicBezTo>
                  <a:pt x="12051" y="12718"/>
                  <a:pt x="12046" y="12694"/>
                  <a:pt x="12080" y="12650"/>
                </a:cubicBezTo>
              </a:path>
              <a:path w="3400" h="2879">
                <a:moveTo>
                  <a:pt x="12774" y="12378"/>
                </a:moveTo>
                <a:cubicBezTo>
                  <a:pt x="12892" y="12569"/>
                  <a:pt x="13008" y="12786"/>
                  <a:pt x="13196" y="12923"/>
                </a:cubicBezTo>
                <a:cubicBezTo>
                  <a:pt x="13296" y="12996"/>
                  <a:pt x="13399" y="13037"/>
                  <a:pt x="13519" y="13047"/>
                </a:cubicBezTo>
              </a:path>
              <a:path w="3400" h="2879">
                <a:moveTo>
                  <a:pt x="13146" y="12229"/>
                </a:moveTo>
                <a:cubicBezTo>
                  <a:pt x="13028" y="12404"/>
                  <a:pt x="12921" y="12565"/>
                  <a:pt x="12824" y="12750"/>
                </a:cubicBezTo>
                <a:cubicBezTo>
                  <a:pt x="12800" y="12795"/>
                  <a:pt x="12773" y="12858"/>
                  <a:pt x="12750" y="12874"/>
                </a:cubicBezTo>
              </a:path>
              <a:path w="3400" h="2879">
                <a:moveTo>
                  <a:pt x="13271" y="12477"/>
                </a:moveTo>
                <a:cubicBezTo>
                  <a:pt x="13420" y="12477"/>
                  <a:pt x="13568" y="12477"/>
                  <a:pt x="13717" y="12477"/>
                </a:cubicBezTo>
              </a:path>
              <a:path w="3400" h="2879">
                <a:moveTo>
                  <a:pt x="13370" y="12551"/>
                </a:moveTo>
                <a:cubicBezTo>
                  <a:pt x="13432" y="12639"/>
                  <a:pt x="13489" y="12624"/>
                  <a:pt x="13593" y="12650"/>
                </a:cubicBezTo>
                <a:cubicBezTo>
                  <a:pt x="13685" y="12673"/>
                  <a:pt x="13710" y="12684"/>
                  <a:pt x="13767" y="12650"/>
                </a:cubicBezTo>
              </a:path>
              <a:path w="3400" h="2879">
                <a:moveTo>
                  <a:pt x="14089" y="12502"/>
                </a:moveTo>
                <a:cubicBezTo>
                  <a:pt x="14279" y="12520"/>
                  <a:pt x="14304" y="12528"/>
                  <a:pt x="14412" y="12526"/>
                </a:cubicBezTo>
              </a:path>
              <a:path w="3400" h="2879">
                <a:moveTo>
                  <a:pt x="14808" y="12154"/>
                </a:moveTo>
                <a:cubicBezTo>
                  <a:pt x="14728" y="12248"/>
                  <a:pt x="14668" y="12314"/>
                  <a:pt x="14709" y="12452"/>
                </a:cubicBezTo>
                <a:cubicBezTo>
                  <a:pt x="14725" y="12505"/>
                  <a:pt x="14865" y="12569"/>
                  <a:pt x="14908" y="12576"/>
                </a:cubicBezTo>
                <a:cubicBezTo>
                  <a:pt x="14967" y="12585"/>
                  <a:pt x="15003" y="12571"/>
                  <a:pt x="15056" y="12551"/>
                </a:cubicBezTo>
              </a:path>
              <a:path w="3400" h="2879">
                <a:moveTo>
                  <a:pt x="15131" y="11906"/>
                </a:moveTo>
                <a:cubicBezTo>
                  <a:pt x="15092" y="12109"/>
                  <a:pt x="15056" y="12275"/>
                  <a:pt x="15056" y="12477"/>
                </a:cubicBezTo>
                <a:cubicBezTo>
                  <a:pt x="15056" y="12617"/>
                  <a:pt x="15056" y="12758"/>
                  <a:pt x="15056" y="12898"/>
                </a:cubicBezTo>
              </a:path>
              <a:path w="3400" h="2879">
                <a:moveTo>
                  <a:pt x="12254" y="12824"/>
                </a:moveTo>
                <a:cubicBezTo>
                  <a:pt x="12485" y="12789"/>
                  <a:pt x="12715" y="12814"/>
                  <a:pt x="12948" y="12799"/>
                </a:cubicBezTo>
                <a:cubicBezTo>
                  <a:pt x="13154" y="12778"/>
                  <a:pt x="13195" y="12770"/>
                  <a:pt x="13320" y="12774"/>
                </a:cubicBezTo>
              </a:path>
              <a:path w="3400" h="2879">
                <a:moveTo>
                  <a:pt x="12824" y="13022"/>
                </a:moveTo>
                <a:cubicBezTo>
                  <a:pt x="12872" y="13149"/>
                  <a:pt x="12867" y="13146"/>
                  <a:pt x="12998" y="13146"/>
                </a:cubicBezTo>
                <a:cubicBezTo>
                  <a:pt x="13039" y="13146"/>
                  <a:pt x="13157" y="13169"/>
                  <a:pt x="13171" y="13221"/>
                </a:cubicBezTo>
                <a:cubicBezTo>
                  <a:pt x="13202" y="13337"/>
                  <a:pt x="13117" y="13321"/>
                  <a:pt x="13047" y="13345"/>
                </a:cubicBezTo>
                <a:cubicBezTo>
                  <a:pt x="12968" y="13372"/>
                  <a:pt x="12935" y="13395"/>
                  <a:pt x="12849" y="13395"/>
                </a:cubicBezTo>
                <a:cubicBezTo>
                  <a:pt x="12902" y="13447"/>
                  <a:pt x="12939" y="13441"/>
                  <a:pt x="12998" y="13469"/>
                </a:cubicBezTo>
                <a:cubicBezTo>
                  <a:pt x="13094" y="13514"/>
                  <a:pt x="13136" y="13598"/>
                  <a:pt x="13171" y="13692"/>
                </a:cubicBezTo>
                <a:cubicBezTo>
                  <a:pt x="13217" y="13815"/>
                  <a:pt x="13147" y="13891"/>
                  <a:pt x="13047" y="13965"/>
                </a:cubicBezTo>
                <a:cubicBezTo>
                  <a:pt x="12969" y="14023"/>
                  <a:pt x="12877" y="14027"/>
                  <a:pt x="12799" y="13990"/>
                </a:cubicBezTo>
                <a:cubicBezTo>
                  <a:pt x="12721" y="13953"/>
                  <a:pt x="12705" y="13921"/>
                  <a:pt x="12750" y="13841"/>
                </a:cubicBezTo>
                <a:cubicBezTo>
                  <a:pt x="12766" y="13816"/>
                  <a:pt x="12783" y="13792"/>
                  <a:pt x="12799" y="13767"/>
                </a:cubicBezTo>
              </a:path>
              <a:path w="3400" h="2879">
                <a:moveTo>
                  <a:pt x="14709" y="13146"/>
                </a:moveTo>
                <a:cubicBezTo>
                  <a:pt x="14925" y="13118"/>
                  <a:pt x="15123" y="13102"/>
                  <a:pt x="15329" y="13047"/>
                </a:cubicBezTo>
                <a:cubicBezTo>
                  <a:pt x="15362" y="13039"/>
                  <a:pt x="15396" y="13030"/>
                  <a:pt x="15429" y="13022"/>
                </a:cubicBezTo>
              </a:path>
              <a:path w="3400" h="2879">
                <a:moveTo>
                  <a:pt x="14833" y="13345"/>
                </a:moveTo>
                <a:cubicBezTo>
                  <a:pt x="14949" y="13345"/>
                  <a:pt x="15046" y="13314"/>
                  <a:pt x="15156" y="13345"/>
                </a:cubicBezTo>
                <a:cubicBezTo>
                  <a:pt x="15215" y="13362"/>
                  <a:pt x="15265" y="13432"/>
                  <a:pt x="15230" y="13494"/>
                </a:cubicBezTo>
                <a:cubicBezTo>
                  <a:pt x="15187" y="13570"/>
                  <a:pt x="15134" y="13550"/>
                  <a:pt x="15081" y="13593"/>
                </a:cubicBezTo>
                <a:cubicBezTo>
                  <a:pt x="15008" y="13652"/>
                  <a:pt x="15000" y="13657"/>
                  <a:pt x="15056" y="13742"/>
                </a:cubicBezTo>
                <a:cubicBezTo>
                  <a:pt x="15097" y="13803"/>
                  <a:pt x="15149" y="13872"/>
                  <a:pt x="15180" y="13940"/>
                </a:cubicBezTo>
                <a:cubicBezTo>
                  <a:pt x="15220" y="14027"/>
                  <a:pt x="15243" y="14082"/>
                  <a:pt x="15180" y="14163"/>
                </a:cubicBezTo>
                <a:cubicBezTo>
                  <a:pt x="15067" y="14310"/>
                  <a:pt x="14815" y="14115"/>
                  <a:pt x="14734" y="14039"/>
                </a:cubicBezTo>
                <a:cubicBezTo>
                  <a:pt x="14717" y="14006"/>
                  <a:pt x="14701" y="13973"/>
                  <a:pt x="14684" y="13940"/>
                </a:cubicBezTo>
              </a:path>
              <a:path w="3400" h="2879">
                <a:moveTo>
                  <a:pt x="12030" y="11956"/>
                </a:moveTo>
                <a:cubicBezTo>
                  <a:pt x="12179" y="12260"/>
                  <a:pt x="12307" y="12575"/>
                  <a:pt x="12452" y="12874"/>
                </a:cubicBezTo>
                <a:cubicBezTo>
                  <a:pt x="12700" y="13387"/>
                  <a:pt x="12963" y="13891"/>
                  <a:pt x="13196" y="14412"/>
                </a:cubicBezTo>
                <a:cubicBezTo>
                  <a:pt x="13246" y="14536"/>
                  <a:pt x="13295" y="14660"/>
                  <a:pt x="13345" y="1478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Ink 12"/>
          <p:cNvSpPr/>
          <p:nvPr/>
        </p:nvSpPr>
        <p:spPr>
          <a:xfrm>
            <a:off x="4000680" y="4125960"/>
            <a:ext cx="2116080" cy="160200"/>
          </a:xfrm>
          <a:custGeom>
            <a:avLst/>
            <a:gdLst/>
            <a:ahLst/>
            <a:rect l="l" t="t" r="r" b="b"/>
            <a:pathLst>
              <a:path w="5880" h="447">
                <a:moveTo>
                  <a:pt x="11112" y="11460"/>
                </a:moveTo>
                <a:cubicBezTo>
                  <a:pt x="11501" y="11512"/>
                  <a:pt x="11887" y="11548"/>
                  <a:pt x="12278" y="11584"/>
                </a:cubicBezTo>
                <a:cubicBezTo>
                  <a:pt x="12643" y="11618"/>
                  <a:pt x="13005" y="11630"/>
                  <a:pt x="13370" y="11658"/>
                </a:cubicBezTo>
                <a:cubicBezTo>
                  <a:pt x="13863" y="11696"/>
                  <a:pt x="14364" y="11703"/>
                  <a:pt x="14858" y="11708"/>
                </a:cubicBezTo>
                <a:cubicBezTo>
                  <a:pt x="15395" y="11713"/>
                  <a:pt x="15895" y="11749"/>
                  <a:pt x="16421" y="11857"/>
                </a:cubicBezTo>
                <a:cubicBezTo>
                  <a:pt x="16574" y="11888"/>
                  <a:pt x="16735" y="11919"/>
                  <a:pt x="16892" y="11906"/>
                </a:cubicBezTo>
                <a:cubicBezTo>
                  <a:pt x="16953" y="11906"/>
                  <a:pt x="16969" y="11915"/>
                  <a:pt x="16991" y="1188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4.  │3x - 1│ + 7 = 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Ink 4"/>
          <p:cNvSpPr/>
          <p:nvPr/>
        </p:nvSpPr>
        <p:spPr>
          <a:xfrm>
            <a:off x="3017880" y="3990960"/>
            <a:ext cx="1689120" cy="1554120"/>
          </a:xfrm>
          <a:custGeom>
            <a:avLst/>
            <a:gdLst/>
            <a:ahLst/>
            <a:rect l="l" t="t" r="r" b="b"/>
            <a:pathLst>
              <a:path w="4689" h="4317">
                <a:moveTo>
                  <a:pt x="8384" y="14932"/>
                </a:moveTo>
                <a:cubicBezTo>
                  <a:pt x="8434" y="14833"/>
                  <a:pt x="8450" y="14768"/>
                  <a:pt x="8483" y="14635"/>
                </a:cubicBezTo>
                <a:cubicBezTo>
                  <a:pt x="8519" y="14490"/>
                  <a:pt x="8539" y="14360"/>
                  <a:pt x="8558" y="14213"/>
                </a:cubicBezTo>
                <a:cubicBezTo>
                  <a:pt x="8583" y="14022"/>
                  <a:pt x="8582" y="13837"/>
                  <a:pt x="8582" y="13643"/>
                </a:cubicBezTo>
                <a:cubicBezTo>
                  <a:pt x="8582" y="13412"/>
                  <a:pt x="8582" y="13177"/>
                  <a:pt x="8558" y="12948"/>
                </a:cubicBezTo>
                <a:cubicBezTo>
                  <a:pt x="8533" y="12709"/>
                  <a:pt x="8513" y="12467"/>
                  <a:pt x="8483" y="12229"/>
                </a:cubicBezTo>
                <a:cubicBezTo>
                  <a:pt x="8464" y="12075"/>
                  <a:pt x="8440" y="11914"/>
                  <a:pt x="8458" y="11757"/>
                </a:cubicBezTo>
                <a:cubicBezTo>
                  <a:pt x="8458" y="11689"/>
                  <a:pt x="8455" y="11670"/>
                  <a:pt x="8483" y="11633"/>
                </a:cubicBezTo>
                <a:cubicBezTo>
                  <a:pt x="8553" y="11652"/>
                  <a:pt x="8624" y="11654"/>
                  <a:pt x="8682" y="11708"/>
                </a:cubicBezTo>
                <a:cubicBezTo>
                  <a:pt x="8793" y="11812"/>
                  <a:pt x="8851" y="11993"/>
                  <a:pt x="8930" y="12129"/>
                </a:cubicBezTo>
                <a:cubicBezTo>
                  <a:pt x="9025" y="12293"/>
                  <a:pt x="9052" y="12454"/>
                  <a:pt x="9128" y="12626"/>
                </a:cubicBezTo>
                <a:cubicBezTo>
                  <a:pt x="9215" y="12822"/>
                  <a:pt x="9232" y="13018"/>
                  <a:pt x="9302" y="13221"/>
                </a:cubicBezTo>
                <a:cubicBezTo>
                  <a:pt x="9369" y="13415"/>
                  <a:pt x="9388" y="13613"/>
                  <a:pt x="9426" y="13816"/>
                </a:cubicBezTo>
                <a:cubicBezTo>
                  <a:pt x="9465" y="14028"/>
                  <a:pt x="9530" y="14225"/>
                  <a:pt x="9575" y="14436"/>
                </a:cubicBezTo>
                <a:cubicBezTo>
                  <a:pt x="9616" y="14628"/>
                  <a:pt x="9655" y="14792"/>
                  <a:pt x="9748" y="14957"/>
                </a:cubicBezTo>
                <a:cubicBezTo>
                  <a:pt x="9778" y="14987"/>
                  <a:pt x="9789" y="15001"/>
                  <a:pt x="9798" y="15032"/>
                </a:cubicBezTo>
                <a:cubicBezTo>
                  <a:pt x="9860" y="14991"/>
                  <a:pt x="9955" y="14954"/>
                  <a:pt x="9996" y="14883"/>
                </a:cubicBezTo>
                <a:cubicBezTo>
                  <a:pt x="10072" y="14752"/>
                  <a:pt x="10120" y="14605"/>
                  <a:pt x="10170" y="14461"/>
                </a:cubicBezTo>
                <a:cubicBezTo>
                  <a:pt x="10230" y="14287"/>
                  <a:pt x="10341" y="14098"/>
                  <a:pt x="10368" y="13915"/>
                </a:cubicBezTo>
                <a:cubicBezTo>
                  <a:pt x="10406" y="13660"/>
                  <a:pt x="10443" y="13404"/>
                  <a:pt x="10468" y="13146"/>
                </a:cubicBezTo>
                <a:cubicBezTo>
                  <a:pt x="10489" y="12930"/>
                  <a:pt x="10492" y="12720"/>
                  <a:pt x="10492" y="12502"/>
                </a:cubicBezTo>
                <a:cubicBezTo>
                  <a:pt x="10492" y="12265"/>
                  <a:pt x="10459" y="12045"/>
                  <a:pt x="10443" y="11807"/>
                </a:cubicBezTo>
                <a:cubicBezTo>
                  <a:pt x="10436" y="11696"/>
                  <a:pt x="10414" y="11581"/>
                  <a:pt x="10393" y="11485"/>
                </a:cubicBezTo>
                <a:cubicBezTo>
                  <a:pt x="10380" y="11427"/>
                  <a:pt x="10365" y="11389"/>
                  <a:pt x="10344" y="11336"/>
                </a:cubicBezTo>
              </a:path>
              <a:path w="4689" h="4317">
                <a:moveTo>
                  <a:pt x="12849" y="12005"/>
                </a:moveTo>
                <a:cubicBezTo>
                  <a:pt x="12917" y="11942"/>
                  <a:pt x="12983" y="11936"/>
                  <a:pt x="12998" y="11832"/>
                </a:cubicBezTo>
                <a:cubicBezTo>
                  <a:pt x="13008" y="11763"/>
                  <a:pt x="12892" y="11592"/>
                  <a:pt x="12874" y="11534"/>
                </a:cubicBezTo>
                <a:cubicBezTo>
                  <a:pt x="12841" y="11428"/>
                  <a:pt x="12818" y="11378"/>
                  <a:pt x="12750" y="11286"/>
                </a:cubicBezTo>
                <a:cubicBezTo>
                  <a:pt x="12670" y="11177"/>
                  <a:pt x="12629" y="11155"/>
                  <a:pt x="12502" y="11112"/>
                </a:cubicBezTo>
                <a:cubicBezTo>
                  <a:pt x="12397" y="11076"/>
                  <a:pt x="12289" y="11077"/>
                  <a:pt x="12179" y="11112"/>
                </a:cubicBezTo>
                <a:cubicBezTo>
                  <a:pt x="12012" y="11165"/>
                  <a:pt x="11999" y="11212"/>
                  <a:pt x="11881" y="11311"/>
                </a:cubicBezTo>
                <a:cubicBezTo>
                  <a:pt x="11758" y="11415"/>
                  <a:pt x="11717" y="11497"/>
                  <a:pt x="11633" y="11633"/>
                </a:cubicBezTo>
                <a:cubicBezTo>
                  <a:pt x="11543" y="11779"/>
                  <a:pt x="11508" y="11885"/>
                  <a:pt x="11460" y="12055"/>
                </a:cubicBezTo>
                <a:cubicBezTo>
                  <a:pt x="11428" y="12169"/>
                  <a:pt x="11390" y="12261"/>
                  <a:pt x="11385" y="12378"/>
                </a:cubicBezTo>
                <a:cubicBezTo>
                  <a:pt x="11380" y="12499"/>
                  <a:pt x="11375" y="12592"/>
                  <a:pt x="11435" y="12700"/>
                </a:cubicBezTo>
                <a:cubicBezTo>
                  <a:pt x="11461" y="12748"/>
                  <a:pt x="11551" y="12893"/>
                  <a:pt x="11584" y="12923"/>
                </a:cubicBezTo>
                <a:cubicBezTo>
                  <a:pt x="11670" y="13002"/>
                  <a:pt x="11805" y="13047"/>
                  <a:pt x="11906" y="13097"/>
                </a:cubicBezTo>
                <a:cubicBezTo>
                  <a:pt x="12007" y="13147"/>
                  <a:pt x="12129" y="13205"/>
                  <a:pt x="12229" y="13271"/>
                </a:cubicBezTo>
                <a:cubicBezTo>
                  <a:pt x="12355" y="13354"/>
                  <a:pt x="12470" y="13441"/>
                  <a:pt x="12601" y="13519"/>
                </a:cubicBezTo>
                <a:cubicBezTo>
                  <a:pt x="12704" y="13580"/>
                  <a:pt x="12776" y="13611"/>
                  <a:pt x="12849" y="13717"/>
                </a:cubicBezTo>
                <a:cubicBezTo>
                  <a:pt x="12911" y="13807"/>
                  <a:pt x="12954" y="13918"/>
                  <a:pt x="12998" y="14015"/>
                </a:cubicBezTo>
                <a:cubicBezTo>
                  <a:pt x="13043" y="14113"/>
                  <a:pt x="13074" y="14227"/>
                  <a:pt x="13072" y="14337"/>
                </a:cubicBezTo>
                <a:cubicBezTo>
                  <a:pt x="13070" y="14433"/>
                  <a:pt x="13038" y="14515"/>
                  <a:pt x="13022" y="14610"/>
                </a:cubicBezTo>
                <a:cubicBezTo>
                  <a:pt x="13006" y="14707"/>
                  <a:pt x="12988" y="14792"/>
                  <a:pt x="12948" y="14883"/>
                </a:cubicBezTo>
                <a:cubicBezTo>
                  <a:pt x="12894" y="15005"/>
                  <a:pt x="12825" y="15146"/>
                  <a:pt x="12750" y="15255"/>
                </a:cubicBezTo>
                <a:cubicBezTo>
                  <a:pt x="12699" y="15330"/>
                  <a:pt x="12594" y="15392"/>
                  <a:pt x="12502" y="15404"/>
                </a:cubicBezTo>
                <a:cubicBezTo>
                  <a:pt x="12406" y="15417"/>
                  <a:pt x="12321" y="15386"/>
                  <a:pt x="12229" y="15379"/>
                </a:cubicBezTo>
                <a:cubicBezTo>
                  <a:pt x="12073" y="15368"/>
                  <a:pt x="11878" y="15387"/>
                  <a:pt x="11733" y="15329"/>
                </a:cubicBezTo>
                <a:cubicBezTo>
                  <a:pt x="11637" y="15290"/>
                  <a:pt x="11554" y="15219"/>
                  <a:pt x="11460" y="15180"/>
                </a:cubicBezTo>
                <a:cubicBezTo>
                  <a:pt x="11342" y="15131"/>
                  <a:pt x="11329" y="15108"/>
                  <a:pt x="11237" y="15032"/>
                </a:cubicBezTo>
                <a:cubicBezTo>
                  <a:pt x="11113" y="14929"/>
                  <a:pt x="11018" y="14824"/>
                  <a:pt x="10914" y="14709"/>
                </a:cubicBezTo>
                <a:cubicBezTo>
                  <a:pt x="10868" y="14658"/>
                  <a:pt x="10814" y="14628"/>
                  <a:pt x="10765" y="1458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Ink 5"/>
          <p:cNvSpPr/>
          <p:nvPr/>
        </p:nvSpPr>
        <p:spPr>
          <a:xfrm>
            <a:off x="3875040" y="2446200"/>
            <a:ext cx="2189160" cy="428760"/>
          </a:xfrm>
          <a:custGeom>
            <a:avLst/>
            <a:gdLst/>
            <a:ahLst/>
            <a:rect l="l" t="t" r="r" b="b"/>
            <a:pathLst>
              <a:path w="6078" h="1192">
                <a:moveTo>
                  <a:pt x="10765" y="7367"/>
                </a:moveTo>
                <a:cubicBezTo>
                  <a:pt x="10937" y="7387"/>
                  <a:pt x="11114" y="7405"/>
                  <a:pt x="11286" y="7417"/>
                </a:cubicBezTo>
                <a:cubicBezTo>
                  <a:pt x="11327" y="7417"/>
                  <a:pt x="11369" y="7417"/>
                  <a:pt x="11410" y="7417"/>
                </a:cubicBezTo>
              </a:path>
              <a:path w="6078" h="1192">
                <a:moveTo>
                  <a:pt x="12005" y="6921"/>
                </a:moveTo>
                <a:cubicBezTo>
                  <a:pt x="12148" y="6903"/>
                  <a:pt x="12286" y="6876"/>
                  <a:pt x="12427" y="6871"/>
                </a:cubicBezTo>
                <a:cubicBezTo>
                  <a:pt x="12546" y="6867"/>
                  <a:pt x="12685" y="6868"/>
                  <a:pt x="12799" y="6896"/>
                </a:cubicBezTo>
                <a:cubicBezTo>
                  <a:pt x="12834" y="6905"/>
                  <a:pt x="12961" y="6925"/>
                  <a:pt x="12973" y="6970"/>
                </a:cubicBezTo>
                <a:cubicBezTo>
                  <a:pt x="12996" y="7057"/>
                  <a:pt x="12925" y="7118"/>
                  <a:pt x="12898" y="7193"/>
                </a:cubicBezTo>
                <a:cubicBezTo>
                  <a:pt x="12859" y="7299"/>
                  <a:pt x="12792" y="7450"/>
                  <a:pt x="12774" y="7565"/>
                </a:cubicBezTo>
                <a:cubicBezTo>
                  <a:pt x="12760" y="7656"/>
                  <a:pt x="12750" y="7745"/>
                  <a:pt x="12750" y="7838"/>
                </a:cubicBezTo>
                <a:cubicBezTo>
                  <a:pt x="12750" y="7898"/>
                  <a:pt x="12750" y="7937"/>
                  <a:pt x="12774" y="7987"/>
                </a:cubicBezTo>
              </a:path>
              <a:path w="6078" h="1192">
                <a:moveTo>
                  <a:pt x="14759" y="7243"/>
                </a:moveTo>
                <a:cubicBezTo>
                  <a:pt x="14897" y="7220"/>
                  <a:pt x="15041" y="7204"/>
                  <a:pt x="15180" y="7193"/>
                </a:cubicBezTo>
                <a:cubicBezTo>
                  <a:pt x="15286" y="7185"/>
                  <a:pt x="15396" y="7193"/>
                  <a:pt x="15503" y="7193"/>
                </a:cubicBezTo>
              </a:path>
              <a:path w="6078" h="1192">
                <a:moveTo>
                  <a:pt x="16049" y="6796"/>
                </a:moveTo>
                <a:cubicBezTo>
                  <a:pt x="16213" y="6826"/>
                  <a:pt x="16424" y="6900"/>
                  <a:pt x="16594" y="6921"/>
                </a:cubicBezTo>
                <a:cubicBezTo>
                  <a:pt x="16671" y="6930"/>
                  <a:pt x="16758" y="6921"/>
                  <a:pt x="16818" y="6970"/>
                </a:cubicBezTo>
                <a:cubicBezTo>
                  <a:pt x="16826" y="6978"/>
                  <a:pt x="16834" y="6987"/>
                  <a:pt x="16842" y="6995"/>
                </a:cubicBezTo>
                <a:cubicBezTo>
                  <a:pt x="16801" y="7038"/>
                  <a:pt x="16783" y="7107"/>
                  <a:pt x="16743" y="7144"/>
                </a:cubicBezTo>
                <a:cubicBezTo>
                  <a:pt x="16627" y="7253"/>
                  <a:pt x="16610" y="7314"/>
                  <a:pt x="16594" y="7491"/>
                </a:cubicBezTo>
                <a:cubicBezTo>
                  <a:pt x="16582" y="7625"/>
                  <a:pt x="16651" y="7758"/>
                  <a:pt x="16644" y="7888"/>
                </a:cubicBezTo>
                <a:cubicBezTo>
                  <a:pt x="16636" y="7921"/>
                  <a:pt x="16627" y="7954"/>
                  <a:pt x="16619" y="798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Ink 6"/>
          <p:cNvSpPr/>
          <p:nvPr/>
        </p:nvSpPr>
        <p:spPr>
          <a:xfrm>
            <a:off x="3116160" y="3027240"/>
            <a:ext cx="2438640" cy="1063800"/>
          </a:xfrm>
          <a:custGeom>
            <a:avLst/>
            <a:gdLst/>
            <a:ahLst/>
            <a:rect l="l" t="t" r="r" b="b"/>
            <a:pathLst>
              <a:path w="6773" h="2953">
                <a:moveTo>
                  <a:pt x="8682" y="8409"/>
                </a:moveTo>
                <a:cubicBezTo>
                  <a:pt x="8661" y="8465"/>
                  <a:pt x="8673" y="8493"/>
                  <a:pt x="8682" y="8582"/>
                </a:cubicBezTo>
                <a:cubicBezTo>
                  <a:pt x="8721" y="8979"/>
                  <a:pt x="8691" y="9400"/>
                  <a:pt x="8706" y="9798"/>
                </a:cubicBezTo>
                <a:cubicBezTo>
                  <a:pt x="8715" y="10020"/>
                  <a:pt x="8706" y="10428"/>
                  <a:pt x="8706" y="10567"/>
                </a:cubicBezTo>
              </a:path>
              <a:path w="6773" h="2953">
                <a:moveTo>
                  <a:pt x="9029" y="9376"/>
                </a:moveTo>
                <a:cubicBezTo>
                  <a:pt x="9165" y="9255"/>
                  <a:pt x="9246" y="9175"/>
                  <a:pt x="9451" y="9203"/>
                </a:cubicBezTo>
                <a:cubicBezTo>
                  <a:pt x="9520" y="9213"/>
                  <a:pt x="9607" y="9278"/>
                  <a:pt x="9624" y="9351"/>
                </a:cubicBezTo>
                <a:cubicBezTo>
                  <a:pt x="9646" y="9445"/>
                  <a:pt x="9529" y="9521"/>
                  <a:pt x="9475" y="9575"/>
                </a:cubicBezTo>
                <a:cubicBezTo>
                  <a:pt x="9411" y="9639"/>
                  <a:pt x="9314" y="9672"/>
                  <a:pt x="9227" y="9699"/>
                </a:cubicBezTo>
                <a:cubicBezTo>
                  <a:pt x="9185" y="9699"/>
                  <a:pt x="9159" y="9705"/>
                  <a:pt x="9128" y="9723"/>
                </a:cubicBezTo>
                <a:cubicBezTo>
                  <a:pt x="9241" y="9723"/>
                  <a:pt x="9320" y="9734"/>
                  <a:pt x="9426" y="9773"/>
                </a:cubicBezTo>
                <a:cubicBezTo>
                  <a:pt x="9535" y="9813"/>
                  <a:pt x="9628" y="9820"/>
                  <a:pt x="9699" y="9922"/>
                </a:cubicBezTo>
                <a:cubicBezTo>
                  <a:pt x="9791" y="10054"/>
                  <a:pt x="9807" y="10108"/>
                  <a:pt x="9674" y="10195"/>
                </a:cubicBezTo>
                <a:cubicBezTo>
                  <a:pt x="9600" y="10243"/>
                  <a:pt x="9481" y="10262"/>
                  <a:pt x="9401" y="10269"/>
                </a:cubicBezTo>
                <a:cubicBezTo>
                  <a:pt x="9313" y="10277"/>
                  <a:pt x="9162" y="10259"/>
                  <a:pt x="9079" y="10220"/>
                </a:cubicBezTo>
                <a:cubicBezTo>
                  <a:pt x="9044" y="10185"/>
                  <a:pt x="9031" y="10163"/>
                  <a:pt x="9029" y="10120"/>
                </a:cubicBezTo>
              </a:path>
              <a:path w="6773" h="2953">
                <a:moveTo>
                  <a:pt x="9947" y="9897"/>
                </a:moveTo>
                <a:cubicBezTo>
                  <a:pt x="10017" y="10056"/>
                  <a:pt x="10068" y="10181"/>
                  <a:pt x="10195" y="10294"/>
                </a:cubicBezTo>
                <a:cubicBezTo>
                  <a:pt x="10298" y="10386"/>
                  <a:pt x="10390" y="10429"/>
                  <a:pt x="10517" y="10468"/>
                </a:cubicBezTo>
                <a:cubicBezTo>
                  <a:pt x="10542" y="10476"/>
                  <a:pt x="10567" y="10484"/>
                  <a:pt x="10592" y="10492"/>
                </a:cubicBezTo>
              </a:path>
              <a:path w="6773" h="2953">
                <a:moveTo>
                  <a:pt x="10294" y="9723"/>
                </a:moveTo>
                <a:cubicBezTo>
                  <a:pt x="10231" y="9859"/>
                  <a:pt x="10166" y="10047"/>
                  <a:pt x="10071" y="10170"/>
                </a:cubicBezTo>
                <a:cubicBezTo>
                  <a:pt x="10033" y="10219"/>
                  <a:pt x="9970" y="10260"/>
                  <a:pt x="9947" y="10319"/>
                </a:cubicBezTo>
                <a:cubicBezTo>
                  <a:pt x="9947" y="10327"/>
                  <a:pt x="9947" y="10336"/>
                  <a:pt x="9947" y="10344"/>
                </a:cubicBezTo>
              </a:path>
              <a:path w="6773" h="2953">
                <a:moveTo>
                  <a:pt x="10592" y="10096"/>
                </a:moveTo>
                <a:cubicBezTo>
                  <a:pt x="10739" y="10096"/>
                  <a:pt x="10871" y="10087"/>
                  <a:pt x="11013" y="10071"/>
                </a:cubicBezTo>
              </a:path>
              <a:path w="6773" h="2953">
                <a:moveTo>
                  <a:pt x="11286" y="9550"/>
                </a:moveTo>
                <a:cubicBezTo>
                  <a:pt x="11320" y="9639"/>
                  <a:pt x="11311" y="9725"/>
                  <a:pt x="11311" y="9823"/>
                </a:cubicBezTo>
                <a:cubicBezTo>
                  <a:pt x="11311" y="10079"/>
                  <a:pt x="11311" y="10336"/>
                  <a:pt x="11311" y="10592"/>
                </a:cubicBezTo>
              </a:path>
              <a:path w="6773" h="2953">
                <a:moveTo>
                  <a:pt x="11733" y="8756"/>
                </a:moveTo>
                <a:cubicBezTo>
                  <a:pt x="11733" y="8870"/>
                  <a:pt x="11718" y="8968"/>
                  <a:pt x="11708" y="9079"/>
                </a:cubicBezTo>
                <a:cubicBezTo>
                  <a:pt x="11694" y="9242"/>
                  <a:pt x="11693" y="9412"/>
                  <a:pt x="11683" y="9575"/>
                </a:cubicBezTo>
                <a:cubicBezTo>
                  <a:pt x="11666" y="9839"/>
                  <a:pt x="11674" y="10105"/>
                  <a:pt x="11658" y="10368"/>
                </a:cubicBezTo>
                <a:cubicBezTo>
                  <a:pt x="11647" y="10543"/>
                  <a:pt x="11648" y="10715"/>
                  <a:pt x="11633" y="10889"/>
                </a:cubicBezTo>
                <a:cubicBezTo>
                  <a:pt x="11626" y="10973"/>
                  <a:pt x="11641" y="11044"/>
                  <a:pt x="11658" y="11112"/>
                </a:cubicBezTo>
              </a:path>
              <a:path w="6773" h="2953">
                <a:moveTo>
                  <a:pt x="12129" y="9847"/>
                </a:moveTo>
                <a:cubicBezTo>
                  <a:pt x="12266" y="9853"/>
                  <a:pt x="12395" y="9858"/>
                  <a:pt x="12526" y="9897"/>
                </a:cubicBezTo>
                <a:cubicBezTo>
                  <a:pt x="12604" y="9923"/>
                  <a:pt x="12632" y="9933"/>
                  <a:pt x="12675" y="9971"/>
                </a:cubicBezTo>
              </a:path>
              <a:path w="6773" h="2953">
                <a:moveTo>
                  <a:pt x="12204" y="10294"/>
                </a:moveTo>
                <a:cubicBezTo>
                  <a:pt x="12389" y="10363"/>
                  <a:pt x="12480" y="10368"/>
                  <a:pt x="12675" y="10368"/>
                </a:cubicBezTo>
              </a:path>
              <a:path w="6773" h="2953">
                <a:moveTo>
                  <a:pt x="13072" y="9897"/>
                </a:moveTo>
                <a:cubicBezTo>
                  <a:pt x="13191" y="9904"/>
                  <a:pt x="13299" y="9922"/>
                  <a:pt x="13419" y="9922"/>
                </a:cubicBezTo>
                <a:cubicBezTo>
                  <a:pt x="13452" y="9922"/>
                  <a:pt x="13486" y="9922"/>
                  <a:pt x="13519" y="9922"/>
                </a:cubicBezTo>
              </a:path>
              <a:path w="6773" h="2953">
                <a:moveTo>
                  <a:pt x="13841" y="9500"/>
                </a:moveTo>
                <a:cubicBezTo>
                  <a:pt x="13986" y="9446"/>
                  <a:pt x="14107" y="9381"/>
                  <a:pt x="14263" y="9401"/>
                </a:cubicBezTo>
                <a:cubicBezTo>
                  <a:pt x="14342" y="9411"/>
                  <a:pt x="14449" y="9462"/>
                  <a:pt x="14486" y="9525"/>
                </a:cubicBezTo>
                <a:cubicBezTo>
                  <a:pt x="14548" y="9629"/>
                  <a:pt x="14519" y="9639"/>
                  <a:pt x="14511" y="9748"/>
                </a:cubicBezTo>
                <a:cubicBezTo>
                  <a:pt x="14502" y="9881"/>
                  <a:pt x="14377" y="10057"/>
                  <a:pt x="14312" y="10170"/>
                </a:cubicBezTo>
                <a:cubicBezTo>
                  <a:pt x="14218" y="10335"/>
                  <a:pt x="14087" y="10470"/>
                  <a:pt x="13990" y="10641"/>
                </a:cubicBezTo>
                <a:cubicBezTo>
                  <a:pt x="13930" y="10746"/>
                  <a:pt x="13837" y="10857"/>
                  <a:pt x="13791" y="10964"/>
                </a:cubicBezTo>
                <a:cubicBezTo>
                  <a:pt x="13765" y="11024"/>
                  <a:pt x="13751" y="11070"/>
                  <a:pt x="13717" y="11137"/>
                </a:cubicBezTo>
                <a:cubicBezTo>
                  <a:pt x="13766" y="11099"/>
                  <a:pt x="13808" y="11014"/>
                  <a:pt x="13866" y="10988"/>
                </a:cubicBezTo>
                <a:cubicBezTo>
                  <a:pt x="13933" y="10958"/>
                  <a:pt x="14039" y="10932"/>
                  <a:pt x="14114" y="10939"/>
                </a:cubicBezTo>
                <a:cubicBezTo>
                  <a:pt x="14223" y="10949"/>
                  <a:pt x="14359" y="10985"/>
                  <a:pt x="14461" y="11038"/>
                </a:cubicBezTo>
                <a:cubicBezTo>
                  <a:pt x="14605" y="11112"/>
                  <a:pt x="14763" y="11161"/>
                  <a:pt x="14908" y="11237"/>
                </a:cubicBezTo>
                <a:cubicBezTo>
                  <a:pt x="15052" y="11312"/>
                  <a:pt x="15184" y="11402"/>
                  <a:pt x="15354" y="11336"/>
                </a:cubicBezTo>
                <a:cubicBezTo>
                  <a:pt x="15379" y="11319"/>
                  <a:pt x="15404" y="11303"/>
                  <a:pt x="15429" y="1128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352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ccecff"/>
                </a:solidFill>
                <a:latin typeface="Arial"/>
              </a:rPr>
              <a:t>Homework:</a:t>
            </a:r>
            <a:br>
              <a:rPr sz="6500"/>
            </a:br>
            <a:r>
              <a:rPr b="0" lang="en-US" sz="6500" spc="-1" strike="noStrike">
                <a:solidFill>
                  <a:srgbClr val="ccecff"/>
                </a:solidFill>
                <a:latin typeface="Arial"/>
              </a:rPr>
              <a:t>P.4 part five</a:t>
            </a:r>
            <a:br>
              <a:rPr sz="6500"/>
            </a:br>
            <a:r>
              <a:rPr b="0" lang="en-US" sz="6500" spc="-1" strike="noStrike">
                <a:solidFill>
                  <a:srgbClr val="ccecff"/>
                </a:solidFill>
                <a:latin typeface="Arial"/>
              </a:rPr>
              <a:t>wksheet</a:t>
            </a:r>
            <a:br>
              <a:rPr sz="6500"/>
            </a:br>
            <a:r>
              <a:rPr b="0" lang="en-US" sz="6500" spc="-1" strike="noStrike">
                <a:solidFill>
                  <a:srgbClr val="ccecff"/>
                </a:solidFill>
                <a:latin typeface="Arial"/>
              </a:rPr>
              <a:t>Rational #1-3</a:t>
            </a:r>
            <a:br>
              <a:rPr sz="6500"/>
            </a:br>
            <a:r>
              <a:rPr b="0" lang="en-US" sz="6500" spc="-1" strike="noStrike">
                <a:solidFill>
                  <a:srgbClr val="ccecff"/>
                </a:solidFill>
                <a:latin typeface="Arial"/>
              </a:rPr>
              <a:t>Abs Value #1-4</a:t>
            </a:r>
            <a:br>
              <a:rPr sz="7500"/>
            </a:br>
            <a:r>
              <a:rPr b="0" i="1" lang="en-US" sz="3000" spc="-1" strike="noStrike">
                <a:solidFill>
                  <a:srgbClr val="ccecff"/>
                </a:solidFill>
                <a:latin typeface="Arial"/>
              </a:rPr>
              <a:t>(Reminder, Monday we will review the equations and Tuesday is your test on them</a:t>
            </a:r>
            <a:r>
              <a:rPr b="0" lang="en-US" sz="3000" spc="-1" strike="noStrike">
                <a:solidFill>
                  <a:srgbClr val="ccecff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o over last night’s HW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 3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 2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 0 and -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-.55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 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 5 and 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.  .25 (there is an extraneous soln of 2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Ink 4"/>
          <p:cNvSpPr/>
          <p:nvPr/>
        </p:nvSpPr>
        <p:spPr>
          <a:xfrm>
            <a:off x="4697280" y="1258920"/>
            <a:ext cx="2652840" cy="536400"/>
          </a:xfrm>
          <a:custGeom>
            <a:avLst/>
            <a:gdLst/>
            <a:ahLst/>
            <a:rect l="l" t="t" r="r" b="b"/>
            <a:pathLst>
              <a:path w="7368" h="1490">
                <a:moveTo>
                  <a:pt x="13047" y="4043"/>
                </a:moveTo>
                <a:cubicBezTo>
                  <a:pt x="13077" y="3992"/>
                  <a:pt x="13106" y="3938"/>
                  <a:pt x="13146" y="3894"/>
                </a:cubicBezTo>
                <a:cubicBezTo>
                  <a:pt x="13198" y="3837"/>
                  <a:pt x="13267" y="3783"/>
                  <a:pt x="13345" y="3770"/>
                </a:cubicBezTo>
                <a:cubicBezTo>
                  <a:pt x="13396" y="3761"/>
                  <a:pt x="13523" y="3748"/>
                  <a:pt x="13543" y="3820"/>
                </a:cubicBezTo>
                <a:cubicBezTo>
                  <a:pt x="13560" y="3880"/>
                  <a:pt x="13582" y="3948"/>
                  <a:pt x="13568" y="4018"/>
                </a:cubicBezTo>
                <a:cubicBezTo>
                  <a:pt x="13555" y="4083"/>
                  <a:pt x="13530" y="4161"/>
                  <a:pt x="13519" y="4217"/>
                </a:cubicBezTo>
                <a:cubicBezTo>
                  <a:pt x="13496" y="4333"/>
                  <a:pt x="13453" y="4393"/>
                  <a:pt x="13395" y="4490"/>
                </a:cubicBezTo>
                <a:cubicBezTo>
                  <a:pt x="13353" y="4559"/>
                  <a:pt x="13342" y="4649"/>
                  <a:pt x="13295" y="4713"/>
                </a:cubicBezTo>
                <a:cubicBezTo>
                  <a:pt x="13252" y="4772"/>
                  <a:pt x="13213" y="4827"/>
                  <a:pt x="13171" y="4887"/>
                </a:cubicBezTo>
                <a:cubicBezTo>
                  <a:pt x="13134" y="4940"/>
                  <a:pt x="13132" y="4916"/>
                  <a:pt x="13122" y="4986"/>
                </a:cubicBezTo>
                <a:cubicBezTo>
                  <a:pt x="13159" y="4940"/>
                  <a:pt x="13220" y="4907"/>
                  <a:pt x="13295" y="4936"/>
                </a:cubicBezTo>
                <a:cubicBezTo>
                  <a:pt x="13362" y="4962"/>
                  <a:pt x="13437" y="4982"/>
                  <a:pt x="13519" y="4986"/>
                </a:cubicBezTo>
                <a:cubicBezTo>
                  <a:pt x="13578" y="4989"/>
                  <a:pt x="13580" y="4974"/>
                  <a:pt x="13618" y="4936"/>
                </a:cubicBezTo>
              </a:path>
              <a:path w="7368" h="1490">
                <a:moveTo>
                  <a:pt x="13866" y="4341"/>
                </a:moveTo>
                <a:cubicBezTo>
                  <a:pt x="13896" y="4408"/>
                  <a:pt x="13909" y="4481"/>
                  <a:pt x="13940" y="4539"/>
                </a:cubicBezTo>
                <a:cubicBezTo>
                  <a:pt x="13979" y="4611"/>
                  <a:pt x="14033" y="4678"/>
                  <a:pt x="14089" y="4738"/>
                </a:cubicBezTo>
                <a:cubicBezTo>
                  <a:pt x="14135" y="4787"/>
                  <a:pt x="14164" y="4838"/>
                  <a:pt x="14213" y="4887"/>
                </a:cubicBezTo>
                <a:cubicBezTo>
                  <a:pt x="14242" y="4915"/>
                  <a:pt x="14255" y="4923"/>
                  <a:pt x="14288" y="4911"/>
                </a:cubicBezTo>
              </a:path>
              <a:path w="7368" h="1490">
                <a:moveTo>
                  <a:pt x="14139" y="4341"/>
                </a:moveTo>
                <a:cubicBezTo>
                  <a:pt x="14073" y="4491"/>
                  <a:pt x="14021" y="4558"/>
                  <a:pt x="13940" y="4688"/>
                </a:cubicBezTo>
                <a:cubicBezTo>
                  <a:pt x="13888" y="4771"/>
                  <a:pt x="13846" y="4842"/>
                  <a:pt x="13791" y="4911"/>
                </a:cubicBezTo>
                <a:cubicBezTo>
                  <a:pt x="13778" y="4928"/>
                  <a:pt x="13716" y="5064"/>
                  <a:pt x="13767" y="4936"/>
                </a:cubicBezTo>
              </a:path>
              <a:path w="7368" h="1490">
                <a:moveTo>
                  <a:pt x="14660" y="4167"/>
                </a:moveTo>
                <a:cubicBezTo>
                  <a:pt x="14660" y="4351"/>
                  <a:pt x="14655" y="4537"/>
                  <a:pt x="14684" y="4713"/>
                </a:cubicBezTo>
                <a:cubicBezTo>
                  <a:pt x="14684" y="4757"/>
                  <a:pt x="14687" y="4770"/>
                  <a:pt x="14660" y="4787"/>
                </a:cubicBezTo>
              </a:path>
              <a:path w="7368" h="1490">
                <a:moveTo>
                  <a:pt x="14436" y="4539"/>
                </a:moveTo>
                <a:cubicBezTo>
                  <a:pt x="14525" y="4523"/>
                  <a:pt x="14599" y="4512"/>
                  <a:pt x="14684" y="4490"/>
                </a:cubicBezTo>
              </a:path>
              <a:path w="7368" h="1490">
                <a:moveTo>
                  <a:pt x="15701" y="4018"/>
                </a:moveTo>
                <a:cubicBezTo>
                  <a:pt x="15722" y="3956"/>
                  <a:pt x="15762" y="3847"/>
                  <a:pt x="15701" y="3795"/>
                </a:cubicBezTo>
                <a:cubicBezTo>
                  <a:pt x="15658" y="3758"/>
                  <a:pt x="15606" y="3723"/>
                  <a:pt x="15553" y="3721"/>
                </a:cubicBezTo>
                <a:cubicBezTo>
                  <a:pt x="15439" y="3717"/>
                  <a:pt x="15416" y="3764"/>
                  <a:pt x="15329" y="3820"/>
                </a:cubicBezTo>
                <a:cubicBezTo>
                  <a:pt x="15229" y="3885"/>
                  <a:pt x="15238" y="3920"/>
                  <a:pt x="15205" y="4018"/>
                </a:cubicBezTo>
                <a:cubicBezTo>
                  <a:pt x="15180" y="4093"/>
                  <a:pt x="15169" y="4124"/>
                  <a:pt x="15205" y="4192"/>
                </a:cubicBezTo>
                <a:cubicBezTo>
                  <a:pt x="15255" y="4286"/>
                  <a:pt x="15265" y="4300"/>
                  <a:pt x="15379" y="4266"/>
                </a:cubicBezTo>
                <a:cubicBezTo>
                  <a:pt x="15443" y="4247"/>
                  <a:pt x="15523" y="4170"/>
                  <a:pt x="15553" y="4118"/>
                </a:cubicBezTo>
                <a:cubicBezTo>
                  <a:pt x="15596" y="4044"/>
                  <a:pt x="15602" y="3977"/>
                  <a:pt x="15602" y="3894"/>
                </a:cubicBezTo>
                <a:cubicBezTo>
                  <a:pt x="15602" y="3878"/>
                  <a:pt x="15602" y="3861"/>
                  <a:pt x="15602" y="3845"/>
                </a:cubicBezTo>
                <a:cubicBezTo>
                  <a:pt x="15561" y="3912"/>
                  <a:pt x="15595" y="3965"/>
                  <a:pt x="15577" y="4043"/>
                </a:cubicBezTo>
                <a:cubicBezTo>
                  <a:pt x="15559" y="4120"/>
                  <a:pt x="15553" y="4184"/>
                  <a:pt x="15553" y="4266"/>
                </a:cubicBezTo>
                <a:cubicBezTo>
                  <a:pt x="15553" y="4419"/>
                  <a:pt x="15546" y="4568"/>
                  <a:pt x="15528" y="4713"/>
                </a:cubicBezTo>
                <a:cubicBezTo>
                  <a:pt x="15519" y="4787"/>
                  <a:pt x="15501" y="4898"/>
                  <a:pt x="15528" y="4762"/>
                </a:cubicBezTo>
              </a:path>
              <a:path w="7368" h="1490">
                <a:moveTo>
                  <a:pt x="15850" y="4192"/>
                </a:moveTo>
                <a:cubicBezTo>
                  <a:pt x="15844" y="4310"/>
                  <a:pt x="15825" y="4399"/>
                  <a:pt x="15825" y="4514"/>
                </a:cubicBezTo>
                <a:cubicBezTo>
                  <a:pt x="15825" y="4622"/>
                  <a:pt x="15825" y="4729"/>
                  <a:pt x="15825" y="4837"/>
                </a:cubicBezTo>
                <a:cubicBezTo>
                  <a:pt x="15833" y="4743"/>
                  <a:pt x="15850" y="4660"/>
                  <a:pt x="15850" y="4564"/>
                </a:cubicBezTo>
                <a:cubicBezTo>
                  <a:pt x="15850" y="4441"/>
                  <a:pt x="15903" y="4355"/>
                  <a:pt x="15925" y="4242"/>
                </a:cubicBezTo>
                <a:cubicBezTo>
                  <a:pt x="15939" y="4167"/>
                  <a:pt x="15970" y="4093"/>
                  <a:pt x="15974" y="4018"/>
                </a:cubicBezTo>
                <a:cubicBezTo>
                  <a:pt x="15978" y="3952"/>
                  <a:pt x="16001" y="3899"/>
                  <a:pt x="16024" y="3845"/>
                </a:cubicBezTo>
                <a:cubicBezTo>
                  <a:pt x="16043" y="3800"/>
                  <a:pt x="16101" y="3718"/>
                  <a:pt x="16148" y="3696"/>
                </a:cubicBezTo>
                <a:cubicBezTo>
                  <a:pt x="16245" y="3651"/>
                  <a:pt x="16441" y="3651"/>
                  <a:pt x="16545" y="3646"/>
                </a:cubicBezTo>
                <a:cubicBezTo>
                  <a:pt x="16704" y="3638"/>
                  <a:pt x="17028" y="3587"/>
                  <a:pt x="17165" y="3621"/>
                </a:cubicBezTo>
                <a:cubicBezTo>
                  <a:pt x="17165" y="3629"/>
                  <a:pt x="17165" y="3638"/>
                  <a:pt x="17165" y="3646"/>
                </a:cubicBezTo>
              </a:path>
              <a:path w="7368" h="1490">
                <a:moveTo>
                  <a:pt x="16346" y="4142"/>
                </a:moveTo>
                <a:cubicBezTo>
                  <a:pt x="16394" y="4278"/>
                  <a:pt x="16422" y="4330"/>
                  <a:pt x="16495" y="4440"/>
                </a:cubicBezTo>
                <a:cubicBezTo>
                  <a:pt x="16552" y="4526"/>
                  <a:pt x="16585" y="4626"/>
                  <a:pt x="16644" y="4713"/>
                </a:cubicBezTo>
                <a:cubicBezTo>
                  <a:pt x="16670" y="4752"/>
                  <a:pt x="16710" y="4742"/>
                  <a:pt x="16669" y="4762"/>
                </a:cubicBezTo>
              </a:path>
              <a:path w="7368" h="1490">
                <a:moveTo>
                  <a:pt x="16545" y="4142"/>
                </a:moveTo>
                <a:cubicBezTo>
                  <a:pt x="16507" y="4245"/>
                  <a:pt x="16444" y="4323"/>
                  <a:pt x="16396" y="4415"/>
                </a:cubicBezTo>
                <a:cubicBezTo>
                  <a:pt x="16346" y="4510"/>
                  <a:pt x="16326" y="4559"/>
                  <a:pt x="16247" y="4638"/>
                </a:cubicBezTo>
                <a:cubicBezTo>
                  <a:pt x="16210" y="4674"/>
                  <a:pt x="16115" y="4746"/>
                  <a:pt x="16148" y="4762"/>
                </a:cubicBezTo>
              </a:path>
              <a:path w="7368" h="1490">
                <a:moveTo>
                  <a:pt x="17066" y="4316"/>
                </a:moveTo>
                <a:cubicBezTo>
                  <a:pt x="17137" y="4316"/>
                  <a:pt x="17175" y="4295"/>
                  <a:pt x="17239" y="4291"/>
                </a:cubicBezTo>
                <a:cubicBezTo>
                  <a:pt x="17298" y="4288"/>
                  <a:pt x="17377" y="4281"/>
                  <a:pt x="17438" y="4266"/>
                </a:cubicBezTo>
                <a:cubicBezTo>
                  <a:pt x="17478" y="4246"/>
                  <a:pt x="17485" y="4238"/>
                  <a:pt x="17512" y="4242"/>
                </a:cubicBezTo>
              </a:path>
              <a:path w="7368" h="1490">
                <a:moveTo>
                  <a:pt x="17884" y="3597"/>
                </a:moveTo>
                <a:cubicBezTo>
                  <a:pt x="18020" y="3597"/>
                  <a:pt x="18149" y="3586"/>
                  <a:pt x="18281" y="3572"/>
                </a:cubicBezTo>
                <a:cubicBezTo>
                  <a:pt x="18354" y="3564"/>
                  <a:pt x="18410" y="3575"/>
                  <a:pt x="18430" y="3497"/>
                </a:cubicBezTo>
              </a:path>
              <a:path w="7368" h="1490">
                <a:moveTo>
                  <a:pt x="18008" y="3522"/>
                </a:moveTo>
                <a:cubicBezTo>
                  <a:pt x="17909" y="3583"/>
                  <a:pt x="17866" y="3601"/>
                  <a:pt x="17859" y="3721"/>
                </a:cubicBezTo>
                <a:cubicBezTo>
                  <a:pt x="17854" y="3810"/>
                  <a:pt x="17850" y="3893"/>
                  <a:pt x="17835" y="3969"/>
                </a:cubicBezTo>
                <a:cubicBezTo>
                  <a:pt x="17835" y="3985"/>
                  <a:pt x="17835" y="4002"/>
                  <a:pt x="17835" y="4018"/>
                </a:cubicBezTo>
                <a:cubicBezTo>
                  <a:pt x="17881" y="3992"/>
                  <a:pt x="17938" y="3953"/>
                  <a:pt x="17983" y="3944"/>
                </a:cubicBezTo>
                <a:cubicBezTo>
                  <a:pt x="18050" y="3930"/>
                  <a:pt x="18150" y="3966"/>
                  <a:pt x="18207" y="3994"/>
                </a:cubicBezTo>
                <a:cubicBezTo>
                  <a:pt x="18254" y="4017"/>
                  <a:pt x="18284" y="4122"/>
                  <a:pt x="18306" y="4167"/>
                </a:cubicBezTo>
                <a:cubicBezTo>
                  <a:pt x="18344" y="4242"/>
                  <a:pt x="18355" y="4283"/>
                  <a:pt x="18355" y="4366"/>
                </a:cubicBezTo>
                <a:cubicBezTo>
                  <a:pt x="18355" y="4433"/>
                  <a:pt x="18320" y="4508"/>
                  <a:pt x="18281" y="4564"/>
                </a:cubicBezTo>
                <a:cubicBezTo>
                  <a:pt x="18236" y="4629"/>
                  <a:pt x="18160" y="4673"/>
                  <a:pt x="18083" y="4688"/>
                </a:cubicBezTo>
                <a:cubicBezTo>
                  <a:pt x="18007" y="4703"/>
                  <a:pt x="17940" y="4713"/>
                  <a:pt x="17859" y="4713"/>
                </a:cubicBezTo>
                <a:cubicBezTo>
                  <a:pt x="17815" y="4713"/>
                  <a:pt x="17795" y="4716"/>
                  <a:pt x="17835" y="4688"/>
                </a:cubicBezTo>
              </a:path>
              <a:path w="7368" h="1490">
                <a:moveTo>
                  <a:pt x="18703" y="4242"/>
                </a:moveTo>
                <a:cubicBezTo>
                  <a:pt x="18785" y="4242"/>
                  <a:pt x="18829" y="4221"/>
                  <a:pt x="18901" y="4217"/>
                </a:cubicBezTo>
                <a:cubicBezTo>
                  <a:pt x="18951" y="4217"/>
                  <a:pt x="18967" y="4217"/>
                  <a:pt x="19000" y="4217"/>
                </a:cubicBezTo>
              </a:path>
              <a:path w="7368" h="1490">
                <a:moveTo>
                  <a:pt x="18653" y="4490"/>
                </a:moveTo>
                <a:cubicBezTo>
                  <a:pt x="18718" y="4507"/>
                  <a:pt x="18806" y="4533"/>
                  <a:pt x="18876" y="4514"/>
                </a:cubicBezTo>
                <a:cubicBezTo>
                  <a:pt x="18893" y="4506"/>
                  <a:pt x="18909" y="4498"/>
                  <a:pt x="18926" y="4490"/>
                </a:cubicBezTo>
              </a:path>
              <a:path w="7368" h="1490">
                <a:moveTo>
                  <a:pt x="19695" y="3969"/>
                </a:moveTo>
                <a:cubicBezTo>
                  <a:pt x="19655" y="4047"/>
                  <a:pt x="19653" y="4115"/>
                  <a:pt x="19621" y="4192"/>
                </a:cubicBezTo>
                <a:cubicBezTo>
                  <a:pt x="19573" y="4307"/>
                  <a:pt x="19587" y="4392"/>
                  <a:pt x="19596" y="4514"/>
                </a:cubicBezTo>
                <a:cubicBezTo>
                  <a:pt x="19603" y="4612"/>
                  <a:pt x="19674" y="4631"/>
                  <a:pt x="19745" y="4688"/>
                </a:cubicBezTo>
                <a:cubicBezTo>
                  <a:pt x="19792" y="4726"/>
                  <a:pt x="19904" y="4751"/>
                  <a:pt x="19968" y="4738"/>
                </a:cubicBezTo>
                <a:cubicBezTo>
                  <a:pt x="20065" y="4718"/>
                  <a:pt x="20138" y="4643"/>
                  <a:pt x="20216" y="4589"/>
                </a:cubicBezTo>
                <a:cubicBezTo>
                  <a:pt x="20300" y="4531"/>
                  <a:pt x="20371" y="4474"/>
                  <a:pt x="20389" y="4366"/>
                </a:cubicBezTo>
                <a:cubicBezTo>
                  <a:pt x="20406" y="4261"/>
                  <a:pt x="20411" y="4196"/>
                  <a:pt x="20365" y="4093"/>
                </a:cubicBezTo>
                <a:cubicBezTo>
                  <a:pt x="20337" y="4031"/>
                  <a:pt x="20247" y="3982"/>
                  <a:pt x="20191" y="3944"/>
                </a:cubicBezTo>
                <a:cubicBezTo>
                  <a:pt x="20137" y="3908"/>
                  <a:pt x="20080" y="3880"/>
                  <a:pt x="20017" y="3870"/>
                </a:cubicBezTo>
                <a:cubicBezTo>
                  <a:pt x="20001" y="3870"/>
                  <a:pt x="19984" y="3870"/>
                  <a:pt x="19968" y="387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Ink 5"/>
          <p:cNvSpPr/>
          <p:nvPr/>
        </p:nvSpPr>
        <p:spPr>
          <a:xfrm>
            <a:off x="4330800" y="2000160"/>
            <a:ext cx="652320" cy="330120"/>
          </a:xfrm>
          <a:custGeom>
            <a:avLst/>
            <a:gdLst/>
            <a:ahLst/>
            <a:rect l="l" t="t" r="r" b="b"/>
            <a:pathLst>
              <a:path w="1812" h="919">
                <a:moveTo>
                  <a:pt x="12030" y="5829"/>
                </a:moveTo>
                <a:cubicBezTo>
                  <a:pt x="12086" y="5848"/>
                  <a:pt x="12156" y="5829"/>
                  <a:pt x="12229" y="5829"/>
                </a:cubicBezTo>
                <a:cubicBezTo>
                  <a:pt x="12245" y="5829"/>
                  <a:pt x="12262" y="5829"/>
                  <a:pt x="12278" y="5829"/>
                </a:cubicBezTo>
              </a:path>
              <a:path w="1812" h="919">
                <a:moveTo>
                  <a:pt x="12650" y="5680"/>
                </a:moveTo>
                <a:cubicBezTo>
                  <a:pt x="12698" y="5659"/>
                  <a:pt x="12816" y="5570"/>
                  <a:pt x="12874" y="5556"/>
                </a:cubicBezTo>
                <a:cubicBezTo>
                  <a:pt x="12963" y="5535"/>
                  <a:pt x="13092" y="5556"/>
                  <a:pt x="13146" y="5631"/>
                </a:cubicBezTo>
                <a:cubicBezTo>
                  <a:pt x="13200" y="5705"/>
                  <a:pt x="13163" y="5787"/>
                  <a:pt x="13122" y="5854"/>
                </a:cubicBezTo>
                <a:cubicBezTo>
                  <a:pt x="13072" y="5936"/>
                  <a:pt x="12986" y="5990"/>
                  <a:pt x="12948" y="6077"/>
                </a:cubicBezTo>
                <a:cubicBezTo>
                  <a:pt x="12916" y="6152"/>
                  <a:pt x="12842" y="6219"/>
                  <a:pt x="12824" y="6300"/>
                </a:cubicBezTo>
                <a:cubicBezTo>
                  <a:pt x="12800" y="6406"/>
                  <a:pt x="12840" y="6412"/>
                  <a:pt x="12923" y="6449"/>
                </a:cubicBezTo>
                <a:cubicBezTo>
                  <a:pt x="12996" y="6482"/>
                  <a:pt x="13097" y="6481"/>
                  <a:pt x="13171" y="6449"/>
                </a:cubicBezTo>
                <a:cubicBezTo>
                  <a:pt x="13217" y="6429"/>
                  <a:pt x="13270" y="6397"/>
                  <a:pt x="13320" y="6375"/>
                </a:cubicBezTo>
              </a:path>
              <a:path w="1812" h="919">
                <a:moveTo>
                  <a:pt x="13395" y="5854"/>
                </a:moveTo>
                <a:cubicBezTo>
                  <a:pt x="13444" y="5945"/>
                  <a:pt x="13475" y="6030"/>
                  <a:pt x="13519" y="6127"/>
                </a:cubicBezTo>
                <a:cubicBezTo>
                  <a:pt x="13551" y="6198"/>
                  <a:pt x="13601" y="6279"/>
                  <a:pt x="13667" y="6325"/>
                </a:cubicBezTo>
                <a:cubicBezTo>
                  <a:pt x="13731" y="6370"/>
                  <a:pt x="13763" y="6375"/>
                  <a:pt x="13841" y="6375"/>
                </a:cubicBezTo>
              </a:path>
              <a:path w="1812" h="919">
                <a:moveTo>
                  <a:pt x="13717" y="5854"/>
                </a:moveTo>
                <a:cubicBezTo>
                  <a:pt x="13667" y="5934"/>
                  <a:pt x="13598" y="5956"/>
                  <a:pt x="13543" y="6028"/>
                </a:cubicBezTo>
                <a:cubicBezTo>
                  <a:pt x="13484" y="6105"/>
                  <a:pt x="13445" y="6156"/>
                  <a:pt x="13370" y="6226"/>
                </a:cubicBezTo>
                <a:cubicBezTo>
                  <a:pt x="13325" y="6268"/>
                  <a:pt x="13295" y="6325"/>
                  <a:pt x="13320" y="635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Ink 6"/>
          <p:cNvSpPr/>
          <p:nvPr/>
        </p:nvSpPr>
        <p:spPr>
          <a:xfrm>
            <a:off x="6018120" y="1866960"/>
            <a:ext cx="492120" cy="303120"/>
          </a:xfrm>
          <a:custGeom>
            <a:avLst/>
            <a:gdLst/>
            <a:ahLst/>
            <a:rect l="l" t="t" r="r" b="b"/>
            <a:pathLst>
              <a:path w="1366" h="845">
                <a:moveTo>
                  <a:pt x="16942" y="5407"/>
                </a:moveTo>
                <a:cubicBezTo>
                  <a:pt x="16927" y="5548"/>
                  <a:pt x="16917" y="5666"/>
                  <a:pt x="16917" y="5804"/>
                </a:cubicBezTo>
                <a:cubicBezTo>
                  <a:pt x="16917" y="5863"/>
                  <a:pt x="16942" y="5928"/>
                  <a:pt x="16966" y="5978"/>
                </a:cubicBezTo>
              </a:path>
              <a:path w="1366" h="845">
                <a:moveTo>
                  <a:pt x="16718" y="5705"/>
                </a:moveTo>
                <a:cubicBezTo>
                  <a:pt x="16806" y="5734"/>
                  <a:pt x="16920" y="5746"/>
                  <a:pt x="17016" y="5730"/>
                </a:cubicBezTo>
                <a:cubicBezTo>
                  <a:pt x="17073" y="5711"/>
                  <a:pt x="17080" y="5702"/>
                  <a:pt x="17115" y="5705"/>
                </a:cubicBezTo>
              </a:path>
              <a:path w="1366" h="845">
                <a:moveTo>
                  <a:pt x="17661" y="5259"/>
                </a:moveTo>
                <a:cubicBezTo>
                  <a:pt x="17779" y="5243"/>
                  <a:pt x="17893" y="5225"/>
                  <a:pt x="18008" y="5209"/>
                </a:cubicBezTo>
                <a:cubicBezTo>
                  <a:pt x="18053" y="5209"/>
                  <a:pt x="18066" y="5212"/>
                  <a:pt x="18083" y="5184"/>
                </a:cubicBezTo>
              </a:path>
              <a:path w="1366" h="845">
                <a:moveTo>
                  <a:pt x="17661" y="5308"/>
                </a:moveTo>
                <a:cubicBezTo>
                  <a:pt x="17615" y="5368"/>
                  <a:pt x="17528" y="5443"/>
                  <a:pt x="17562" y="5531"/>
                </a:cubicBezTo>
                <a:cubicBezTo>
                  <a:pt x="17570" y="5539"/>
                  <a:pt x="17579" y="5548"/>
                  <a:pt x="17587" y="5556"/>
                </a:cubicBezTo>
                <a:cubicBezTo>
                  <a:pt x="17650" y="5547"/>
                  <a:pt x="17661" y="5493"/>
                  <a:pt x="17711" y="5482"/>
                </a:cubicBezTo>
                <a:cubicBezTo>
                  <a:pt x="17793" y="5465"/>
                  <a:pt x="17853" y="5476"/>
                  <a:pt x="17909" y="5531"/>
                </a:cubicBezTo>
                <a:cubicBezTo>
                  <a:pt x="17980" y="5601"/>
                  <a:pt x="18028" y="5646"/>
                  <a:pt x="18058" y="5730"/>
                </a:cubicBezTo>
                <a:cubicBezTo>
                  <a:pt x="18079" y="5789"/>
                  <a:pt x="18094" y="5877"/>
                  <a:pt x="18033" y="5928"/>
                </a:cubicBezTo>
                <a:cubicBezTo>
                  <a:pt x="17976" y="5975"/>
                  <a:pt x="17859" y="6025"/>
                  <a:pt x="17785" y="6028"/>
                </a:cubicBezTo>
                <a:cubicBezTo>
                  <a:pt x="17722" y="6031"/>
                  <a:pt x="17637" y="6042"/>
                  <a:pt x="17611" y="600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Ink 7"/>
          <p:cNvSpPr/>
          <p:nvPr/>
        </p:nvSpPr>
        <p:spPr>
          <a:xfrm>
            <a:off x="6973920" y="1874880"/>
            <a:ext cx="1305000" cy="295200"/>
          </a:xfrm>
          <a:custGeom>
            <a:avLst/>
            <a:gdLst/>
            <a:ahLst/>
            <a:rect l="l" t="t" r="r" b="b"/>
            <a:pathLst>
              <a:path w="3623" h="820">
                <a:moveTo>
                  <a:pt x="19372" y="5631"/>
                </a:moveTo>
                <a:cubicBezTo>
                  <a:pt x="19425" y="5599"/>
                  <a:pt x="19530" y="5589"/>
                  <a:pt x="19596" y="5581"/>
                </a:cubicBezTo>
                <a:cubicBezTo>
                  <a:pt x="19652" y="5574"/>
                  <a:pt x="19712" y="5581"/>
                  <a:pt x="19769" y="5581"/>
                </a:cubicBezTo>
              </a:path>
              <a:path w="3623" h="820">
                <a:moveTo>
                  <a:pt x="19943" y="5283"/>
                </a:moveTo>
                <a:cubicBezTo>
                  <a:pt x="20010" y="5218"/>
                  <a:pt x="20099" y="5215"/>
                  <a:pt x="20191" y="5234"/>
                </a:cubicBezTo>
                <a:cubicBezTo>
                  <a:pt x="20227" y="5242"/>
                  <a:pt x="20326" y="5260"/>
                  <a:pt x="20340" y="5308"/>
                </a:cubicBezTo>
                <a:cubicBezTo>
                  <a:pt x="20370" y="5413"/>
                  <a:pt x="20332" y="5464"/>
                  <a:pt x="20265" y="5531"/>
                </a:cubicBezTo>
                <a:cubicBezTo>
                  <a:pt x="20202" y="5594"/>
                  <a:pt x="20156" y="5667"/>
                  <a:pt x="20092" y="5730"/>
                </a:cubicBezTo>
                <a:cubicBezTo>
                  <a:pt x="20030" y="5791"/>
                  <a:pt x="19947" y="5852"/>
                  <a:pt x="19968" y="5953"/>
                </a:cubicBezTo>
                <a:cubicBezTo>
                  <a:pt x="19990" y="6057"/>
                  <a:pt x="20110" y="6043"/>
                  <a:pt x="20191" y="6028"/>
                </a:cubicBezTo>
                <a:cubicBezTo>
                  <a:pt x="20275" y="6013"/>
                  <a:pt x="20296" y="5989"/>
                  <a:pt x="20340" y="5928"/>
                </a:cubicBezTo>
              </a:path>
              <a:path w="3623" h="820">
                <a:moveTo>
                  <a:pt x="20513" y="5457"/>
                </a:moveTo>
                <a:cubicBezTo>
                  <a:pt x="20522" y="5523"/>
                  <a:pt x="20556" y="5567"/>
                  <a:pt x="20588" y="5631"/>
                </a:cubicBezTo>
                <a:cubicBezTo>
                  <a:pt x="20617" y="5688"/>
                  <a:pt x="20709" y="5799"/>
                  <a:pt x="20762" y="5829"/>
                </a:cubicBezTo>
                <a:cubicBezTo>
                  <a:pt x="20855" y="5882"/>
                  <a:pt x="20912" y="5881"/>
                  <a:pt x="21010" y="5854"/>
                </a:cubicBezTo>
              </a:path>
              <a:path w="3623" h="820">
                <a:moveTo>
                  <a:pt x="20836" y="5457"/>
                </a:moveTo>
                <a:cubicBezTo>
                  <a:pt x="20727" y="5533"/>
                  <a:pt x="20707" y="5606"/>
                  <a:pt x="20613" y="5705"/>
                </a:cubicBezTo>
                <a:cubicBezTo>
                  <a:pt x="20549" y="5773"/>
                  <a:pt x="20481" y="5838"/>
                  <a:pt x="20414" y="5904"/>
                </a:cubicBezTo>
                <a:cubicBezTo>
                  <a:pt x="20374" y="5943"/>
                  <a:pt x="20381" y="5956"/>
                  <a:pt x="20414" y="5978"/>
                </a:cubicBezTo>
              </a:path>
              <a:path w="3623" h="820">
                <a:moveTo>
                  <a:pt x="21704" y="5283"/>
                </a:moveTo>
                <a:cubicBezTo>
                  <a:pt x="21682" y="5414"/>
                  <a:pt x="21679" y="5523"/>
                  <a:pt x="21679" y="5655"/>
                </a:cubicBezTo>
                <a:cubicBezTo>
                  <a:pt x="21679" y="5741"/>
                  <a:pt x="21712" y="5776"/>
                  <a:pt x="21729" y="5854"/>
                </a:cubicBezTo>
                <a:cubicBezTo>
                  <a:pt x="21729" y="5871"/>
                  <a:pt x="21729" y="5887"/>
                  <a:pt x="21729" y="5904"/>
                </a:cubicBezTo>
              </a:path>
              <a:path w="3623" h="820">
                <a:moveTo>
                  <a:pt x="21406" y="5606"/>
                </a:moveTo>
                <a:cubicBezTo>
                  <a:pt x="21503" y="5606"/>
                  <a:pt x="21586" y="5594"/>
                  <a:pt x="21679" y="5581"/>
                </a:cubicBezTo>
                <a:cubicBezTo>
                  <a:pt x="21791" y="5566"/>
                  <a:pt x="21888" y="5556"/>
                  <a:pt x="22002" y="5531"/>
                </a:cubicBezTo>
              </a:path>
              <a:path w="3623" h="820">
                <a:moveTo>
                  <a:pt x="22498" y="5234"/>
                </a:moveTo>
                <a:cubicBezTo>
                  <a:pt x="22638" y="5234"/>
                  <a:pt x="22762" y="5242"/>
                  <a:pt x="22895" y="5209"/>
                </a:cubicBezTo>
              </a:path>
              <a:path w="3623" h="820">
                <a:moveTo>
                  <a:pt x="22572" y="5234"/>
                </a:moveTo>
                <a:cubicBezTo>
                  <a:pt x="22489" y="5372"/>
                  <a:pt x="22421" y="5416"/>
                  <a:pt x="22523" y="5482"/>
                </a:cubicBezTo>
                <a:cubicBezTo>
                  <a:pt x="22588" y="5524"/>
                  <a:pt x="22611" y="5494"/>
                  <a:pt x="22671" y="5482"/>
                </a:cubicBezTo>
                <a:cubicBezTo>
                  <a:pt x="22714" y="5473"/>
                  <a:pt x="22818" y="5500"/>
                  <a:pt x="22845" y="5531"/>
                </a:cubicBezTo>
                <a:cubicBezTo>
                  <a:pt x="22936" y="5635"/>
                  <a:pt x="23016" y="5713"/>
                  <a:pt x="22969" y="5854"/>
                </a:cubicBezTo>
                <a:cubicBezTo>
                  <a:pt x="22942" y="5933"/>
                  <a:pt x="22901" y="5952"/>
                  <a:pt x="22845" y="6003"/>
                </a:cubicBezTo>
                <a:cubicBezTo>
                  <a:pt x="22780" y="6062"/>
                  <a:pt x="22634" y="6028"/>
                  <a:pt x="22547" y="6028"/>
                </a:cubicBezTo>
                <a:cubicBezTo>
                  <a:pt x="22455" y="6028"/>
                  <a:pt x="22429" y="6030"/>
                  <a:pt x="22374" y="600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Ink 8"/>
          <p:cNvSpPr/>
          <p:nvPr/>
        </p:nvSpPr>
        <p:spPr>
          <a:xfrm>
            <a:off x="5483160" y="2241720"/>
            <a:ext cx="3009960" cy="669600"/>
          </a:xfrm>
          <a:custGeom>
            <a:avLst/>
            <a:gdLst/>
            <a:ahLst/>
            <a:rect l="l" t="t" r="r" b="b"/>
            <a:pathLst>
              <a:path w="8360" h="1861">
                <a:moveTo>
                  <a:pt x="16346" y="6672"/>
                </a:moveTo>
                <a:cubicBezTo>
                  <a:pt x="16388" y="6736"/>
                  <a:pt x="16405" y="6747"/>
                  <a:pt x="16396" y="6796"/>
                </a:cubicBezTo>
                <a:cubicBezTo>
                  <a:pt x="16364" y="6757"/>
                  <a:pt x="16342" y="6700"/>
                  <a:pt x="16297" y="6672"/>
                </a:cubicBezTo>
                <a:cubicBezTo>
                  <a:pt x="16230" y="6629"/>
                  <a:pt x="16190" y="6597"/>
                  <a:pt x="16123" y="6573"/>
                </a:cubicBezTo>
                <a:cubicBezTo>
                  <a:pt x="16034" y="6542"/>
                  <a:pt x="15993" y="6584"/>
                  <a:pt x="15925" y="6648"/>
                </a:cubicBezTo>
                <a:cubicBezTo>
                  <a:pt x="15839" y="6729"/>
                  <a:pt x="15793" y="6806"/>
                  <a:pt x="15776" y="6921"/>
                </a:cubicBezTo>
                <a:cubicBezTo>
                  <a:pt x="15768" y="6974"/>
                  <a:pt x="15783" y="7108"/>
                  <a:pt x="15825" y="7144"/>
                </a:cubicBezTo>
                <a:cubicBezTo>
                  <a:pt x="15893" y="7201"/>
                  <a:pt x="16000" y="7200"/>
                  <a:pt x="16073" y="7169"/>
                </a:cubicBezTo>
                <a:cubicBezTo>
                  <a:pt x="16156" y="7134"/>
                  <a:pt x="16164" y="7095"/>
                  <a:pt x="16222" y="7045"/>
                </a:cubicBezTo>
                <a:cubicBezTo>
                  <a:pt x="16253" y="7019"/>
                  <a:pt x="16333" y="6967"/>
                  <a:pt x="16346" y="6921"/>
                </a:cubicBezTo>
                <a:cubicBezTo>
                  <a:pt x="16346" y="6904"/>
                  <a:pt x="16346" y="6888"/>
                  <a:pt x="16346" y="6871"/>
                </a:cubicBezTo>
                <a:cubicBezTo>
                  <a:pt x="16339" y="6942"/>
                  <a:pt x="16338" y="7021"/>
                  <a:pt x="16321" y="7094"/>
                </a:cubicBezTo>
                <a:cubicBezTo>
                  <a:pt x="16298" y="7193"/>
                  <a:pt x="16297" y="7287"/>
                  <a:pt x="16297" y="7392"/>
                </a:cubicBezTo>
                <a:cubicBezTo>
                  <a:pt x="16297" y="7485"/>
                  <a:pt x="16260" y="7773"/>
                  <a:pt x="16321" y="7689"/>
                </a:cubicBezTo>
              </a:path>
              <a:path w="8360" h="1861">
                <a:moveTo>
                  <a:pt x="16694" y="6921"/>
                </a:moveTo>
                <a:cubicBezTo>
                  <a:pt x="16694" y="7005"/>
                  <a:pt x="16679" y="7068"/>
                  <a:pt x="16669" y="7144"/>
                </a:cubicBezTo>
                <a:cubicBezTo>
                  <a:pt x="16654" y="7260"/>
                  <a:pt x="16675" y="7391"/>
                  <a:pt x="16694" y="7491"/>
                </a:cubicBezTo>
                <a:cubicBezTo>
                  <a:pt x="16694" y="7508"/>
                  <a:pt x="16694" y="7524"/>
                  <a:pt x="16694" y="7541"/>
                </a:cubicBezTo>
                <a:cubicBezTo>
                  <a:pt x="16721" y="7485"/>
                  <a:pt x="16733" y="7386"/>
                  <a:pt x="16743" y="7317"/>
                </a:cubicBezTo>
                <a:cubicBezTo>
                  <a:pt x="16755" y="7236"/>
                  <a:pt x="16758" y="7146"/>
                  <a:pt x="16768" y="7069"/>
                </a:cubicBezTo>
                <a:cubicBezTo>
                  <a:pt x="16779" y="6985"/>
                  <a:pt x="16770" y="6901"/>
                  <a:pt x="16793" y="6821"/>
                </a:cubicBezTo>
                <a:cubicBezTo>
                  <a:pt x="16812" y="6754"/>
                  <a:pt x="16878" y="6701"/>
                  <a:pt x="16917" y="6648"/>
                </a:cubicBezTo>
                <a:cubicBezTo>
                  <a:pt x="16992" y="6545"/>
                  <a:pt x="17025" y="6583"/>
                  <a:pt x="17140" y="6548"/>
                </a:cubicBezTo>
                <a:cubicBezTo>
                  <a:pt x="17231" y="6520"/>
                  <a:pt x="17316" y="6524"/>
                  <a:pt x="17413" y="6524"/>
                </a:cubicBezTo>
                <a:cubicBezTo>
                  <a:pt x="17523" y="6524"/>
                  <a:pt x="17633" y="6511"/>
                  <a:pt x="17735" y="6548"/>
                </a:cubicBezTo>
              </a:path>
              <a:path w="8360" h="1861">
                <a:moveTo>
                  <a:pt x="17214" y="6871"/>
                </a:moveTo>
                <a:cubicBezTo>
                  <a:pt x="17221" y="6963"/>
                  <a:pt x="17230" y="7064"/>
                  <a:pt x="17289" y="7144"/>
                </a:cubicBezTo>
                <a:cubicBezTo>
                  <a:pt x="17354" y="7233"/>
                  <a:pt x="17405" y="7289"/>
                  <a:pt x="17487" y="7367"/>
                </a:cubicBezTo>
                <a:cubicBezTo>
                  <a:pt x="17555" y="7432"/>
                  <a:pt x="17574" y="7472"/>
                  <a:pt x="17661" y="7516"/>
                </a:cubicBezTo>
                <a:cubicBezTo>
                  <a:pt x="17728" y="7549"/>
                  <a:pt x="17704" y="7530"/>
                  <a:pt x="17760" y="7516"/>
                </a:cubicBezTo>
              </a:path>
              <a:path w="8360" h="1861">
                <a:moveTo>
                  <a:pt x="17562" y="6970"/>
                </a:moveTo>
                <a:cubicBezTo>
                  <a:pt x="17480" y="7145"/>
                  <a:pt x="17408" y="7240"/>
                  <a:pt x="17314" y="7392"/>
                </a:cubicBezTo>
                <a:cubicBezTo>
                  <a:pt x="17282" y="7443"/>
                  <a:pt x="17268" y="7507"/>
                  <a:pt x="17214" y="7541"/>
                </a:cubicBezTo>
                <a:cubicBezTo>
                  <a:pt x="17174" y="7561"/>
                  <a:pt x="17148" y="7569"/>
                  <a:pt x="17190" y="7565"/>
                </a:cubicBezTo>
              </a:path>
              <a:path w="8360" h="1861">
                <a:moveTo>
                  <a:pt x="18058" y="7094"/>
                </a:moveTo>
                <a:cubicBezTo>
                  <a:pt x="18177" y="7076"/>
                  <a:pt x="18285" y="7069"/>
                  <a:pt x="18405" y="7069"/>
                </a:cubicBezTo>
                <a:cubicBezTo>
                  <a:pt x="18422" y="7069"/>
                  <a:pt x="18438" y="7069"/>
                  <a:pt x="18455" y="7069"/>
                </a:cubicBezTo>
              </a:path>
              <a:path w="8360" h="1861">
                <a:moveTo>
                  <a:pt x="18107" y="7268"/>
                </a:moveTo>
                <a:cubicBezTo>
                  <a:pt x="18157" y="7298"/>
                  <a:pt x="18218" y="7315"/>
                  <a:pt x="18281" y="7317"/>
                </a:cubicBezTo>
                <a:cubicBezTo>
                  <a:pt x="18397" y="7317"/>
                  <a:pt x="18413" y="7317"/>
                  <a:pt x="18479" y="7317"/>
                </a:cubicBezTo>
              </a:path>
              <a:path w="8360" h="1861">
                <a:moveTo>
                  <a:pt x="18976" y="7144"/>
                </a:moveTo>
                <a:cubicBezTo>
                  <a:pt x="19081" y="7126"/>
                  <a:pt x="19168" y="7119"/>
                  <a:pt x="19273" y="7119"/>
                </a:cubicBezTo>
                <a:cubicBezTo>
                  <a:pt x="19298" y="7119"/>
                  <a:pt x="19323" y="7119"/>
                  <a:pt x="19348" y="7119"/>
                </a:cubicBezTo>
              </a:path>
              <a:path w="8360" h="1861">
                <a:moveTo>
                  <a:pt x="19496" y="6796"/>
                </a:moveTo>
                <a:cubicBezTo>
                  <a:pt x="19601" y="6724"/>
                  <a:pt x="19638" y="6722"/>
                  <a:pt x="19769" y="6722"/>
                </a:cubicBezTo>
                <a:cubicBezTo>
                  <a:pt x="19816" y="6722"/>
                  <a:pt x="19939" y="6754"/>
                  <a:pt x="19968" y="6796"/>
                </a:cubicBezTo>
                <a:cubicBezTo>
                  <a:pt x="20002" y="6845"/>
                  <a:pt x="19985" y="7020"/>
                  <a:pt x="19943" y="7069"/>
                </a:cubicBezTo>
                <a:cubicBezTo>
                  <a:pt x="19891" y="7129"/>
                  <a:pt x="19785" y="7217"/>
                  <a:pt x="19720" y="7268"/>
                </a:cubicBezTo>
                <a:cubicBezTo>
                  <a:pt x="19634" y="7335"/>
                  <a:pt x="19595" y="7369"/>
                  <a:pt x="19546" y="7466"/>
                </a:cubicBezTo>
                <a:cubicBezTo>
                  <a:pt x="19516" y="7527"/>
                  <a:pt x="19468" y="7554"/>
                  <a:pt x="19521" y="7615"/>
                </a:cubicBezTo>
                <a:cubicBezTo>
                  <a:pt x="19577" y="7679"/>
                  <a:pt x="19663" y="7722"/>
                  <a:pt x="19745" y="7714"/>
                </a:cubicBezTo>
                <a:cubicBezTo>
                  <a:pt x="19807" y="7708"/>
                  <a:pt x="19879" y="7677"/>
                  <a:pt x="19943" y="7665"/>
                </a:cubicBezTo>
              </a:path>
              <a:path w="8360" h="1861">
                <a:moveTo>
                  <a:pt x="20141" y="7169"/>
                </a:moveTo>
                <a:cubicBezTo>
                  <a:pt x="20198" y="7288"/>
                  <a:pt x="20257" y="7364"/>
                  <a:pt x="20340" y="7466"/>
                </a:cubicBezTo>
                <a:cubicBezTo>
                  <a:pt x="20397" y="7535"/>
                  <a:pt x="20473" y="7580"/>
                  <a:pt x="20538" y="7640"/>
                </a:cubicBezTo>
                <a:cubicBezTo>
                  <a:pt x="20602" y="7700"/>
                  <a:pt x="20636" y="7693"/>
                  <a:pt x="20712" y="7665"/>
                </a:cubicBezTo>
              </a:path>
              <a:path w="8360" h="1861">
                <a:moveTo>
                  <a:pt x="20538" y="7243"/>
                </a:moveTo>
                <a:cubicBezTo>
                  <a:pt x="20440" y="7341"/>
                  <a:pt x="20285" y="7459"/>
                  <a:pt x="20191" y="7565"/>
                </a:cubicBezTo>
                <a:cubicBezTo>
                  <a:pt x="20155" y="7605"/>
                  <a:pt x="20078" y="7637"/>
                  <a:pt x="20092" y="7689"/>
                </a:cubicBezTo>
                <a:cubicBezTo>
                  <a:pt x="20100" y="7689"/>
                  <a:pt x="20109" y="7689"/>
                  <a:pt x="20117" y="7689"/>
                </a:cubicBezTo>
              </a:path>
              <a:path w="8360" h="1861">
                <a:moveTo>
                  <a:pt x="21010" y="7069"/>
                </a:moveTo>
                <a:cubicBezTo>
                  <a:pt x="21045" y="7166"/>
                  <a:pt x="21056" y="7234"/>
                  <a:pt x="21059" y="7342"/>
                </a:cubicBezTo>
                <a:cubicBezTo>
                  <a:pt x="21062" y="7444"/>
                  <a:pt x="21115" y="7550"/>
                  <a:pt x="21134" y="7640"/>
                </a:cubicBezTo>
                <a:cubicBezTo>
                  <a:pt x="21134" y="7656"/>
                  <a:pt x="21134" y="7673"/>
                  <a:pt x="21134" y="7689"/>
                </a:cubicBezTo>
              </a:path>
              <a:path w="8360" h="1861">
                <a:moveTo>
                  <a:pt x="20786" y="7342"/>
                </a:moveTo>
                <a:cubicBezTo>
                  <a:pt x="20933" y="7342"/>
                  <a:pt x="21067" y="7334"/>
                  <a:pt x="21208" y="7317"/>
                </a:cubicBezTo>
                <a:cubicBezTo>
                  <a:pt x="21233" y="7317"/>
                  <a:pt x="21257" y="7317"/>
                  <a:pt x="21282" y="7317"/>
                </a:cubicBezTo>
              </a:path>
              <a:path w="8360" h="1861">
                <a:moveTo>
                  <a:pt x="21779" y="6970"/>
                </a:moveTo>
                <a:cubicBezTo>
                  <a:pt x="21903" y="6970"/>
                  <a:pt x="22027" y="6970"/>
                  <a:pt x="22151" y="6970"/>
                </a:cubicBezTo>
              </a:path>
              <a:path w="8360" h="1861">
                <a:moveTo>
                  <a:pt x="21679" y="7020"/>
                </a:moveTo>
                <a:cubicBezTo>
                  <a:pt x="21652" y="7108"/>
                  <a:pt x="21592" y="7160"/>
                  <a:pt x="21630" y="7243"/>
                </a:cubicBezTo>
                <a:cubicBezTo>
                  <a:pt x="21666" y="7323"/>
                  <a:pt x="21767" y="7297"/>
                  <a:pt x="21828" y="7268"/>
                </a:cubicBezTo>
                <a:cubicBezTo>
                  <a:pt x="21864" y="7251"/>
                  <a:pt x="21955" y="7217"/>
                  <a:pt x="22002" y="7243"/>
                </a:cubicBezTo>
                <a:cubicBezTo>
                  <a:pt x="22101" y="7299"/>
                  <a:pt x="22133" y="7368"/>
                  <a:pt x="22175" y="7466"/>
                </a:cubicBezTo>
                <a:cubicBezTo>
                  <a:pt x="22212" y="7553"/>
                  <a:pt x="22244" y="7588"/>
                  <a:pt x="22175" y="7665"/>
                </a:cubicBezTo>
                <a:cubicBezTo>
                  <a:pt x="22100" y="7749"/>
                  <a:pt x="22039" y="7735"/>
                  <a:pt x="21927" y="7739"/>
                </a:cubicBezTo>
                <a:cubicBezTo>
                  <a:pt x="21853" y="7742"/>
                  <a:pt x="21784" y="7714"/>
                  <a:pt x="21704" y="7714"/>
                </a:cubicBezTo>
              </a:path>
              <a:path w="8360" h="1861">
                <a:moveTo>
                  <a:pt x="15577" y="6449"/>
                </a:moveTo>
                <a:cubicBezTo>
                  <a:pt x="15477" y="6550"/>
                  <a:pt x="15448" y="6612"/>
                  <a:pt x="15379" y="6722"/>
                </a:cubicBezTo>
                <a:cubicBezTo>
                  <a:pt x="15313" y="6827"/>
                  <a:pt x="15245" y="6912"/>
                  <a:pt x="15230" y="7045"/>
                </a:cubicBezTo>
                <a:cubicBezTo>
                  <a:pt x="15215" y="7176"/>
                  <a:pt x="15225" y="7330"/>
                  <a:pt x="15304" y="7441"/>
                </a:cubicBezTo>
                <a:cubicBezTo>
                  <a:pt x="15428" y="7615"/>
                  <a:pt x="15540" y="7693"/>
                  <a:pt x="15726" y="7813"/>
                </a:cubicBezTo>
              </a:path>
              <a:path w="8360" h="1861">
                <a:moveTo>
                  <a:pt x="17487" y="6226"/>
                </a:moveTo>
                <a:cubicBezTo>
                  <a:pt x="17597" y="6242"/>
                  <a:pt x="17634" y="6316"/>
                  <a:pt x="17711" y="6400"/>
                </a:cubicBezTo>
                <a:cubicBezTo>
                  <a:pt x="17800" y="6497"/>
                  <a:pt x="17867" y="6615"/>
                  <a:pt x="17884" y="6747"/>
                </a:cubicBezTo>
                <a:cubicBezTo>
                  <a:pt x="17902" y="6880"/>
                  <a:pt x="17906" y="7011"/>
                  <a:pt x="17884" y="7144"/>
                </a:cubicBezTo>
                <a:cubicBezTo>
                  <a:pt x="17860" y="7289"/>
                  <a:pt x="17795" y="7365"/>
                  <a:pt x="17735" y="7491"/>
                </a:cubicBezTo>
                <a:cubicBezTo>
                  <a:pt x="17680" y="7606"/>
                  <a:pt x="17665" y="7631"/>
                  <a:pt x="17562" y="7714"/>
                </a:cubicBezTo>
                <a:cubicBezTo>
                  <a:pt x="17539" y="7737"/>
                  <a:pt x="17535" y="7745"/>
                  <a:pt x="17512" y="7739"/>
                </a:cubicBezTo>
              </a:path>
              <a:path w="8360" h="1861">
                <a:moveTo>
                  <a:pt x="17909" y="6300"/>
                </a:moveTo>
                <a:cubicBezTo>
                  <a:pt x="17954" y="6281"/>
                  <a:pt x="18095" y="6197"/>
                  <a:pt x="18132" y="6300"/>
                </a:cubicBezTo>
                <a:cubicBezTo>
                  <a:pt x="18157" y="6371"/>
                  <a:pt x="18088" y="6402"/>
                  <a:pt x="18058" y="6449"/>
                </a:cubicBezTo>
                <a:cubicBezTo>
                  <a:pt x="18019" y="6510"/>
                  <a:pt x="18021" y="6582"/>
                  <a:pt x="18107" y="6598"/>
                </a:cubicBezTo>
                <a:cubicBezTo>
                  <a:pt x="18182" y="6598"/>
                  <a:pt x="18206" y="6598"/>
                  <a:pt x="18256" y="6598"/>
                </a:cubicBezTo>
              </a:path>
              <a:path w="8360" h="1861">
                <a:moveTo>
                  <a:pt x="18926" y="6524"/>
                </a:moveTo>
                <a:cubicBezTo>
                  <a:pt x="18881" y="6568"/>
                  <a:pt x="18850" y="6612"/>
                  <a:pt x="18827" y="6672"/>
                </a:cubicBezTo>
                <a:cubicBezTo>
                  <a:pt x="18775" y="6804"/>
                  <a:pt x="18712" y="6904"/>
                  <a:pt x="18678" y="7045"/>
                </a:cubicBezTo>
                <a:cubicBezTo>
                  <a:pt x="18649" y="7165"/>
                  <a:pt x="18675" y="7257"/>
                  <a:pt x="18728" y="7367"/>
                </a:cubicBezTo>
                <a:cubicBezTo>
                  <a:pt x="18797" y="7509"/>
                  <a:pt x="18847" y="7582"/>
                  <a:pt x="18976" y="7665"/>
                </a:cubicBezTo>
              </a:path>
              <a:path w="8360" h="1861">
                <a:moveTo>
                  <a:pt x="22275" y="6722"/>
                </a:moveTo>
                <a:cubicBezTo>
                  <a:pt x="22367" y="6780"/>
                  <a:pt x="22441" y="6860"/>
                  <a:pt x="22473" y="6970"/>
                </a:cubicBezTo>
                <a:cubicBezTo>
                  <a:pt x="22534" y="7180"/>
                  <a:pt x="22515" y="7379"/>
                  <a:pt x="22498" y="7590"/>
                </a:cubicBezTo>
                <a:cubicBezTo>
                  <a:pt x="22489" y="7694"/>
                  <a:pt x="22463" y="7789"/>
                  <a:pt x="22423" y="7888"/>
                </a:cubicBezTo>
                <a:cubicBezTo>
                  <a:pt x="22394" y="7961"/>
                  <a:pt x="22354" y="8007"/>
                  <a:pt x="22299" y="8062"/>
                </a:cubicBezTo>
                <a:cubicBezTo>
                  <a:pt x="22261" y="8100"/>
                  <a:pt x="22225" y="8082"/>
                  <a:pt x="22175" y="8086"/>
                </a:cubicBezTo>
              </a:path>
              <a:path w="8360" h="1861">
                <a:moveTo>
                  <a:pt x="22920" y="6598"/>
                </a:moveTo>
                <a:cubicBezTo>
                  <a:pt x="23019" y="6565"/>
                  <a:pt x="23093" y="6537"/>
                  <a:pt x="23192" y="6598"/>
                </a:cubicBezTo>
                <a:cubicBezTo>
                  <a:pt x="23251" y="6635"/>
                  <a:pt x="23219" y="6789"/>
                  <a:pt x="23168" y="6821"/>
                </a:cubicBezTo>
                <a:cubicBezTo>
                  <a:pt x="23124" y="6849"/>
                  <a:pt x="23013" y="6880"/>
                  <a:pt x="22994" y="6945"/>
                </a:cubicBezTo>
                <a:cubicBezTo>
                  <a:pt x="22967" y="7039"/>
                  <a:pt x="23110" y="7060"/>
                  <a:pt x="23168" y="7069"/>
                </a:cubicBezTo>
                <a:cubicBezTo>
                  <a:pt x="23308" y="7092"/>
                  <a:pt x="23445" y="7094"/>
                  <a:pt x="23589" y="709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Ink 9"/>
          <p:cNvSpPr/>
          <p:nvPr/>
        </p:nvSpPr>
        <p:spPr>
          <a:xfrm>
            <a:off x="5599080" y="2973240"/>
            <a:ext cx="3446640" cy="563760"/>
          </a:xfrm>
          <a:custGeom>
            <a:avLst/>
            <a:gdLst/>
            <a:ahLst/>
            <a:rect l="l" t="t" r="r" b="b"/>
            <a:pathLst>
              <a:path w="9575" h="1564">
                <a:moveTo>
                  <a:pt x="16148" y="8434"/>
                </a:moveTo>
                <a:cubicBezTo>
                  <a:pt x="16055" y="8387"/>
                  <a:pt x="15992" y="8381"/>
                  <a:pt x="15875" y="8409"/>
                </a:cubicBezTo>
                <a:cubicBezTo>
                  <a:pt x="15811" y="8425"/>
                  <a:pt x="15651" y="8467"/>
                  <a:pt x="15602" y="8508"/>
                </a:cubicBezTo>
                <a:cubicBezTo>
                  <a:pt x="15527" y="8570"/>
                  <a:pt x="15577" y="8620"/>
                  <a:pt x="15627" y="8682"/>
                </a:cubicBezTo>
                <a:cubicBezTo>
                  <a:pt x="15679" y="8746"/>
                  <a:pt x="15775" y="8807"/>
                  <a:pt x="15825" y="8855"/>
                </a:cubicBezTo>
                <a:cubicBezTo>
                  <a:pt x="15925" y="8950"/>
                  <a:pt x="15982" y="9004"/>
                  <a:pt x="16049" y="9128"/>
                </a:cubicBezTo>
                <a:cubicBezTo>
                  <a:pt x="16088" y="9200"/>
                  <a:pt x="16077" y="9243"/>
                  <a:pt x="16024" y="9302"/>
                </a:cubicBezTo>
                <a:cubicBezTo>
                  <a:pt x="15987" y="9344"/>
                  <a:pt x="15868" y="9340"/>
                  <a:pt x="15825" y="9302"/>
                </a:cubicBezTo>
                <a:cubicBezTo>
                  <a:pt x="15724" y="9213"/>
                  <a:pt x="15708" y="9122"/>
                  <a:pt x="15751" y="9004"/>
                </a:cubicBezTo>
                <a:cubicBezTo>
                  <a:pt x="15776" y="8936"/>
                  <a:pt x="15854" y="8838"/>
                  <a:pt x="15900" y="8781"/>
                </a:cubicBezTo>
                <a:cubicBezTo>
                  <a:pt x="15941" y="8730"/>
                  <a:pt x="15999" y="8646"/>
                  <a:pt x="16049" y="8607"/>
                </a:cubicBezTo>
                <a:cubicBezTo>
                  <a:pt x="16074" y="8591"/>
                  <a:pt x="16098" y="8574"/>
                  <a:pt x="16123" y="8558"/>
                </a:cubicBezTo>
              </a:path>
              <a:path w="9575" h="1564">
                <a:moveTo>
                  <a:pt x="16470" y="8334"/>
                </a:moveTo>
                <a:cubicBezTo>
                  <a:pt x="16531" y="8395"/>
                  <a:pt x="16532" y="8440"/>
                  <a:pt x="16520" y="8533"/>
                </a:cubicBezTo>
                <a:cubicBezTo>
                  <a:pt x="16506" y="8645"/>
                  <a:pt x="16474" y="8746"/>
                  <a:pt x="16470" y="8855"/>
                </a:cubicBezTo>
                <a:cubicBezTo>
                  <a:pt x="16466" y="8959"/>
                  <a:pt x="16478" y="9064"/>
                  <a:pt x="16495" y="9153"/>
                </a:cubicBezTo>
                <a:cubicBezTo>
                  <a:pt x="16510" y="9235"/>
                  <a:pt x="16502" y="9252"/>
                  <a:pt x="16545" y="9327"/>
                </a:cubicBezTo>
              </a:path>
              <a:path w="9575" h="1564">
                <a:moveTo>
                  <a:pt x="16892" y="8731"/>
                </a:moveTo>
                <a:cubicBezTo>
                  <a:pt x="16988" y="8817"/>
                  <a:pt x="17035" y="8944"/>
                  <a:pt x="17115" y="9054"/>
                </a:cubicBezTo>
                <a:cubicBezTo>
                  <a:pt x="17173" y="9135"/>
                  <a:pt x="17267" y="9185"/>
                  <a:pt x="17338" y="9252"/>
                </a:cubicBezTo>
                <a:cubicBezTo>
                  <a:pt x="17400" y="9311"/>
                  <a:pt x="17476" y="9319"/>
                  <a:pt x="17537" y="9376"/>
                </a:cubicBezTo>
                <a:cubicBezTo>
                  <a:pt x="17595" y="9430"/>
                  <a:pt x="17589" y="9426"/>
                  <a:pt x="17661" y="9426"/>
                </a:cubicBezTo>
              </a:path>
              <a:path w="9575" h="1564">
                <a:moveTo>
                  <a:pt x="17314" y="8682"/>
                </a:moveTo>
                <a:cubicBezTo>
                  <a:pt x="17224" y="8799"/>
                  <a:pt x="17175" y="8914"/>
                  <a:pt x="17090" y="9029"/>
                </a:cubicBezTo>
                <a:cubicBezTo>
                  <a:pt x="16999" y="9153"/>
                  <a:pt x="16996" y="9204"/>
                  <a:pt x="16942" y="9327"/>
                </a:cubicBezTo>
                <a:cubicBezTo>
                  <a:pt x="16915" y="9381"/>
                  <a:pt x="16903" y="9401"/>
                  <a:pt x="16867" y="9426"/>
                </a:cubicBezTo>
              </a:path>
              <a:path w="9575" h="1564">
                <a:moveTo>
                  <a:pt x="18231" y="8954"/>
                </a:moveTo>
                <a:cubicBezTo>
                  <a:pt x="18339" y="8954"/>
                  <a:pt x="18446" y="8954"/>
                  <a:pt x="18554" y="8954"/>
                </a:cubicBezTo>
              </a:path>
              <a:path w="9575" h="1564">
                <a:moveTo>
                  <a:pt x="18157" y="9153"/>
                </a:moveTo>
                <a:cubicBezTo>
                  <a:pt x="18297" y="9200"/>
                  <a:pt x="18385" y="9227"/>
                  <a:pt x="18529" y="9227"/>
                </a:cubicBezTo>
              </a:path>
              <a:path w="9575" h="1564">
                <a:moveTo>
                  <a:pt x="19025" y="8806"/>
                </a:moveTo>
                <a:cubicBezTo>
                  <a:pt x="18997" y="8860"/>
                  <a:pt x="18985" y="8917"/>
                  <a:pt x="18976" y="8979"/>
                </a:cubicBezTo>
                <a:cubicBezTo>
                  <a:pt x="19053" y="8979"/>
                  <a:pt x="19103" y="8984"/>
                  <a:pt x="19174" y="9004"/>
                </a:cubicBezTo>
                <a:cubicBezTo>
                  <a:pt x="19282" y="9035"/>
                  <a:pt x="19329" y="9021"/>
                  <a:pt x="19422" y="9004"/>
                </a:cubicBezTo>
                <a:cubicBezTo>
                  <a:pt x="19439" y="9004"/>
                  <a:pt x="19455" y="9004"/>
                  <a:pt x="19472" y="9004"/>
                </a:cubicBezTo>
              </a:path>
              <a:path w="9575" h="1564">
                <a:moveTo>
                  <a:pt x="19447" y="8260"/>
                </a:moveTo>
                <a:cubicBezTo>
                  <a:pt x="19447" y="8374"/>
                  <a:pt x="19425" y="8470"/>
                  <a:pt x="19422" y="8582"/>
                </a:cubicBezTo>
                <a:cubicBezTo>
                  <a:pt x="19418" y="8708"/>
                  <a:pt x="19393" y="8858"/>
                  <a:pt x="19397" y="8979"/>
                </a:cubicBezTo>
                <a:cubicBezTo>
                  <a:pt x="19403" y="9139"/>
                  <a:pt x="19397" y="9267"/>
                  <a:pt x="19397" y="9426"/>
                </a:cubicBezTo>
                <a:cubicBezTo>
                  <a:pt x="19397" y="9465"/>
                  <a:pt x="19407" y="9636"/>
                  <a:pt x="19447" y="9649"/>
                </a:cubicBezTo>
                <a:cubicBezTo>
                  <a:pt x="19447" y="9641"/>
                  <a:pt x="19447" y="9632"/>
                  <a:pt x="19447" y="9624"/>
                </a:cubicBezTo>
              </a:path>
              <a:path w="9575" h="1564">
                <a:moveTo>
                  <a:pt x="19621" y="8855"/>
                </a:moveTo>
                <a:cubicBezTo>
                  <a:pt x="19653" y="8968"/>
                  <a:pt x="19690" y="9051"/>
                  <a:pt x="19745" y="9153"/>
                </a:cubicBezTo>
                <a:cubicBezTo>
                  <a:pt x="19815" y="9282"/>
                  <a:pt x="19881" y="9389"/>
                  <a:pt x="19968" y="9500"/>
                </a:cubicBezTo>
                <a:cubicBezTo>
                  <a:pt x="20022" y="9569"/>
                  <a:pt x="20116" y="9669"/>
                  <a:pt x="20191" y="9699"/>
                </a:cubicBezTo>
              </a:path>
              <a:path w="9575" h="1564">
                <a:moveTo>
                  <a:pt x="20042" y="8830"/>
                </a:moveTo>
                <a:cubicBezTo>
                  <a:pt x="20032" y="8906"/>
                  <a:pt x="20001" y="8982"/>
                  <a:pt x="19968" y="9054"/>
                </a:cubicBezTo>
                <a:cubicBezTo>
                  <a:pt x="19918" y="9164"/>
                  <a:pt x="19858" y="9235"/>
                  <a:pt x="19819" y="9351"/>
                </a:cubicBezTo>
                <a:cubicBezTo>
                  <a:pt x="19772" y="9491"/>
                  <a:pt x="19710" y="9638"/>
                  <a:pt x="19670" y="9773"/>
                </a:cubicBezTo>
                <a:cubicBezTo>
                  <a:pt x="19670" y="9823"/>
                  <a:pt x="19670" y="9840"/>
                  <a:pt x="19720" y="9823"/>
                </a:cubicBezTo>
              </a:path>
              <a:path w="9575" h="1564">
                <a:moveTo>
                  <a:pt x="20067" y="8434"/>
                </a:moveTo>
                <a:cubicBezTo>
                  <a:pt x="20084" y="8429"/>
                  <a:pt x="20365" y="8313"/>
                  <a:pt x="20365" y="8434"/>
                </a:cubicBezTo>
                <a:cubicBezTo>
                  <a:pt x="20365" y="8517"/>
                  <a:pt x="20305" y="8573"/>
                  <a:pt x="20241" y="8607"/>
                </a:cubicBezTo>
                <a:cubicBezTo>
                  <a:pt x="20197" y="8629"/>
                  <a:pt x="20185" y="8632"/>
                  <a:pt x="20166" y="8657"/>
                </a:cubicBezTo>
                <a:cubicBezTo>
                  <a:pt x="20202" y="8740"/>
                  <a:pt x="20243" y="8731"/>
                  <a:pt x="20340" y="8731"/>
                </a:cubicBezTo>
                <a:cubicBezTo>
                  <a:pt x="20439" y="8731"/>
                  <a:pt x="20526" y="8752"/>
                  <a:pt x="20613" y="8756"/>
                </a:cubicBezTo>
                <a:cubicBezTo>
                  <a:pt x="20671" y="8756"/>
                  <a:pt x="20679" y="8756"/>
                  <a:pt x="20712" y="8756"/>
                </a:cubicBezTo>
              </a:path>
              <a:path w="9575" h="1564">
                <a:moveTo>
                  <a:pt x="20538" y="9252"/>
                </a:moveTo>
                <a:cubicBezTo>
                  <a:pt x="20628" y="9213"/>
                  <a:pt x="20754" y="9207"/>
                  <a:pt x="20861" y="9203"/>
                </a:cubicBezTo>
                <a:cubicBezTo>
                  <a:pt x="20877" y="9203"/>
                  <a:pt x="20894" y="9203"/>
                  <a:pt x="20910" y="9203"/>
                </a:cubicBezTo>
              </a:path>
              <a:path w="9575" h="1564">
                <a:moveTo>
                  <a:pt x="21282" y="8930"/>
                </a:moveTo>
                <a:cubicBezTo>
                  <a:pt x="21294" y="8838"/>
                  <a:pt x="21308" y="8811"/>
                  <a:pt x="21406" y="8806"/>
                </a:cubicBezTo>
                <a:cubicBezTo>
                  <a:pt x="21479" y="8802"/>
                  <a:pt x="21563" y="8797"/>
                  <a:pt x="21630" y="8830"/>
                </a:cubicBezTo>
                <a:cubicBezTo>
                  <a:pt x="21748" y="8889"/>
                  <a:pt x="21663" y="9042"/>
                  <a:pt x="21605" y="9103"/>
                </a:cubicBezTo>
                <a:cubicBezTo>
                  <a:pt x="21545" y="9167"/>
                  <a:pt x="21491" y="9213"/>
                  <a:pt x="21431" y="9277"/>
                </a:cubicBezTo>
                <a:cubicBezTo>
                  <a:pt x="21356" y="9357"/>
                  <a:pt x="21340" y="9352"/>
                  <a:pt x="21307" y="9451"/>
                </a:cubicBezTo>
                <a:cubicBezTo>
                  <a:pt x="21280" y="9530"/>
                  <a:pt x="21271" y="9557"/>
                  <a:pt x="21332" y="9624"/>
                </a:cubicBezTo>
                <a:cubicBezTo>
                  <a:pt x="21385" y="9683"/>
                  <a:pt x="21458" y="9674"/>
                  <a:pt x="21530" y="9674"/>
                </a:cubicBezTo>
                <a:cubicBezTo>
                  <a:pt x="21630" y="9674"/>
                  <a:pt x="21657" y="9638"/>
                  <a:pt x="21729" y="9575"/>
                </a:cubicBezTo>
              </a:path>
              <a:path w="9575" h="1564">
                <a:moveTo>
                  <a:pt x="22027" y="8905"/>
                </a:moveTo>
                <a:cubicBezTo>
                  <a:pt x="22017" y="8988"/>
                  <a:pt x="21985" y="9073"/>
                  <a:pt x="21952" y="9153"/>
                </a:cubicBezTo>
                <a:cubicBezTo>
                  <a:pt x="21923" y="9224"/>
                  <a:pt x="21910" y="9322"/>
                  <a:pt x="21927" y="9401"/>
                </a:cubicBezTo>
                <a:cubicBezTo>
                  <a:pt x="21944" y="9482"/>
                  <a:pt x="22013" y="9547"/>
                  <a:pt x="22076" y="9599"/>
                </a:cubicBezTo>
                <a:cubicBezTo>
                  <a:pt x="22140" y="9651"/>
                  <a:pt x="22282" y="9723"/>
                  <a:pt x="22374" y="9674"/>
                </a:cubicBezTo>
                <a:cubicBezTo>
                  <a:pt x="22433" y="9643"/>
                  <a:pt x="22465" y="9559"/>
                  <a:pt x="22473" y="9500"/>
                </a:cubicBezTo>
                <a:cubicBezTo>
                  <a:pt x="22488" y="9389"/>
                  <a:pt x="22461" y="9286"/>
                  <a:pt x="22448" y="9178"/>
                </a:cubicBezTo>
                <a:cubicBezTo>
                  <a:pt x="22434" y="9059"/>
                  <a:pt x="22363" y="8952"/>
                  <a:pt x="22275" y="8880"/>
                </a:cubicBezTo>
                <a:cubicBezTo>
                  <a:pt x="22222" y="8837"/>
                  <a:pt x="22141" y="8811"/>
                  <a:pt x="22076" y="8806"/>
                </a:cubicBezTo>
                <a:cubicBezTo>
                  <a:pt x="22068" y="8806"/>
                  <a:pt x="22059" y="8806"/>
                  <a:pt x="22051" y="8806"/>
                </a:cubicBezTo>
              </a:path>
              <a:path w="9575" h="1564">
                <a:moveTo>
                  <a:pt x="22597" y="9128"/>
                </a:moveTo>
                <a:cubicBezTo>
                  <a:pt x="22696" y="9277"/>
                  <a:pt x="22796" y="9421"/>
                  <a:pt x="22920" y="9550"/>
                </a:cubicBezTo>
                <a:cubicBezTo>
                  <a:pt x="22996" y="9629"/>
                  <a:pt x="23027" y="9674"/>
                  <a:pt x="23118" y="9723"/>
                </a:cubicBezTo>
              </a:path>
              <a:path w="9575" h="1564">
                <a:moveTo>
                  <a:pt x="22994" y="9079"/>
                </a:moveTo>
                <a:cubicBezTo>
                  <a:pt x="22861" y="9268"/>
                  <a:pt x="22741" y="9412"/>
                  <a:pt x="22671" y="9624"/>
                </a:cubicBezTo>
                <a:cubicBezTo>
                  <a:pt x="22647" y="9699"/>
                  <a:pt x="22639" y="9724"/>
                  <a:pt x="22622" y="9773"/>
                </a:cubicBezTo>
              </a:path>
              <a:path w="9575" h="1564">
                <a:moveTo>
                  <a:pt x="23316" y="8806"/>
                </a:moveTo>
                <a:cubicBezTo>
                  <a:pt x="23352" y="8859"/>
                  <a:pt x="23383" y="8940"/>
                  <a:pt x="23391" y="9004"/>
                </a:cubicBezTo>
                <a:cubicBezTo>
                  <a:pt x="23402" y="9089"/>
                  <a:pt x="23403" y="9172"/>
                  <a:pt x="23416" y="9252"/>
                </a:cubicBezTo>
                <a:cubicBezTo>
                  <a:pt x="23429" y="9332"/>
                  <a:pt x="23431" y="9419"/>
                  <a:pt x="23440" y="9500"/>
                </a:cubicBezTo>
              </a:path>
              <a:path w="9575" h="1564">
                <a:moveTo>
                  <a:pt x="23267" y="9227"/>
                </a:moveTo>
                <a:cubicBezTo>
                  <a:pt x="23391" y="9213"/>
                  <a:pt x="23485" y="9227"/>
                  <a:pt x="23614" y="9227"/>
                </a:cubicBezTo>
              </a:path>
              <a:path w="9575" h="1564">
                <a:moveTo>
                  <a:pt x="23713" y="8905"/>
                </a:moveTo>
                <a:cubicBezTo>
                  <a:pt x="23764" y="8815"/>
                  <a:pt x="23811" y="8785"/>
                  <a:pt x="23912" y="8830"/>
                </a:cubicBezTo>
                <a:cubicBezTo>
                  <a:pt x="23961" y="8852"/>
                  <a:pt x="24086" y="8910"/>
                  <a:pt x="24110" y="8954"/>
                </a:cubicBezTo>
                <a:cubicBezTo>
                  <a:pt x="24142" y="9015"/>
                  <a:pt x="24135" y="9133"/>
                  <a:pt x="24135" y="9203"/>
                </a:cubicBezTo>
                <a:cubicBezTo>
                  <a:pt x="24135" y="9330"/>
                  <a:pt x="24051" y="9391"/>
                  <a:pt x="23986" y="9500"/>
                </a:cubicBezTo>
                <a:cubicBezTo>
                  <a:pt x="23948" y="9564"/>
                  <a:pt x="23930" y="9588"/>
                  <a:pt x="23862" y="9624"/>
                </a:cubicBezTo>
                <a:cubicBezTo>
                  <a:pt x="23845" y="9632"/>
                  <a:pt x="23829" y="9641"/>
                  <a:pt x="23812" y="9649"/>
                </a:cubicBezTo>
                <a:cubicBezTo>
                  <a:pt x="23776" y="9603"/>
                  <a:pt x="23738" y="9539"/>
                  <a:pt x="23763" y="9475"/>
                </a:cubicBezTo>
                <a:cubicBezTo>
                  <a:pt x="23780" y="9432"/>
                  <a:pt x="23845" y="9393"/>
                  <a:pt x="23887" y="9401"/>
                </a:cubicBezTo>
                <a:cubicBezTo>
                  <a:pt x="23946" y="9412"/>
                  <a:pt x="24035" y="9465"/>
                  <a:pt x="24085" y="9500"/>
                </a:cubicBezTo>
                <a:cubicBezTo>
                  <a:pt x="24132" y="9532"/>
                  <a:pt x="24190" y="9563"/>
                  <a:pt x="24234" y="9599"/>
                </a:cubicBezTo>
                <a:cubicBezTo>
                  <a:pt x="24275" y="9633"/>
                  <a:pt x="24345" y="9720"/>
                  <a:pt x="24408" y="9699"/>
                </a:cubicBezTo>
                <a:cubicBezTo>
                  <a:pt x="24416" y="9691"/>
                  <a:pt x="24425" y="9682"/>
                  <a:pt x="24433" y="9674"/>
                </a:cubicBezTo>
              </a:path>
              <a:path w="9575" h="1564">
                <a:moveTo>
                  <a:pt x="24557" y="8855"/>
                </a:moveTo>
                <a:cubicBezTo>
                  <a:pt x="24651" y="8838"/>
                  <a:pt x="24781" y="8808"/>
                  <a:pt x="24879" y="8830"/>
                </a:cubicBezTo>
                <a:cubicBezTo>
                  <a:pt x="24927" y="8854"/>
                  <a:pt x="24941" y="8862"/>
                  <a:pt x="24978" y="8855"/>
                </a:cubicBezTo>
              </a:path>
              <a:path w="9575" h="1564">
                <a:moveTo>
                  <a:pt x="24581" y="8830"/>
                </a:moveTo>
                <a:cubicBezTo>
                  <a:pt x="24551" y="8944"/>
                  <a:pt x="24515" y="9015"/>
                  <a:pt x="24557" y="9128"/>
                </a:cubicBezTo>
                <a:cubicBezTo>
                  <a:pt x="24579" y="9187"/>
                  <a:pt x="24669" y="9202"/>
                  <a:pt x="24730" y="9178"/>
                </a:cubicBezTo>
                <a:cubicBezTo>
                  <a:pt x="24778" y="9159"/>
                  <a:pt x="24842" y="9136"/>
                  <a:pt x="24904" y="9153"/>
                </a:cubicBezTo>
                <a:cubicBezTo>
                  <a:pt x="24977" y="9173"/>
                  <a:pt x="25050" y="9261"/>
                  <a:pt x="25078" y="9327"/>
                </a:cubicBezTo>
                <a:cubicBezTo>
                  <a:pt x="25122" y="9428"/>
                  <a:pt x="25127" y="9516"/>
                  <a:pt x="25127" y="9624"/>
                </a:cubicBezTo>
                <a:cubicBezTo>
                  <a:pt x="25127" y="9684"/>
                  <a:pt x="25093" y="9733"/>
                  <a:pt x="25028" y="9748"/>
                </a:cubicBezTo>
                <a:cubicBezTo>
                  <a:pt x="24940" y="9769"/>
                  <a:pt x="24839" y="9711"/>
                  <a:pt x="24755" y="9699"/>
                </a:cubicBezTo>
                <a:cubicBezTo>
                  <a:pt x="24738" y="9699"/>
                  <a:pt x="24722" y="9699"/>
                  <a:pt x="24705" y="969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Ink 10"/>
          <p:cNvSpPr/>
          <p:nvPr/>
        </p:nvSpPr>
        <p:spPr>
          <a:xfrm>
            <a:off x="7340760" y="3544920"/>
            <a:ext cx="839520" cy="403200"/>
          </a:xfrm>
          <a:custGeom>
            <a:avLst/>
            <a:gdLst/>
            <a:ahLst/>
            <a:rect l="l" t="t" r="r" b="b"/>
            <a:pathLst>
              <a:path w="2333" h="1118">
                <a:moveTo>
                  <a:pt x="20389" y="10195"/>
                </a:moveTo>
                <a:cubicBezTo>
                  <a:pt x="20538" y="10195"/>
                  <a:pt x="20687" y="10195"/>
                  <a:pt x="20836" y="10195"/>
                </a:cubicBezTo>
              </a:path>
              <a:path w="2333" h="1118">
                <a:moveTo>
                  <a:pt x="21506" y="9897"/>
                </a:moveTo>
                <a:cubicBezTo>
                  <a:pt x="21461" y="9886"/>
                  <a:pt x="21203" y="9797"/>
                  <a:pt x="21134" y="9847"/>
                </a:cubicBezTo>
                <a:cubicBezTo>
                  <a:pt x="21057" y="9902"/>
                  <a:pt x="21147" y="10029"/>
                  <a:pt x="21183" y="10071"/>
                </a:cubicBezTo>
                <a:cubicBezTo>
                  <a:pt x="21286" y="10192"/>
                  <a:pt x="21398" y="10307"/>
                  <a:pt x="21481" y="10443"/>
                </a:cubicBezTo>
                <a:cubicBezTo>
                  <a:pt x="21517" y="10501"/>
                  <a:pt x="21511" y="10517"/>
                  <a:pt x="21481" y="10567"/>
                </a:cubicBezTo>
                <a:cubicBezTo>
                  <a:pt x="21439" y="10592"/>
                  <a:pt x="21372" y="10619"/>
                  <a:pt x="21332" y="10567"/>
                </a:cubicBezTo>
                <a:cubicBezTo>
                  <a:pt x="21298" y="10522"/>
                  <a:pt x="21246" y="10425"/>
                  <a:pt x="21258" y="10368"/>
                </a:cubicBezTo>
                <a:cubicBezTo>
                  <a:pt x="21278" y="10274"/>
                  <a:pt x="21371" y="10266"/>
                  <a:pt x="21431" y="10220"/>
                </a:cubicBezTo>
                <a:cubicBezTo>
                  <a:pt x="21508" y="10161"/>
                  <a:pt x="21580" y="10076"/>
                  <a:pt x="21630" y="9996"/>
                </a:cubicBezTo>
              </a:path>
              <a:path w="2333" h="1118">
                <a:moveTo>
                  <a:pt x="21704" y="9872"/>
                </a:moveTo>
                <a:cubicBezTo>
                  <a:pt x="21739" y="10032"/>
                  <a:pt x="21790" y="10171"/>
                  <a:pt x="21828" y="10319"/>
                </a:cubicBezTo>
                <a:cubicBezTo>
                  <a:pt x="21853" y="10416"/>
                  <a:pt x="21882" y="10518"/>
                  <a:pt x="21903" y="10616"/>
                </a:cubicBezTo>
                <a:cubicBezTo>
                  <a:pt x="21903" y="10624"/>
                  <a:pt x="21903" y="10633"/>
                  <a:pt x="21903" y="10641"/>
                </a:cubicBezTo>
              </a:path>
              <a:path w="2333" h="1118">
                <a:moveTo>
                  <a:pt x="22175" y="10220"/>
                </a:moveTo>
                <a:cubicBezTo>
                  <a:pt x="22285" y="10337"/>
                  <a:pt x="22399" y="10443"/>
                  <a:pt x="22498" y="10567"/>
                </a:cubicBezTo>
                <a:cubicBezTo>
                  <a:pt x="22569" y="10657"/>
                  <a:pt x="22640" y="10734"/>
                  <a:pt x="22721" y="10815"/>
                </a:cubicBezTo>
              </a:path>
              <a:path w="2333" h="1118">
                <a:moveTo>
                  <a:pt x="22597" y="10170"/>
                </a:moveTo>
                <a:cubicBezTo>
                  <a:pt x="22468" y="10313"/>
                  <a:pt x="22353" y="10453"/>
                  <a:pt x="22250" y="10616"/>
                </a:cubicBezTo>
                <a:cubicBezTo>
                  <a:pt x="22171" y="10741"/>
                  <a:pt x="22095" y="10834"/>
                  <a:pt x="22027" y="1096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Ink 11"/>
          <p:cNvSpPr/>
          <p:nvPr/>
        </p:nvSpPr>
        <p:spPr>
          <a:xfrm>
            <a:off x="5259240" y="3463920"/>
            <a:ext cx="911520" cy="341280"/>
          </a:xfrm>
          <a:custGeom>
            <a:avLst/>
            <a:gdLst/>
            <a:ahLst/>
            <a:rect l="l" t="t" r="r" b="b"/>
            <a:pathLst>
              <a:path w="2531" h="944">
                <a:moveTo>
                  <a:pt x="14610" y="10021"/>
                </a:moveTo>
                <a:cubicBezTo>
                  <a:pt x="14697" y="10021"/>
                  <a:pt x="14771" y="9999"/>
                  <a:pt x="14858" y="9996"/>
                </a:cubicBezTo>
                <a:cubicBezTo>
                  <a:pt x="14982" y="9996"/>
                  <a:pt x="15040" y="9996"/>
                  <a:pt x="15131" y="9996"/>
                </a:cubicBezTo>
              </a:path>
              <a:path w="2531" h="944">
                <a:moveTo>
                  <a:pt x="15974" y="9674"/>
                </a:moveTo>
                <a:cubicBezTo>
                  <a:pt x="15849" y="9630"/>
                  <a:pt x="15780" y="9614"/>
                  <a:pt x="15652" y="9649"/>
                </a:cubicBezTo>
                <a:cubicBezTo>
                  <a:pt x="15629" y="9655"/>
                  <a:pt x="15501" y="9680"/>
                  <a:pt x="15503" y="9723"/>
                </a:cubicBezTo>
                <a:cubicBezTo>
                  <a:pt x="15507" y="9809"/>
                  <a:pt x="15591" y="9914"/>
                  <a:pt x="15652" y="9971"/>
                </a:cubicBezTo>
                <a:cubicBezTo>
                  <a:pt x="15739" y="10053"/>
                  <a:pt x="15860" y="10171"/>
                  <a:pt x="15925" y="10269"/>
                </a:cubicBezTo>
                <a:cubicBezTo>
                  <a:pt x="15977" y="10347"/>
                  <a:pt x="15977" y="10401"/>
                  <a:pt x="15925" y="10468"/>
                </a:cubicBezTo>
                <a:cubicBezTo>
                  <a:pt x="15853" y="10509"/>
                  <a:pt x="15802" y="10479"/>
                  <a:pt x="15726" y="10443"/>
                </a:cubicBezTo>
                <a:cubicBezTo>
                  <a:pt x="15689" y="10425"/>
                  <a:pt x="15591" y="10391"/>
                  <a:pt x="15577" y="10344"/>
                </a:cubicBezTo>
                <a:cubicBezTo>
                  <a:pt x="15557" y="10275"/>
                  <a:pt x="15622" y="10233"/>
                  <a:pt x="15652" y="10195"/>
                </a:cubicBezTo>
                <a:cubicBezTo>
                  <a:pt x="15749" y="10072"/>
                  <a:pt x="15850" y="9970"/>
                  <a:pt x="15974" y="9872"/>
                </a:cubicBezTo>
              </a:path>
              <a:path w="2531" h="944">
                <a:moveTo>
                  <a:pt x="16297" y="9624"/>
                </a:moveTo>
                <a:cubicBezTo>
                  <a:pt x="16282" y="9741"/>
                  <a:pt x="16272" y="9845"/>
                  <a:pt x="16272" y="9971"/>
                </a:cubicBezTo>
                <a:cubicBezTo>
                  <a:pt x="16272" y="10084"/>
                  <a:pt x="16263" y="10189"/>
                  <a:pt x="16297" y="10294"/>
                </a:cubicBezTo>
                <a:cubicBezTo>
                  <a:pt x="16322" y="10370"/>
                  <a:pt x="16353" y="10442"/>
                  <a:pt x="16371" y="10517"/>
                </a:cubicBezTo>
                <a:cubicBezTo>
                  <a:pt x="16371" y="10525"/>
                  <a:pt x="16371" y="10534"/>
                  <a:pt x="16371" y="10542"/>
                </a:cubicBezTo>
              </a:path>
              <a:path w="2531" h="944">
                <a:moveTo>
                  <a:pt x="16594" y="9947"/>
                </a:moveTo>
                <a:cubicBezTo>
                  <a:pt x="16684" y="10050"/>
                  <a:pt x="16753" y="10145"/>
                  <a:pt x="16842" y="10244"/>
                </a:cubicBezTo>
                <a:cubicBezTo>
                  <a:pt x="16919" y="10330"/>
                  <a:pt x="17018" y="10405"/>
                  <a:pt x="17090" y="10492"/>
                </a:cubicBezTo>
                <a:cubicBezTo>
                  <a:pt x="17107" y="10517"/>
                  <a:pt x="17123" y="10542"/>
                  <a:pt x="17140" y="10567"/>
                </a:cubicBezTo>
              </a:path>
              <a:path w="2531" h="944">
                <a:moveTo>
                  <a:pt x="16942" y="10021"/>
                </a:moveTo>
                <a:cubicBezTo>
                  <a:pt x="16842" y="10126"/>
                  <a:pt x="16694" y="10244"/>
                  <a:pt x="16619" y="10368"/>
                </a:cubicBezTo>
                <a:cubicBezTo>
                  <a:pt x="16554" y="10475"/>
                  <a:pt x="16550" y="10469"/>
                  <a:pt x="16570" y="1056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Ink 12"/>
          <p:cNvSpPr/>
          <p:nvPr/>
        </p:nvSpPr>
        <p:spPr>
          <a:xfrm>
            <a:off x="3384720" y="3679920"/>
            <a:ext cx="2152440" cy="561960"/>
          </a:xfrm>
          <a:custGeom>
            <a:avLst/>
            <a:gdLst/>
            <a:ahLst/>
            <a:rect l="l" t="t" r="r" b="b"/>
            <a:pathLst>
              <a:path w="5979" h="1563">
                <a:moveTo>
                  <a:pt x="9723" y="10468"/>
                </a:moveTo>
                <a:cubicBezTo>
                  <a:pt x="9715" y="10649"/>
                  <a:pt x="9697" y="10652"/>
                  <a:pt x="9624" y="10790"/>
                </a:cubicBezTo>
                <a:cubicBezTo>
                  <a:pt x="9578" y="10877"/>
                  <a:pt x="9510" y="10998"/>
                  <a:pt x="9475" y="11088"/>
                </a:cubicBezTo>
                <a:cubicBezTo>
                  <a:pt x="9436" y="11189"/>
                  <a:pt x="9372" y="11370"/>
                  <a:pt x="9401" y="11485"/>
                </a:cubicBezTo>
                <a:cubicBezTo>
                  <a:pt x="9421" y="11566"/>
                  <a:pt x="9455" y="11642"/>
                  <a:pt x="9525" y="11683"/>
                </a:cubicBezTo>
                <a:cubicBezTo>
                  <a:pt x="9578" y="11714"/>
                  <a:pt x="9615" y="11708"/>
                  <a:pt x="9674" y="11708"/>
                </a:cubicBezTo>
              </a:path>
              <a:path w="5979" h="1563">
                <a:moveTo>
                  <a:pt x="9897" y="10815"/>
                </a:moveTo>
                <a:cubicBezTo>
                  <a:pt x="9859" y="10902"/>
                  <a:pt x="9850" y="10960"/>
                  <a:pt x="9823" y="11038"/>
                </a:cubicBezTo>
                <a:cubicBezTo>
                  <a:pt x="9800" y="11104"/>
                  <a:pt x="9777" y="11153"/>
                  <a:pt x="9823" y="11212"/>
                </a:cubicBezTo>
                <a:cubicBezTo>
                  <a:pt x="9851" y="11248"/>
                  <a:pt x="9950" y="11259"/>
                  <a:pt x="9996" y="11261"/>
                </a:cubicBezTo>
                <a:cubicBezTo>
                  <a:pt x="10101" y="11265"/>
                  <a:pt x="10133" y="11235"/>
                  <a:pt x="10220" y="11187"/>
                </a:cubicBezTo>
              </a:path>
              <a:path w="5979" h="1563">
                <a:moveTo>
                  <a:pt x="10195" y="10517"/>
                </a:moveTo>
                <a:cubicBezTo>
                  <a:pt x="10189" y="10672"/>
                  <a:pt x="10170" y="10810"/>
                  <a:pt x="10170" y="10964"/>
                </a:cubicBezTo>
                <a:cubicBezTo>
                  <a:pt x="10170" y="11148"/>
                  <a:pt x="10182" y="11334"/>
                  <a:pt x="10195" y="11509"/>
                </a:cubicBezTo>
                <a:cubicBezTo>
                  <a:pt x="10204" y="11624"/>
                  <a:pt x="10206" y="11686"/>
                  <a:pt x="10220" y="11782"/>
                </a:cubicBezTo>
              </a:path>
              <a:path w="5979" h="1563">
                <a:moveTo>
                  <a:pt x="10418" y="11137"/>
                </a:moveTo>
                <a:cubicBezTo>
                  <a:pt x="10441" y="11216"/>
                  <a:pt x="10470" y="11340"/>
                  <a:pt x="10517" y="11410"/>
                </a:cubicBezTo>
                <a:cubicBezTo>
                  <a:pt x="10569" y="11488"/>
                  <a:pt x="10647" y="11596"/>
                  <a:pt x="10716" y="11658"/>
                </a:cubicBezTo>
                <a:cubicBezTo>
                  <a:pt x="10779" y="11715"/>
                  <a:pt x="10835" y="11729"/>
                  <a:pt x="10914" y="11757"/>
                </a:cubicBezTo>
              </a:path>
              <a:path w="5979" h="1563">
                <a:moveTo>
                  <a:pt x="10740" y="10988"/>
                </a:moveTo>
                <a:cubicBezTo>
                  <a:pt x="10664" y="11147"/>
                  <a:pt x="10584" y="11297"/>
                  <a:pt x="10517" y="11460"/>
                </a:cubicBezTo>
                <a:cubicBezTo>
                  <a:pt x="10488" y="11530"/>
                  <a:pt x="10450" y="11599"/>
                  <a:pt x="10418" y="11658"/>
                </a:cubicBezTo>
                <a:cubicBezTo>
                  <a:pt x="10401" y="11689"/>
                  <a:pt x="10391" y="11761"/>
                  <a:pt x="10418" y="11708"/>
                </a:cubicBezTo>
              </a:path>
              <a:path w="5979" h="1563">
                <a:moveTo>
                  <a:pt x="10790" y="11361"/>
                </a:moveTo>
                <a:cubicBezTo>
                  <a:pt x="10906" y="11367"/>
                  <a:pt x="11003" y="11388"/>
                  <a:pt x="11112" y="11361"/>
                </a:cubicBezTo>
                <a:cubicBezTo>
                  <a:pt x="11178" y="11339"/>
                  <a:pt x="11193" y="11331"/>
                  <a:pt x="11237" y="11336"/>
                </a:cubicBezTo>
              </a:path>
              <a:path w="5979" h="1563">
                <a:moveTo>
                  <a:pt x="11361" y="10740"/>
                </a:moveTo>
                <a:cubicBezTo>
                  <a:pt x="11339" y="10866"/>
                  <a:pt x="11291" y="11007"/>
                  <a:pt x="11311" y="11137"/>
                </a:cubicBezTo>
                <a:cubicBezTo>
                  <a:pt x="11327" y="11242"/>
                  <a:pt x="11325" y="11360"/>
                  <a:pt x="11361" y="11460"/>
                </a:cubicBezTo>
                <a:cubicBezTo>
                  <a:pt x="11378" y="11506"/>
                  <a:pt x="11375" y="11669"/>
                  <a:pt x="11435" y="11683"/>
                </a:cubicBezTo>
                <a:cubicBezTo>
                  <a:pt x="11435" y="11675"/>
                  <a:pt x="11435" y="11666"/>
                  <a:pt x="11435" y="11658"/>
                </a:cubicBezTo>
              </a:path>
              <a:path w="5979" h="1563">
                <a:moveTo>
                  <a:pt x="11311" y="10220"/>
                </a:moveTo>
                <a:cubicBezTo>
                  <a:pt x="11453" y="10278"/>
                  <a:pt x="11493" y="10345"/>
                  <a:pt x="11584" y="10468"/>
                </a:cubicBezTo>
                <a:cubicBezTo>
                  <a:pt x="11678" y="10595"/>
                  <a:pt x="11761" y="10760"/>
                  <a:pt x="11807" y="10914"/>
                </a:cubicBezTo>
                <a:cubicBezTo>
                  <a:pt x="11849" y="11056"/>
                  <a:pt x="11836" y="11196"/>
                  <a:pt x="11807" y="11336"/>
                </a:cubicBezTo>
                <a:cubicBezTo>
                  <a:pt x="11784" y="11449"/>
                  <a:pt x="11732" y="11585"/>
                  <a:pt x="11633" y="11658"/>
                </a:cubicBezTo>
                <a:cubicBezTo>
                  <a:pt x="11587" y="11692"/>
                  <a:pt x="11565" y="11697"/>
                  <a:pt x="11509" y="11708"/>
                </a:cubicBezTo>
              </a:path>
              <a:path w="5979" h="1563">
                <a:moveTo>
                  <a:pt x="12105" y="10542"/>
                </a:moveTo>
                <a:cubicBezTo>
                  <a:pt x="12058" y="10715"/>
                  <a:pt x="11962" y="10888"/>
                  <a:pt x="11931" y="11063"/>
                </a:cubicBezTo>
                <a:cubicBezTo>
                  <a:pt x="11911" y="11175"/>
                  <a:pt x="11935" y="11332"/>
                  <a:pt x="11981" y="11435"/>
                </a:cubicBezTo>
                <a:cubicBezTo>
                  <a:pt x="12021" y="11525"/>
                  <a:pt x="12074" y="11645"/>
                  <a:pt x="12154" y="11708"/>
                </a:cubicBezTo>
                <a:cubicBezTo>
                  <a:pt x="12263" y="11793"/>
                  <a:pt x="12234" y="11784"/>
                  <a:pt x="12353" y="11683"/>
                </a:cubicBezTo>
              </a:path>
              <a:path w="5979" h="1563">
                <a:moveTo>
                  <a:pt x="12353" y="10939"/>
                </a:moveTo>
                <a:cubicBezTo>
                  <a:pt x="12385" y="11003"/>
                  <a:pt x="12425" y="11075"/>
                  <a:pt x="12452" y="11137"/>
                </a:cubicBezTo>
                <a:cubicBezTo>
                  <a:pt x="12517" y="11288"/>
                  <a:pt x="12655" y="11371"/>
                  <a:pt x="12774" y="11485"/>
                </a:cubicBezTo>
                <a:cubicBezTo>
                  <a:pt x="12848" y="11556"/>
                  <a:pt x="12911" y="11629"/>
                  <a:pt x="12998" y="11683"/>
                </a:cubicBezTo>
              </a:path>
              <a:path w="5979" h="1563">
                <a:moveTo>
                  <a:pt x="12750" y="10964"/>
                </a:moveTo>
                <a:cubicBezTo>
                  <a:pt x="12663" y="11068"/>
                  <a:pt x="12520" y="11212"/>
                  <a:pt x="12452" y="11336"/>
                </a:cubicBezTo>
                <a:cubicBezTo>
                  <a:pt x="12419" y="11396"/>
                  <a:pt x="12406" y="11496"/>
                  <a:pt x="12402" y="11559"/>
                </a:cubicBezTo>
                <a:cubicBezTo>
                  <a:pt x="12402" y="11609"/>
                  <a:pt x="12402" y="11625"/>
                  <a:pt x="12402" y="11658"/>
                </a:cubicBezTo>
              </a:path>
              <a:path w="5979" h="1563">
                <a:moveTo>
                  <a:pt x="12898" y="11212"/>
                </a:moveTo>
                <a:cubicBezTo>
                  <a:pt x="13033" y="11195"/>
                  <a:pt x="13129" y="11195"/>
                  <a:pt x="13246" y="11137"/>
                </a:cubicBezTo>
              </a:path>
              <a:path w="5979" h="1563">
                <a:moveTo>
                  <a:pt x="13221" y="10815"/>
                </a:moveTo>
                <a:cubicBezTo>
                  <a:pt x="13352" y="10787"/>
                  <a:pt x="13354" y="10774"/>
                  <a:pt x="13444" y="10864"/>
                </a:cubicBezTo>
                <a:cubicBezTo>
                  <a:pt x="13524" y="10944"/>
                  <a:pt x="13564" y="10974"/>
                  <a:pt x="13568" y="11088"/>
                </a:cubicBezTo>
                <a:cubicBezTo>
                  <a:pt x="13571" y="11172"/>
                  <a:pt x="13546" y="11291"/>
                  <a:pt x="13494" y="11361"/>
                </a:cubicBezTo>
                <a:cubicBezTo>
                  <a:pt x="13446" y="11426"/>
                  <a:pt x="13374" y="11504"/>
                  <a:pt x="13295" y="11509"/>
                </a:cubicBezTo>
                <a:cubicBezTo>
                  <a:pt x="13279" y="11509"/>
                  <a:pt x="13262" y="11509"/>
                  <a:pt x="13246" y="11509"/>
                </a:cubicBezTo>
                <a:cubicBezTo>
                  <a:pt x="13210" y="11401"/>
                  <a:pt x="13197" y="11367"/>
                  <a:pt x="13320" y="11361"/>
                </a:cubicBezTo>
                <a:cubicBezTo>
                  <a:pt x="13402" y="11357"/>
                  <a:pt x="13450" y="11443"/>
                  <a:pt x="13519" y="11485"/>
                </a:cubicBezTo>
                <a:cubicBezTo>
                  <a:pt x="13575" y="11519"/>
                  <a:pt x="13675" y="11578"/>
                  <a:pt x="13742" y="11559"/>
                </a:cubicBezTo>
                <a:cubicBezTo>
                  <a:pt x="13767" y="11534"/>
                  <a:pt x="13775" y="11526"/>
                  <a:pt x="13791" y="11509"/>
                </a:cubicBezTo>
              </a:path>
              <a:path w="5979" h="1563">
                <a:moveTo>
                  <a:pt x="13791" y="10815"/>
                </a:moveTo>
                <a:cubicBezTo>
                  <a:pt x="13906" y="10799"/>
                  <a:pt x="14033" y="10805"/>
                  <a:pt x="14139" y="10765"/>
                </a:cubicBezTo>
              </a:path>
              <a:path w="5979" h="1563">
                <a:moveTo>
                  <a:pt x="13717" y="10840"/>
                </a:moveTo>
                <a:cubicBezTo>
                  <a:pt x="13717" y="10929"/>
                  <a:pt x="13708" y="10953"/>
                  <a:pt x="13767" y="11013"/>
                </a:cubicBezTo>
                <a:cubicBezTo>
                  <a:pt x="13828" y="11075"/>
                  <a:pt x="13823" y="11043"/>
                  <a:pt x="13915" y="11038"/>
                </a:cubicBezTo>
                <a:cubicBezTo>
                  <a:pt x="13999" y="11034"/>
                  <a:pt x="14056" y="11084"/>
                  <a:pt x="14114" y="11137"/>
                </a:cubicBezTo>
                <a:cubicBezTo>
                  <a:pt x="14149" y="11170"/>
                  <a:pt x="14170" y="11329"/>
                  <a:pt x="14163" y="11385"/>
                </a:cubicBezTo>
                <a:cubicBezTo>
                  <a:pt x="14141" y="11550"/>
                  <a:pt x="14119" y="11531"/>
                  <a:pt x="13990" y="11633"/>
                </a:cubicBezTo>
                <a:cubicBezTo>
                  <a:pt x="13932" y="11679"/>
                  <a:pt x="13902" y="11704"/>
                  <a:pt x="13816" y="11683"/>
                </a:cubicBezTo>
                <a:cubicBezTo>
                  <a:pt x="13747" y="11666"/>
                  <a:pt x="13698" y="11590"/>
                  <a:pt x="13667" y="11534"/>
                </a:cubicBezTo>
                <a:cubicBezTo>
                  <a:pt x="13659" y="11518"/>
                  <a:pt x="13651" y="11501"/>
                  <a:pt x="13643" y="11485"/>
                </a:cubicBezTo>
              </a:path>
              <a:path w="5979" h="1563">
                <a:moveTo>
                  <a:pt x="13891" y="10368"/>
                </a:moveTo>
                <a:cubicBezTo>
                  <a:pt x="14020" y="10477"/>
                  <a:pt x="14095" y="10584"/>
                  <a:pt x="14163" y="10740"/>
                </a:cubicBezTo>
                <a:cubicBezTo>
                  <a:pt x="14280" y="11010"/>
                  <a:pt x="14336" y="11250"/>
                  <a:pt x="14188" y="11509"/>
                </a:cubicBezTo>
                <a:cubicBezTo>
                  <a:pt x="14157" y="11563"/>
                  <a:pt x="14111" y="11689"/>
                  <a:pt x="14064" y="11733"/>
                </a:cubicBezTo>
                <a:cubicBezTo>
                  <a:pt x="14024" y="11753"/>
                  <a:pt x="14008" y="11771"/>
                  <a:pt x="14015" y="11733"/>
                </a:cubicBezTo>
              </a:path>
              <a:path w="5979" h="1563">
                <a:moveTo>
                  <a:pt x="14436" y="11137"/>
                </a:moveTo>
                <a:cubicBezTo>
                  <a:pt x="14586" y="11137"/>
                  <a:pt x="14695" y="11125"/>
                  <a:pt x="14833" y="11112"/>
                </a:cubicBezTo>
              </a:path>
              <a:path w="5979" h="1563">
                <a:moveTo>
                  <a:pt x="14486" y="11385"/>
                </a:moveTo>
                <a:cubicBezTo>
                  <a:pt x="14682" y="11432"/>
                  <a:pt x="14648" y="11432"/>
                  <a:pt x="14833" y="11361"/>
                </a:cubicBezTo>
              </a:path>
              <a:path w="5979" h="1563">
                <a:moveTo>
                  <a:pt x="15081" y="10914"/>
                </a:moveTo>
                <a:cubicBezTo>
                  <a:pt x="14938" y="10994"/>
                  <a:pt x="14912" y="11023"/>
                  <a:pt x="14858" y="11187"/>
                </a:cubicBezTo>
                <a:cubicBezTo>
                  <a:pt x="14813" y="11325"/>
                  <a:pt x="14842" y="11431"/>
                  <a:pt x="14908" y="11559"/>
                </a:cubicBezTo>
                <a:cubicBezTo>
                  <a:pt x="14937" y="11615"/>
                  <a:pt x="15028" y="11736"/>
                  <a:pt x="15106" y="11733"/>
                </a:cubicBezTo>
                <a:cubicBezTo>
                  <a:pt x="15225" y="11729"/>
                  <a:pt x="15283" y="11659"/>
                  <a:pt x="15329" y="11559"/>
                </a:cubicBezTo>
                <a:cubicBezTo>
                  <a:pt x="15386" y="11435"/>
                  <a:pt x="15393" y="11318"/>
                  <a:pt x="15354" y="11187"/>
                </a:cubicBezTo>
                <a:cubicBezTo>
                  <a:pt x="15327" y="11097"/>
                  <a:pt x="15234" y="11021"/>
                  <a:pt x="15156" y="10988"/>
                </a:cubicBezTo>
                <a:cubicBezTo>
                  <a:pt x="15074" y="10954"/>
                  <a:pt x="14995" y="10946"/>
                  <a:pt x="14908" y="1093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Ink 13"/>
          <p:cNvSpPr/>
          <p:nvPr/>
        </p:nvSpPr>
        <p:spPr>
          <a:xfrm>
            <a:off x="5956200" y="3938760"/>
            <a:ext cx="2894040" cy="571320"/>
          </a:xfrm>
          <a:custGeom>
            <a:avLst/>
            <a:gdLst/>
            <a:ahLst/>
            <a:rect l="l" t="t" r="r" b="b"/>
            <a:pathLst>
              <a:path w="8037" h="1588">
                <a:moveTo>
                  <a:pt x="16694" y="11336"/>
                </a:moveTo>
                <a:cubicBezTo>
                  <a:pt x="16656" y="11428"/>
                  <a:pt x="16594" y="11528"/>
                  <a:pt x="16619" y="11633"/>
                </a:cubicBezTo>
                <a:cubicBezTo>
                  <a:pt x="16639" y="11717"/>
                  <a:pt x="16701" y="11848"/>
                  <a:pt x="16768" y="11906"/>
                </a:cubicBezTo>
                <a:cubicBezTo>
                  <a:pt x="16804" y="11937"/>
                  <a:pt x="16943" y="11964"/>
                  <a:pt x="16991" y="11956"/>
                </a:cubicBezTo>
                <a:cubicBezTo>
                  <a:pt x="17080" y="11940"/>
                  <a:pt x="17130" y="11892"/>
                  <a:pt x="17190" y="11832"/>
                </a:cubicBezTo>
                <a:cubicBezTo>
                  <a:pt x="17255" y="11767"/>
                  <a:pt x="17300" y="11652"/>
                  <a:pt x="17314" y="11559"/>
                </a:cubicBezTo>
                <a:cubicBezTo>
                  <a:pt x="17336" y="11415"/>
                  <a:pt x="17254" y="11303"/>
                  <a:pt x="17190" y="11187"/>
                </a:cubicBezTo>
                <a:cubicBezTo>
                  <a:pt x="17146" y="11106"/>
                  <a:pt x="17072" y="11077"/>
                  <a:pt x="16991" y="11038"/>
                </a:cubicBezTo>
                <a:cubicBezTo>
                  <a:pt x="16902" y="10996"/>
                  <a:pt x="16864" y="10973"/>
                  <a:pt x="16768" y="11013"/>
                </a:cubicBezTo>
                <a:cubicBezTo>
                  <a:pt x="16693" y="11044"/>
                  <a:pt x="16592" y="11102"/>
                  <a:pt x="16570" y="11187"/>
                </a:cubicBezTo>
                <a:cubicBezTo>
                  <a:pt x="16543" y="11289"/>
                  <a:pt x="16522" y="11433"/>
                  <a:pt x="16570" y="11534"/>
                </a:cubicBezTo>
                <a:cubicBezTo>
                  <a:pt x="16615" y="11604"/>
                  <a:pt x="16627" y="11624"/>
                  <a:pt x="16669" y="11658"/>
                </a:cubicBezTo>
              </a:path>
              <a:path w="8037" h="1588">
                <a:moveTo>
                  <a:pt x="17661" y="11385"/>
                </a:moveTo>
                <a:cubicBezTo>
                  <a:pt x="17819" y="11385"/>
                  <a:pt x="17848" y="11372"/>
                  <a:pt x="17934" y="11410"/>
                </a:cubicBezTo>
              </a:path>
              <a:path w="8037" h="1588">
                <a:moveTo>
                  <a:pt x="17686" y="11559"/>
                </a:moveTo>
                <a:cubicBezTo>
                  <a:pt x="17749" y="11648"/>
                  <a:pt x="17783" y="11634"/>
                  <a:pt x="17884" y="11658"/>
                </a:cubicBezTo>
                <a:cubicBezTo>
                  <a:pt x="17959" y="11683"/>
                  <a:pt x="17983" y="11691"/>
                  <a:pt x="18033" y="11658"/>
                </a:cubicBezTo>
              </a:path>
              <a:path w="8037" h="1588">
                <a:moveTo>
                  <a:pt x="18479" y="11162"/>
                </a:moveTo>
                <a:cubicBezTo>
                  <a:pt x="18442" y="11218"/>
                  <a:pt x="18409" y="11271"/>
                  <a:pt x="18405" y="11336"/>
                </a:cubicBezTo>
                <a:cubicBezTo>
                  <a:pt x="18402" y="11392"/>
                  <a:pt x="18431" y="11474"/>
                  <a:pt x="18479" y="11509"/>
                </a:cubicBezTo>
                <a:cubicBezTo>
                  <a:pt x="18552" y="11561"/>
                  <a:pt x="18685" y="11658"/>
                  <a:pt x="18777" y="11658"/>
                </a:cubicBezTo>
                <a:cubicBezTo>
                  <a:pt x="18794" y="11650"/>
                  <a:pt x="18810" y="11641"/>
                  <a:pt x="18827" y="11633"/>
                </a:cubicBezTo>
              </a:path>
              <a:path w="8037" h="1588">
                <a:moveTo>
                  <a:pt x="18802" y="10964"/>
                </a:moveTo>
                <a:cubicBezTo>
                  <a:pt x="18793" y="11098"/>
                  <a:pt x="18777" y="11226"/>
                  <a:pt x="18777" y="11361"/>
                </a:cubicBezTo>
                <a:cubicBezTo>
                  <a:pt x="18777" y="11505"/>
                  <a:pt x="18834" y="11641"/>
                  <a:pt x="18852" y="11782"/>
                </a:cubicBezTo>
                <a:cubicBezTo>
                  <a:pt x="18861" y="11853"/>
                  <a:pt x="18852" y="11934"/>
                  <a:pt x="18852" y="12005"/>
                </a:cubicBezTo>
              </a:path>
              <a:path w="8037" h="1588">
                <a:moveTo>
                  <a:pt x="19149" y="11534"/>
                </a:moveTo>
                <a:cubicBezTo>
                  <a:pt x="19244" y="11676"/>
                  <a:pt x="19340" y="11800"/>
                  <a:pt x="19447" y="11931"/>
                </a:cubicBezTo>
                <a:cubicBezTo>
                  <a:pt x="19529" y="12031"/>
                  <a:pt x="19609" y="12109"/>
                  <a:pt x="19695" y="12204"/>
                </a:cubicBezTo>
              </a:path>
              <a:path w="8037" h="1588">
                <a:moveTo>
                  <a:pt x="19521" y="11435"/>
                </a:moveTo>
                <a:cubicBezTo>
                  <a:pt x="19478" y="11521"/>
                  <a:pt x="19445" y="11591"/>
                  <a:pt x="19397" y="11683"/>
                </a:cubicBezTo>
                <a:cubicBezTo>
                  <a:pt x="19332" y="11809"/>
                  <a:pt x="19311" y="11952"/>
                  <a:pt x="19248" y="12080"/>
                </a:cubicBezTo>
                <a:cubicBezTo>
                  <a:pt x="19225" y="12127"/>
                  <a:pt x="19224" y="12146"/>
                  <a:pt x="19224" y="12204"/>
                </a:cubicBezTo>
              </a:path>
              <a:path w="8037" h="1588">
                <a:moveTo>
                  <a:pt x="19621" y="10988"/>
                </a:moveTo>
                <a:cubicBezTo>
                  <a:pt x="19730" y="10956"/>
                  <a:pt x="19813" y="10917"/>
                  <a:pt x="19918" y="10964"/>
                </a:cubicBezTo>
                <a:cubicBezTo>
                  <a:pt x="19968" y="10987"/>
                  <a:pt x="19949" y="11105"/>
                  <a:pt x="19918" y="11137"/>
                </a:cubicBezTo>
                <a:cubicBezTo>
                  <a:pt x="19855" y="11201"/>
                  <a:pt x="19769" y="11162"/>
                  <a:pt x="19794" y="11286"/>
                </a:cubicBezTo>
                <a:cubicBezTo>
                  <a:pt x="19808" y="11357"/>
                  <a:pt x="19933" y="11410"/>
                  <a:pt x="19993" y="11435"/>
                </a:cubicBezTo>
                <a:cubicBezTo>
                  <a:pt x="20018" y="11443"/>
                  <a:pt x="20042" y="11452"/>
                  <a:pt x="20067" y="11460"/>
                </a:cubicBezTo>
              </a:path>
              <a:path w="8037" h="1588">
                <a:moveTo>
                  <a:pt x="19993" y="11733"/>
                </a:moveTo>
                <a:cubicBezTo>
                  <a:pt x="20207" y="11772"/>
                  <a:pt x="20239" y="11788"/>
                  <a:pt x="20365" y="11782"/>
                </a:cubicBezTo>
              </a:path>
              <a:path w="8037" h="1588">
                <a:moveTo>
                  <a:pt x="20786" y="11385"/>
                </a:moveTo>
                <a:cubicBezTo>
                  <a:pt x="20766" y="11500"/>
                  <a:pt x="20749" y="11620"/>
                  <a:pt x="20737" y="11733"/>
                </a:cubicBezTo>
                <a:cubicBezTo>
                  <a:pt x="20726" y="11837"/>
                  <a:pt x="20740" y="11956"/>
                  <a:pt x="20762" y="12055"/>
                </a:cubicBezTo>
                <a:cubicBezTo>
                  <a:pt x="20781" y="12112"/>
                  <a:pt x="20789" y="12119"/>
                  <a:pt x="20786" y="12154"/>
                </a:cubicBezTo>
              </a:path>
              <a:path w="8037" h="1588">
                <a:moveTo>
                  <a:pt x="21109" y="11509"/>
                </a:moveTo>
                <a:cubicBezTo>
                  <a:pt x="21067" y="11624"/>
                  <a:pt x="20996" y="11730"/>
                  <a:pt x="21010" y="11857"/>
                </a:cubicBezTo>
                <a:cubicBezTo>
                  <a:pt x="21016" y="11913"/>
                  <a:pt x="21097" y="12045"/>
                  <a:pt x="21134" y="12080"/>
                </a:cubicBezTo>
                <a:cubicBezTo>
                  <a:pt x="21187" y="12130"/>
                  <a:pt x="21291" y="12197"/>
                  <a:pt x="21357" y="12204"/>
                </a:cubicBezTo>
                <a:cubicBezTo>
                  <a:pt x="21451" y="12215"/>
                  <a:pt x="21486" y="12148"/>
                  <a:pt x="21530" y="12080"/>
                </a:cubicBezTo>
                <a:cubicBezTo>
                  <a:pt x="21608" y="11960"/>
                  <a:pt x="21623" y="11840"/>
                  <a:pt x="21580" y="11708"/>
                </a:cubicBezTo>
                <a:cubicBezTo>
                  <a:pt x="21541" y="11587"/>
                  <a:pt x="21489" y="11546"/>
                  <a:pt x="21382" y="11485"/>
                </a:cubicBezTo>
                <a:cubicBezTo>
                  <a:pt x="21319" y="11449"/>
                  <a:pt x="21246" y="11447"/>
                  <a:pt x="21183" y="11485"/>
                </a:cubicBezTo>
                <a:cubicBezTo>
                  <a:pt x="21121" y="11523"/>
                  <a:pt x="21093" y="11615"/>
                  <a:pt x="21109" y="11683"/>
                </a:cubicBezTo>
                <a:cubicBezTo>
                  <a:pt x="21125" y="11724"/>
                  <a:pt x="21142" y="11766"/>
                  <a:pt x="21158" y="11807"/>
                </a:cubicBezTo>
              </a:path>
              <a:path w="8037" h="1588">
                <a:moveTo>
                  <a:pt x="21704" y="11485"/>
                </a:moveTo>
                <a:cubicBezTo>
                  <a:pt x="21711" y="11611"/>
                  <a:pt x="21708" y="11756"/>
                  <a:pt x="21729" y="11881"/>
                </a:cubicBezTo>
                <a:cubicBezTo>
                  <a:pt x="21743" y="11967"/>
                  <a:pt x="21809" y="12054"/>
                  <a:pt x="21828" y="12129"/>
                </a:cubicBezTo>
                <a:cubicBezTo>
                  <a:pt x="21828" y="12174"/>
                  <a:pt x="21825" y="12187"/>
                  <a:pt x="21853" y="12204"/>
                </a:cubicBezTo>
              </a:path>
              <a:path w="8037" h="1588">
                <a:moveTo>
                  <a:pt x="22076" y="11609"/>
                </a:moveTo>
                <a:cubicBezTo>
                  <a:pt x="22158" y="11731"/>
                  <a:pt x="22226" y="11859"/>
                  <a:pt x="22299" y="11981"/>
                </a:cubicBezTo>
                <a:cubicBezTo>
                  <a:pt x="22356" y="12076"/>
                  <a:pt x="22427" y="12191"/>
                  <a:pt x="22498" y="12278"/>
                </a:cubicBezTo>
              </a:path>
              <a:path w="8037" h="1588">
                <a:moveTo>
                  <a:pt x="22374" y="11584"/>
                </a:moveTo>
                <a:cubicBezTo>
                  <a:pt x="22294" y="11685"/>
                  <a:pt x="22188" y="11799"/>
                  <a:pt x="22126" y="11906"/>
                </a:cubicBezTo>
                <a:cubicBezTo>
                  <a:pt x="22088" y="11972"/>
                  <a:pt x="22068" y="12063"/>
                  <a:pt x="22051" y="12129"/>
                </a:cubicBezTo>
              </a:path>
              <a:path w="8037" h="1588">
                <a:moveTo>
                  <a:pt x="22920" y="11509"/>
                </a:moveTo>
                <a:cubicBezTo>
                  <a:pt x="22912" y="11603"/>
                  <a:pt x="22895" y="11686"/>
                  <a:pt x="22895" y="11782"/>
                </a:cubicBezTo>
                <a:cubicBezTo>
                  <a:pt x="22895" y="11881"/>
                  <a:pt x="22895" y="11981"/>
                  <a:pt x="22895" y="12080"/>
                </a:cubicBezTo>
              </a:path>
              <a:path w="8037" h="1588">
                <a:moveTo>
                  <a:pt x="22820" y="11832"/>
                </a:moveTo>
                <a:cubicBezTo>
                  <a:pt x="22998" y="11868"/>
                  <a:pt x="23081" y="11922"/>
                  <a:pt x="23217" y="11832"/>
                </a:cubicBezTo>
              </a:path>
              <a:path w="8037" h="1588">
                <a:moveTo>
                  <a:pt x="23564" y="11534"/>
                </a:moveTo>
                <a:cubicBezTo>
                  <a:pt x="23621" y="11534"/>
                  <a:pt x="23718" y="11514"/>
                  <a:pt x="23763" y="11559"/>
                </a:cubicBezTo>
                <a:cubicBezTo>
                  <a:pt x="23810" y="11606"/>
                  <a:pt x="23845" y="11744"/>
                  <a:pt x="23837" y="11807"/>
                </a:cubicBezTo>
                <a:cubicBezTo>
                  <a:pt x="23820" y="11941"/>
                  <a:pt x="23785" y="12064"/>
                  <a:pt x="23664" y="12129"/>
                </a:cubicBezTo>
                <a:cubicBezTo>
                  <a:pt x="23581" y="12174"/>
                  <a:pt x="23567" y="12193"/>
                  <a:pt x="23490" y="12204"/>
                </a:cubicBezTo>
                <a:cubicBezTo>
                  <a:pt x="23476" y="12133"/>
                  <a:pt x="23530" y="12109"/>
                  <a:pt x="23614" y="12105"/>
                </a:cubicBezTo>
                <a:cubicBezTo>
                  <a:pt x="23696" y="12101"/>
                  <a:pt x="23762" y="12103"/>
                  <a:pt x="23837" y="12129"/>
                </a:cubicBezTo>
                <a:cubicBezTo>
                  <a:pt x="23965" y="12173"/>
                  <a:pt x="23957" y="12157"/>
                  <a:pt x="24061" y="12080"/>
                </a:cubicBezTo>
              </a:path>
              <a:path w="8037" h="1588">
                <a:moveTo>
                  <a:pt x="24284" y="11534"/>
                </a:moveTo>
                <a:cubicBezTo>
                  <a:pt x="24458" y="11573"/>
                  <a:pt x="24485" y="11574"/>
                  <a:pt x="24581" y="11609"/>
                </a:cubicBezTo>
              </a:path>
              <a:path w="8037" h="1588">
                <a:moveTo>
                  <a:pt x="24234" y="11559"/>
                </a:moveTo>
                <a:cubicBezTo>
                  <a:pt x="24222" y="11590"/>
                  <a:pt x="24181" y="11711"/>
                  <a:pt x="24185" y="11733"/>
                </a:cubicBezTo>
                <a:cubicBezTo>
                  <a:pt x="24201" y="11816"/>
                  <a:pt x="24217" y="11831"/>
                  <a:pt x="24284" y="11881"/>
                </a:cubicBezTo>
                <a:cubicBezTo>
                  <a:pt x="24362" y="11938"/>
                  <a:pt x="24429" y="11974"/>
                  <a:pt x="24482" y="12055"/>
                </a:cubicBezTo>
                <a:cubicBezTo>
                  <a:pt x="24529" y="12127"/>
                  <a:pt x="24552" y="12217"/>
                  <a:pt x="24532" y="12303"/>
                </a:cubicBezTo>
                <a:cubicBezTo>
                  <a:pt x="24515" y="12378"/>
                  <a:pt x="24433" y="12480"/>
                  <a:pt x="24358" y="12502"/>
                </a:cubicBezTo>
                <a:cubicBezTo>
                  <a:pt x="24279" y="12526"/>
                  <a:pt x="24139" y="12537"/>
                  <a:pt x="24061" y="12502"/>
                </a:cubicBezTo>
                <a:cubicBezTo>
                  <a:pt x="23954" y="12454"/>
                  <a:pt x="23859" y="12370"/>
                  <a:pt x="23763" y="1230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Ink 14"/>
          <p:cNvSpPr/>
          <p:nvPr/>
        </p:nvSpPr>
        <p:spPr>
          <a:xfrm>
            <a:off x="3697200" y="5027760"/>
            <a:ext cx="1589040" cy="615960"/>
          </a:xfrm>
          <a:custGeom>
            <a:avLst/>
            <a:gdLst/>
            <a:ahLst/>
            <a:rect l="l" t="t" r="r" b="b"/>
            <a:pathLst>
              <a:path w="4416" h="1713">
                <a:moveTo>
                  <a:pt x="10418" y="14312"/>
                </a:moveTo>
                <a:cubicBezTo>
                  <a:pt x="10456" y="14436"/>
                  <a:pt x="10497" y="14573"/>
                  <a:pt x="10567" y="14684"/>
                </a:cubicBezTo>
                <a:cubicBezTo>
                  <a:pt x="10658" y="14830"/>
                  <a:pt x="10779" y="14933"/>
                  <a:pt x="10889" y="15056"/>
                </a:cubicBezTo>
                <a:cubicBezTo>
                  <a:pt x="10943" y="15137"/>
                  <a:pt x="10965" y="15165"/>
                  <a:pt x="11038" y="15180"/>
                </a:cubicBezTo>
              </a:path>
              <a:path w="4416" h="1713">
                <a:moveTo>
                  <a:pt x="10765" y="14163"/>
                </a:moveTo>
                <a:cubicBezTo>
                  <a:pt x="10654" y="14335"/>
                  <a:pt x="10562" y="14519"/>
                  <a:pt x="10443" y="14684"/>
                </a:cubicBezTo>
                <a:cubicBezTo>
                  <a:pt x="10386" y="14763"/>
                  <a:pt x="10304" y="14893"/>
                  <a:pt x="10269" y="14982"/>
                </a:cubicBezTo>
                <a:cubicBezTo>
                  <a:pt x="10269" y="14999"/>
                  <a:pt x="10269" y="15015"/>
                  <a:pt x="10269" y="15032"/>
                </a:cubicBezTo>
              </a:path>
              <a:path w="4416" h="1713">
                <a:moveTo>
                  <a:pt x="10964" y="14412"/>
                </a:moveTo>
                <a:cubicBezTo>
                  <a:pt x="11080" y="14412"/>
                  <a:pt x="11195" y="14412"/>
                  <a:pt x="11311" y="14412"/>
                </a:cubicBezTo>
              </a:path>
              <a:path w="4416" h="1713">
                <a:moveTo>
                  <a:pt x="10939" y="14610"/>
                </a:moveTo>
                <a:cubicBezTo>
                  <a:pt x="11145" y="14703"/>
                  <a:pt x="11166" y="14768"/>
                  <a:pt x="11286" y="14709"/>
                </a:cubicBezTo>
              </a:path>
              <a:path w="4416" h="1713">
                <a:moveTo>
                  <a:pt x="11782" y="14114"/>
                </a:moveTo>
                <a:cubicBezTo>
                  <a:pt x="11761" y="14248"/>
                  <a:pt x="11750" y="14379"/>
                  <a:pt x="11782" y="14511"/>
                </a:cubicBezTo>
                <a:cubicBezTo>
                  <a:pt x="11793" y="14557"/>
                  <a:pt x="11810" y="14598"/>
                  <a:pt x="11832" y="14635"/>
                </a:cubicBezTo>
              </a:path>
              <a:path w="4416" h="1713">
                <a:moveTo>
                  <a:pt x="12080" y="13965"/>
                </a:moveTo>
                <a:cubicBezTo>
                  <a:pt x="12073" y="14120"/>
                  <a:pt x="12055" y="14263"/>
                  <a:pt x="12005" y="14412"/>
                </a:cubicBezTo>
                <a:cubicBezTo>
                  <a:pt x="11944" y="14592"/>
                  <a:pt x="11884" y="14773"/>
                  <a:pt x="11832" y="14957"/>
                </a:cubicBezTo>
                <a:cubicBezTo>
                  <a:pt x="11803" y="15058"/>
                  <a:pt x="11738" y="15132"/>
                  <a:pt x="11708" y="15230"/>
                </a:cubicBezTo>
                <a:cubicBezTo>
                  <a:pt x="11708" y="15238"/>
                  <a:pt x="11708" y="15247"/>
                  <a:pt x="11708" y="15255"/>
                </a:cubicBezTo>
              </a:path>
              <a:path w="4416" h="1713">
                <a:moveTo>
                  <a:pt x="12105" y="14436"/>
                </a:moveTo>
                <a:cubicBezTo>
                  <a:pt x="12105" y="14518"/>
                  <a:pt x="12083" y="14563"/>
                  <a:pt x="12080" y="14635"/>
                </a:cubicBezTo>
                <a:cubicBezTo>
                  <a:pt x="12077" y="14706"/>
                  <a:pt x="12061" y="14812"/>
                  <a:pt x="12154" y="14833"/>
                </a:cubicBezTo>
                <a:cubicBezTo>
                  <a:pt x="12223" y="14849"/>
                  <a:pt x="12341" y="14845"/>
                  <a:pt x="12402" y="14808"/>
                </a:cubicBezTo>
                <a:cubicBezTo>
                  <a:pt x="12410" y="14800"/>
                  <a:pt x="12419" y="14792"/>
                  <a:pt x="12427" y="14784"/>
                </a:cubicBezTo>
              </a:path>
              <a:path w="4416" h="1713">
                <a:moveTo>
                  <a:pt x="12452" y="14362"/>
                </a:moveTo>
                <a:cubicBezTo>
                  <a:pt x="12416" y="14545"/>
                  <a:pt x="12392" y="14723"/>
                  <a:pt x="12378" y="14908"/>
                </a:cubicBezTo>
                <a:cubicBezTo>
                  <a:pt x="12366" y="15073"/>
                  <a:pt x="12353" y="15238"/>
                  <a:pt x="12353" y="15404"/>
                </a:cubicBezTo>
                <a:cubicBezTo>
                  <a:pt x="12353" y="15462"/>
                  <a:pt x="12353" y="15470"/>
                  <a:pt x="12353" y="15503"/>
                </a:cubicBezTo>
              </a:path>
              <a:path w="4416" h="1713">
                <a:moveTo>
                  <a:pt x="12824" y="15304"/>
                </a:moveTo>
                <a:cubicBezTo>
                  <a:pt x="12808" y="15422"/>
                  <a:pt x="12774" y="15556"/>
                  <a:pt x="12774" y="15677"/>
                </a:cubicBezTo>
              </a:path>
              <a:path w="4416" h="1713">
                <a:moveTo>
                  <a:pt x="13196" y="14263"/>
                </a:moveTo>
                <a:cubicBezTo>
                  <a:pt x="13264" y="14219"/>
                  <a:pt x="13331" y="14163"/>
                  <a:pt x="13419" y="14188"/>
                </a:cubicBezTo>
                <a:cubicBezTo>
                  <a:pt x="13495" y="14209"/>
                  <a:pt x="13594" y="14250"/>
                  <a:pt x="13618" y="14337"/>
                </a:cubicBezTo>
                <a:cubicBezTo>
                  <a:pt x="13657" y="14475"/>
                  <a:pt x="13630" y="14621"/>
                  <a:pt x="13593" y="14759"/>
                </a:cubicBezTo>
                <a:cubicBezTo>
                  <a:pt x="13558" y="14891"/>
                  <a:pt x="13521" y="14924"/>
                  <a:pt x="13419" y="15007"/>
                </a:cubicBezTo>
                <a:cubicBezTo>
                  <a:pt x="13364" y="15052"/>
                  <a:pt x="13265" y="15105"/>
                  <a:pt x="13221" y="15007"/>
                </a:cubicBezTo>
                <a:cubicBezTo>
                  <a:pt x="13186" y="14931"/>
                  <a:pt x="13186" y="14804"/>
                  <a:pt x="13221" y="14734"/>
                </a:cubicBezTo>
                <a:cubicBezTo>
                  <a:pt x="13251" y="14704"/>
                  <a:pt x="13265" y="14693"/>
                  <a:pt x="13295" y="14684"/>
                </a:cubicBezTo>
                <a:cubicBezTo>
                  <a:pt x="13379" y="14722"/>
                  <a:pt x="13479" y="14763"/>
                  <a:pt x="13543" y="14833"/>
                </a:cubicBezTo>
                <a:cubicBezTo>
                  <a:pt x="13651" y="14952"/>
                  <a:pt x="13629" y="14967"/>
                  <a:pt x="13767" y="14982"/>
                </a:cubicBezTo>
              </a:path>
              <a:path w="4416" h="1713">
                <a:moveTo>
                  <a:pt x="14139" y="14238"/>
                </a:moveTo>
                <a:cubicBezTo>
                  <a:pt x="14215" y="14204"/>
                  <a:pt x="14288" y="14192"/>
                  <a:pt x="14362" y="14163"/>
                </a:cubicBezTo>
                <a:cubicBezTo>
                  <a:pt x="14403" y="14147"/>
                  <a:pt x="14445" y="14130"/>
                  <a:pt x="14486" y="14114"/>
                </a:cubicBezTo>
              </a:path>
              <a:path w="4416" h="1713">
                <a:moveTo>
                  <a:pt x="14064" y="14337"/>
                </a:moveTo>
                <a:cubicBezTo>
                  <a:pt x="14007" y="14451"/>
                  <a:pt x="13983" y="14462"/>
                  <a:pt x="13990" y="14536"/>
                </a:cubicBezTo>
                <a:cubicBezTo>
                  <a:pt x="14074" y="14576"/>
                  <a:pt x="14174" y="14558"/>
                  <a:pt x="14263" y="14585"/>
                </a:cubicBezTo>
                <a:cubicBezTo>
                  <a:pt x="14348" y="14611"/>
                  <a:pt x="14399" y="14685"/>
                  <a:pt x="14436" y="14759"/>
                </a:cubicBezTo>
                <a:cubicBezTo>
                  <a:pt x="14505" y="14897"/>
                  <a:pt x="14506" y="15028"/>
                  <a:pt x="14412" y="15156"/>
                </a:cubicBezTo>
                <a:cubicBezTo>
                  <a:pt x="14365" y="15220"/>
                  <a:pt x="14288" y="15248"/>
                  <a:pt x="14213" y="15280"/>
                </a:cubicBezTo>
                <a:cubicBezTo>
                  <a:pt x="14135" y="15313"/>
                  <a:pt x="14070" y="15272"/>
                  <a:pt x="14015" y="15205"/>
                </a:cubicBezTo>
                <a:cubicBezTo>
                  <a:pt x="13946" y="15103"/>
                  <a:pt x="13917" y="15048"/>
                  <a:pt x="13891" y="14957"/>
                </a:cubicBezTo>
              </a:path>
              <a:path w="4416" h="1713">
                <a:moveTo>
                  <a:pt x="13022" y="14015"/>
                </a:moveTo>
                <a:cubicBezTo>
                  <a:pt x="13265" y="14144"/>
                  <a:pt x="13424" y="14267"/>
                  <a:pt x="13618" y="14461"/>
                </a:cubicBezTo>
                <a:cubicBezTo>
                  <a:pt x="13868" y="14711"/>
                  <a:pt x="14113" y="14959"/>
                  <a:pt x="14312" y="15255"/>
                </a:cubicBezTo>
                <a:cubicBezTo>
                  <a:pt x="14428" y="15428"/>
                  <a:pt x="14490" y="15549"/>
                  <a:pt x="14684" y="15627"/>
                </a:cubicBezTo>
              </a:path>
              <a:path w="4416" h="1713">
                <a:moveTo>
                  <a:pt x="14511" y="14064"/>
                </a:moveTo>
                <a:cubicBezTo>
                  <a:pt x="14238" y="14262"/>
                  <a:pt x="13905" y="14448"/>
                  <a:pt x="13643" y="14660"/>
                </a:cubicBezTo>
                <a:cubicBezTo>
                  <a:pt x="13384" y="14869"/>
                  <a:pt x="13152" y="15118"/>
                  <a:pt x="12948" y="15379"/>
                </a:cubicBezTo>
                <a:cubicBezTo>
                  <a:pt x="12898" y="15445"/>
                  <a:pt x="12849" y="15511"/>
                  <a:pt x="12799" y="1557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Ink 15"/>
          <p:cNvSpPr/>
          <p:nvPr/>
        </p:nvSpPr>
        <p:spPr>
          <a:xfrm>
            <a:off x="6875640" y="4991040"/>
            <a:ext cx="403200" cy="787320"/>
          </a:xfrm>
          <a:custGeom>
            <a:avLst/>
            <a:gdLst/>
            <a:ahLst/>
            <a:rect l="l" t="t" r="r" b="b"/>
            <a:pathLst>
              <a:path w="1117" h="2184">
                <a:moveTo>
                  <a:pt x="19199" y="13965"/>
                </a:moveTo>
                <a:cubicBezTo>
                  <a:pt x="19230" y="14017"/>
                  <a:pt x="19234" y="14051"/>
                  <a:pt x="19174" y="14089"/>
                </a:cubicBezTo>
                <a:cubicBezTo>
                  <a:pt x="19105" y="14133"/>
                  <a:pt x="19059" y="14206"/>
                  <a:pt x="19124" y="14288"/>
                </a:cubicBezTo>
                <a:cubicBezTo>
                  <a:pt x="19171" y="14348"/>
                  <a:pt x="19264" y="14442"/>
                  <a:pt x="19348" y="14461"/>
                </a:cubicBezTo>
                <a:cubicBezTo>
                  <a:pt x="19403" y="14473"/>
                  <a:pt x="19433" y="14442"/>
                  <a:pt x="19472" y="14412"/>
                </a:cubicBezTo>
              </a:path>
              <a:path w="1117" h="2184">
                <a:moveTo>
                  <a:pt x="19447" y="13866"/>
                </a:moveTo>
                <a:cubicBezTo>
                  <a:pt x="19417" y="13965"/>
                  <a:pt x="19422" y="14058"/>
                  <a:pt x="19422" y="14163"/>
                </a:cubicBezTo>
                <a:cubicBezTo>
                  <a:pt x="19422" y="14313"/>
                  <a:pt x="19447" y="14458"/>
                  <a:pt x="19447" y="14610"/>
                </a:cubicBezTo>
                <a:cubicBezTo>
                  <a:pt x="19447" y="14709"/>
                  <a:pt x="19447" y="14759"/>
                  <a:pt x="19447" y="14833"/>
                </a:cubicBezTo>
              </a:path>
              <a:path w="1117" h="2184">
                <a:moveTo>
                  <a:pt x="19645" y="14139"/>
                </a:moveTo>
                <a:cubicBezTo>
                  <a:pt x="19714" y="14285"/>
                  <a:pt x="19787" y="14446"/>
                  <a:pt x="19869" y="14585"/>
                </a:cubicBezTo>
                <a:cubicBezTo>
                  <a:pt x="19949" y="14721"/>
                  <a:pt x="20022" y="14854"/>
                  <a:pt x="20117" y="14982"/>
                </a:cubicBezTo>
              </a:path>
              <a:path w="1117" h="2184">
                <a:moveTo>
                  <a:pt x="20042" y="14312"/>
                </a:moveTo>
                <a:cubicBezTo>
                  <a:pt x="19859" y="14489"/>
                  <a:pt x="19788" y="14604"/>
                  <a:pt x="19645" y="14808"/>
                </a:cubicBezTo>
              </a:path>
              <a:path w="1117" h="2184">
                <a:moveTo>
                  <a:pt x="19596" y="15131"/>
                </a:moveTo>
                <a:cubicBezTo>
                  <a:pt x="19678" y="15264"/>
                  <a:pt x="19762" y="15394"/>
                  <a:pt x="19844" y="15528"/>
                </a:cubicBezTo>
                <a:cubicBezTo>
                  <a:pt x="19948" y="15698"/>
                  <a:pt x="20031" y="15869"/>
                  <a:pt x="20117" y="16049"/>
                </a:cubicBezTo>
              </a:path>
              <a:path w="1117" h="2184">
                <a:moveTo>
                  <a:pt x="20216" y="15106"/>
                </a:moveTo>
                <a:cubicBezTo>
                  <a:pt x="20116" y="15230"/>
                  <a:pt x="20054" y="15311"/>
                  <a:pt x="19993" y="15453"/>
                </a:cubicBezTo>
                <a:cubicBezTo>
                  <a:pt x="19930" y="15600"/>
                  <a:pt x="19831" y="15727"/>
                  <a:pt x="19769" y="15875"/>
                </a:cubicBezTo>
                <a:cubicBezTo>
                  <a:pt x="19761" y="15900"/>
                  <a:pt x="19753" y="15924"/>
                  <a:pt x="19745" y="1594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Ink 16"/>
          <p:cNvSpPr/>
          <p:nvPr/>
        </p:nvSpPr>
        <p:spPr>
          <a:xfrm>
            <a:off x="7875720" y="5126040"/>
            <a:ext cx="527040" cy="749160"/>
          </a:xfrm>
          <a:custGeom>
            <a:avLst/>
            <a:gdLst/>
            <a:ahLst/>
            <a:rect l="l" t="t" r="r" b="b"/>
            <a:pathLst>
              <a:path w="1464" h="2084">
                <a:moveTo>
                  <a:pt x="21952" y="15602"/>
                </a:moveTo>
                <a:cubicBezTo>
                  <a:pt x="22049" y="15575"/>
                  <a:pt x="22073" y="15616"/>
                  <a:pt x="22151" y="15602"/>
                </a:cubicBezTo>
                <a:cubicBezTo>
                  <a:pt x="22176" y="15594"/>
                  <a:pt x="22200" y="15585"/>
                  <a:pt x="22225" y="15577"/>
                </a:cubicBezTo>
              </a:path>
              <a:path w="1464" h="2084">
                <a:moveTo>
                  <a:pt x="22448" y="15205"/>
                </a:moveTo>
                <a:cubicBezTo>
                  <a:pt x="22521" y="15242"/>
                  <a:pt x="22564" y="15272"/>
                  <a:pt x="22622" y="15329"/>
                </a:cubicBezTo>
                <a:cubicBezTo>
                  <a:pt x="22665" y="15372"/>
                  <a:pt x="22685" y="15430"/>
                  <a:pt x="22721" y="15478"/>
                </a:cubicBezTo>
                <a:cubicBezTo>
                  <a:pt x="22768" y="15540"/>
                  <a:pt x="22702" y="15573"/>
                  <a:pt x="22647" y="15602"/>
                </a:cubicBezTo>
                <a:cubicBezTo>
                  <a:pt x="22593" y="15631"/>
                  <a:pt x="22515" y="15689"/>
                  <a:pt x="22498" y="15751"/>
                </a:cubicBezTo>
                <a:cubicBezTo>
                  <a:pt x="22479" y="15824"/>
                  <a:pt x="22473" y="15896"/>
                  <a:pt x="22473" y="15974"/>
                </a:cubicBezTo>
                <a:cubicBezTo>
                  <a:pt x="22473" y="16022"/>
                  <a:pt x="22485" y="16150"/>
                  <a:pt x="22547" y="16173"/>
                </a:cubicBezTo>
                <a:cubicBezTo>
                  <a:pt x="22610" y="16173"/>
                  <a:pt x="22638" y="16166"/>
                  <a:pt x="22671" y="16123"/>
                </a:cubicBezTo>
              </a:path>
              <a:path w="1464" h="2084">
                <a:moveTo>
                  <a:pt x="23068" y="15553"/>
                </a:moveTo>
                <a:cubicBezTo>
                  <a:pt x="23163" y="15560"/>
                  <a:pt x="23248" y="15586"/>
                  <a:pt x="23341" y="15602"/>
                </a:cubicBezTo>
              </a:path>
              <a:path w="1464" h="2084">
                <a:moveTo>
                  <a:pt x="23068" y="15354"/>
                </a:moveTo>
                <a:cubicBezTo>
                  <a:pt x="23032" y="15428"/>
                  <a:pt x="22977" y="15515"/>
                  <a:pt x="22994" y="15602"/>
                </a:cubicBezTo>
                <a:cubicBezTo>
                  <a:pt x="23003" y="15647"/>
                  <a:pt x="23055" y="15749"/>
                  <a:pt x="23093" y="15776"/>
                </a:cubicBezTo>
                <a:cubicBezTo>
                  <a:pt x="23152" y="15818"/>
                  <a:pt x="23246" y="15847"/>
                  <a:pt x="23267" y="15925"/>
                </a:cubicBezTo>
                <a:cubicBezTo>
                  <a:pt x="23287" y="15999"/>
                  <a:pt x="23271" y="16106"/>
                  <a:pt x="23242" y="16173"/>
                </a:cubicBezTo>
                <a:cubicBezTo>
                  <a:pt x="23210" y="16248"/>
                  <a:pt x="23146" y="16297"/>
                  <a:pt x="23068" y="16321"/>
                </a:cubicBezTo>
                <a:cubicBezTo>
                  <a:pt x="23035" y="16331"/>
                  <a:pt x="22917" y="16301"/>
                  <a:pt x="22895" y="16272"/>
                </a:cubicBezTo>
                <a:cubicBezTo>
                  <a:pt x="22821" y="16176"/>
                  <a:pt x="22806" y="16038"/>
                  <a:pt x="22771" y="15925"/>
                </a:cubicBezTo>
              </a:path>
              <a:path w="1464" h="2084">
                <a:moveTo>
                  <a:pt x="21878" y="14486"/>
                </a:moveTo>
                <a:cubicBezTo>
                  <a:pt x="21965" y="14564"/>
                  <a:pt x="22062" y="14622"/>
                  <a:pt x="22175" y="14660"/>
                </a:cubicBezTo>
                <a:cubicBezTo>
                  <a:pt x="22274" y="14684"/>
                  <a:pt x="22306" y="14692"/>
                  <a:pt x="22374" y="14684"/>
                </a:cubicBezTo>
              </a:path>
              <a:path w="1464" h="2084">
                <a:moveTo>
                  <a:pt x="22845" y="14238"/>
                </a:moveTo>
                <a:cubicBezTo>
                  <a:pt x="22825" y="14454"/>
                  <a:pt x="22800" y="14667"/>
                  <a:pt x="22796" y="14883"/>
                </a:cubicBezTo>
                <a:cubicBezTo>
                  <a:pt x="22796" y="14941"/>
                  <a:pt x="22796" y="14998"/>
                  <a:pt x="22796" y="1505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Ink 17"/>
          <p:cNvSpPr/>
          <p:nvPr/>
        </p:nvSpPr>
        <p:spPr>
          <a:xfrm>
            <a:off x="4249800" y="2178000"/>
            <a:ext cx="3652920" cy="243000"/>
          </a:xfrm>
          <a:custGeom>
            <a:avLst/>
            <a:gdLst/>
            <a:ahLst/>
            <a:rect l="l" t="t" r="r" b="b"/>
            <a:pathLst>
              <a:path w="10146" h="671">
                <a:moveTo>
                  <a:pt x="21952" y="6722"/>
                </a:moveTo>
                <a:cubicBezTo>
                  <a:pt x="21678" y="6633"/>
                  <a:pt x="21411" y="6571"/>
                  <a:pt x="21134" y="6499"/>
                </a:cubicBezTo>
                <a:cubicBezTo>
                  <a:pt x="20808" y="6414"/>
                  <a:pt x="20475" y="6371"/>
                  <a:pt x="20141" y="6325"/>
                </a:cubicBezTo>
                <a:cubicBezTo>
                  <a:pt x="19793" y="6277"/>
                  <a:pt x="19448" y="6262"/>
                  <a:pt x="19100" y="6226"/>
                </a:cubicBezTo>
                <a:cubicBezTo>
                  <a:pt x="18814" y="6196"/>
                  <a:pt x="18519" y="6165"/>
                  <a:pt x="18231" y="6152"/>
                </a:cubicBezTo>
                <a:cubicBezTo>
                  <a:pt x="17651" y="6126"/>
                  <a:pt x="17076" y="6066"/>
                  <a:pt x="16495" y="6052"/>
                </a:cubicBezTo>
                <a:cubicBezTo>
                  <a:pt x="15784" y="6035"/>
                  <a:pt x="15071" y="6054"/>
                  <a:pt x="14362" y="6077"/>
                </a:cubicBezTo>
                <a:cubicBezTo>
                  <a:pt x="14053" y="6087"/>
                  <a:pt x="13752" y="6130"/>
                  <a:pt x="13444" y="6152"/>
                </a:cubicBezTo>
                <a:cubicBezTo>
                  <a:pt x="13119" y="6175"/>
                  <a:pt x="12799" y="6195"/>
                  <a:pt x="12477" y="6226"/>
                </a:cubicBezTo>
                <a:cubicBezTo>
                  <a:pt x="12320" y="6241"/>
                  <a:pt x="12162" y="6257"/>
                  <a:pt x="12005" y="6276"/>
                </a:cubicBezTo>
                <a:cubicBezTo>
                  <a:pt x="11940" y="6284"/>
                  <a:pt x="11873" y="6292"/>
                  <a:pt x="11807" y="630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5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ccecff"/>
                </a:solidFill>
                <a:latin typeface="Arial"/>
              </a:rPr>
              <a:t>Lesson P.4</a:t>
            </a:r>
            <a:br>
              <a:rPr sz="8500"/>
            </a:br>
            <a:r>
              <a:rPr b="0" lang="en-US" sz="8500" spc="-1" strike="noStrike">
                <a:solidFill>
                  <a:srgbClr val="ccecff"/>
                </a:solidFill>
                <a:latin typeface="Arial"/>
              </a:rPr>
              <a:t>part five</a:t>
            </a:r>
            <a:endParaRPr b="0" lang="en-US" sz="85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ccecff"/>
                </a:solidFill>
                <a:latin typeface="Arial"/>
              </a:rPr>
              <a:t>Rational and </a:t>
            </a:r>
            <a:br>
              <a:rPr sz="8500"/>
            </a:br>
            <a:r>
              <a:rPr b="0" lang="en-US" sz="8500" spc="-1" strike="noStrike">
                <a:solidFill>
                  <a:srgbClr val="ccecff"/>
                </a:solidFill>
                <a:latin typeface="Arial"/>
              </a:rPr>
              <a:t>Absolute Value</a:t>
            </a:r>
            <a:br>
              <a:rPr sz="8500"/>
            </a:br>
            <a:r>
              <a:rPr b="0" lang="en-US" sz="8500" spc="-1" strike="noStrike">
                <a:solidFill>
                  <a:srgbClr val="ccecff"/>
                </a:solidFill>
                <a:latin typeface="Arial"/>
              </a:rPr>
              <a:t>Equations</a:t>
            </a:r>
            <a:endParaRPr b="0" lang="en-US" sz="85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Rational Equatio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371600" y="23619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Equation with a term or expression raised to a fractional power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ational Equation Examp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.  x</a:t>
            </a:r>
            <a:r>
              <a:rPr b="0" lang="en-US" sz="5000" spc="-1" strike="noStrike" baseline="30000">
                <a:solidFill>
                  <a:srgbClr val="ffffff"/>
                </a:solidFill>
                <a:latin typeface="Arial"/>
              </a:rPr>
              <a:t>2/3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 = 64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Ink 4"/>
          <p:cNvSpPr/>
          <p:nvPr/>
        </p:nvSpPr>
        <p:spPr>
          <a:xfrm>
            <a:off x="2741760" y="1231920"/>
            <a:ext cx="393480" cy="430200"/>
          </a:xfrm>
          <a:custGeom>
            <a:avLst/>
            <a:gdLst/>
            <a:ahLst/>
            <a:rect l="l" t="t" r="r" b="b"/>
            <a:pathLst>
              <a:path w="1092" h="1192">
                <a:moveTo>
                  <a:pt x="7689" y="3671"/>
                </a:moveTo>
                <a:cubicBezTo>
                  <a:pt x="7716" y="3626"/>
                  <a:pt x="7724" y="3565"/>
                  <a:pt x="7789" y="3547"/>
                </a:cubicBezTo>
                <a:cubicBezTo>
                  <a:pt x="7867" y="3526"/>
                  <a:pt x="7916" y="3522"/>
                  <a:pt x="7987" y="3572"/>
                </a:cubicBezTo>
                <a:cubicBezTo>
                  <a:pt x="8069" y="3629"/>
                  <a:pt x="7976" y="3766"/>
                  <a:pt x="7938" y="3820"/>
                </a:cubicBezTo>
                <a:cubicBezTo>
                  <a:pt x="7924" y="3840"/>
                  <a:pt x="7838" y="3912"/>
                  <a:pt x="7813" y="3919"/>
                </a:cubicBezTo>
                <a:cubicBezTo>
                  <a:pt x="7797" y="3919"/>
                  <a:pt x="7780" y="3919"/>
                  <a:pt x="7764" y="3919"/>
                </a:cubicBezTo>
                <a:cubicBezTo>
                  <a:pt x="7818" y="3876"/>
                  <a:pt x="7890" y="3845"/>
                  <a:pt x="7962" y="3870"/>
                </a:cubicBezTo>
                <a:cubicBezTo>
                  <a:pt x="8005" y="3885"/>
                  <a:pt x="8043" y="3960"/>
                  <a:pt x="8062" y="3994"/>
                </a:cubicBezTo>
                <a:cubicBezTo>
                  <a:pt x="8011" y="4044"/>
                  <a:pt x="7969" y="4077"/>
                  <a:pt x="7913" y="4118"/>
                </a:cubicBezTo>
                <a:cubicBezTo>
                  <a:pt x="7859" y="4158"/>
                  <a:pt x="7782" y="4142"/>
                  <a:pt x="7714" y="4142"/>
                </a:cubicBezTo>
                <a:cubicBezTo>
                  <a:pt x="7655" y="4142"/>
                  <a:pt x="7655" y="4132"/>
                  <a:pt x="7615" y="4093"/>
                </a:cubicBezTo>
              </a:path>
              <a:path w="1092" h="1192">
                <a:moveTo>
                  <a:pt x="8210" y="3423"/>
                </a:moveTo>
                <a:cubicBezTo>
                  <a:pt x="8210" y="3548"/>
                  <a:pt x="8198" y="3627"/>
                  <a:pt x="8161" y="3746"/>
                </a:cubicBezTo>
                <a:cubicBezTo>
                  <a:pt x="8116" y="3892"/>
                  <a:pt x="8093" y="4025"/>
                  <a:pt x="8037" y="4167"/>
                </a:cubicBezTo>
                <a:cubicBezTo>
                  <a:pt x="8003" y="4253"/>
                  <a:pt x="7966" y="4348"/>
                  <a:pt x="7962" y="4440"/>
                </a:cubicBezTo>
                <a:cubicBezTo>
                  <a:pt x="7959" y="4505"/>
                  <a:pt x="7921" y="4652"/>
                  <a:pt x="7987" y="4564"/>
                </a:cubicBezTo>
              </a:path>
              <a:path w="1092" h="1192">
                <a:moveTo>
                  <a:pt x="8136" y="4167"/>
                </a:moveTo>
                <a:cubicBezTo>
                  <a:pt x="8175" y="4071"/>
                  <a:pt x="8183" y="4075"/>
                  <a:pt x="8260" y="4018"/>
                </a:cubicBezTo>
                <a:cubicBezTo>
                  <a:pt x="8332" y="3965"/>
                  <a:pt x="8400" y="4010"/>
                  <a:pt x="8434" y="4093"/>
                </a:cubicBezTo>
                <a:cubicBezTo>
                  <a:pt x="8457" y="4150"/>
                  <a:pt x="8383" y="4243"/>
                  <a:pt x="8359" y="4291"/>
                </a:cubicBezTo>
                <a:cubicBezTo>
                  <a:pt x="8322" y="4365"/>
                  <a:pt x="8294" y="4406"/>
                  <a:pt x="8235" y="4465"/>
                </a:cubicBezTo>
                <a:cubicBezTo>
                  <a:pt x="8205" y="4495"/>
                  <a:pt x="8187" y="4531"/>
                  <a:pt x="8161" y="4564"/>
                </a:cubicBezTo>
                <a:cubicBezTo>
                  <a:pt x="8261" y="4584"/>
                  <a:pt x="8324" y="4553"/>
                  <a:pt x="8434" y="4539"/>
                </a:cubicBezTo>
                <a:cubicBezTo>
                  <a:pt x="8521" y="4528"/>
                  <a:pt x="8618" y="4539"/>
                  <a:pt x="8706" y="453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Ink 5"/>
          <p:cNvSpPr/>
          <p:nvPr/>
        </p:nvSpPr>
        <p:spPr>
          <a:xfrm>
            <a:off x="4160880" y="1562040"/>
            <a:ext cx="214200" cy="884160"/>
          </a:xfrm>
          <a:custGeom>
            <a:avLst/>
            <a:gdLst/>
            <a:ahLst/>
            <a:rect l="l" t="t" r="r" b="b"/>
            <a:pathLst>
              <a:path w="596" h="2456">
                <a:moveTo>
                  <a:pt x="11559" y="4341"/>
                </a:moveTo>
                <a:cubicBezTo>
                  <a:pt x="11681" y="4385"/>
                  <a:pt x="11712" y="4427"/>
                  <a:pt x="11782" y="4539"/>
                </a:cubicBezTo>
                <a:cubicBezTo>
                  <a:pt x="11885" y="4705"/>
                  <a:pt x="11956" y="4880"/>
                  <a:pt x="12030" y="5060"/>
                </a:cubicBezTo>
                <a:cubicBezTo>
                  <a:pt x="12117" y="5270"/>
                  <a:pt x="12149" y="5504"/>
                  <a:pt x="12154" y="5730"/>
                </a:cubicBezTo>
                <a:cubicBezTo>
                  <a:pt x="12158" y="5896"/>
                  <a:pt x="12142" y="6039"/>
                  <a:pt x="12105" y="6201"/>
                </a:cubicBezTo>
                <a:cubicBezTo>
                  <a:pt x="12068" y="6361"/>
                  <a:pt x="12028" y="6423"/>
                  <a:pt x="11931" y="6548"/>
                </a:cubicBezTo>
                <a:cubicBezTo>
                  <a:pt x="11862" y="6637"/>
                  <a:pt x="11837" y="6713"/>
                  <a:pt x="11733" y="6772"/>
                </a:cubicBezTo>
                <a:cubicBezTo>
                  <a:pt x="11662" y="6806"/>
                  <a:pt x="11623" y="6814"/>
                  <a:pt x="11559" y="679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Ink 6"/>
          <p:cNvSpPr/>
          <p:nvPr/>
        </p:nvSpPr>
        <p:spPr>
          <a:xfrm>
            <a:off x="1652760" y="1633680"/>
            <a:ext cx="268200" cy="741240"/>
          </a:xfrm>
          <a:custGeom>
            <a:avLst/>
            <a:gdLst/>
            <a:ahLst/>
            <a:rect l="l" t="t" r="r" b="b"/>
            <a:pathLst>
              <a:path w="745" h="2060">
                <a:moveTo>
                  <a:pt x="5333" y="4539"/>
                </a:moveTo>
                <a:cubicBezTo>
                  <a:pt x="5275" y="4586"/>
                  <a:pt x="5243" y="4643"/>
                  <a:pt x="5184" y="4688"/>
                </a:cubicBezTo>
                <a:cubicBezTo>
                  <a:pt x="5111" y="4744"/>
                  <a:pt x="5008" y="4853"/>
                  <a:pt x="4961" y="4936"/>
                </a:cubicBezTo>
                <a:cubicBezTo>
                  <a:pt x="4848" y="5135"/>
                  <a:pt x="4734" y="5340"/>
                  <a:pt x="4663" y="5556"/>
                </a:cubicBezTo>
                <a:cubicBezTo>
                  <a:pt x="4620" y="5686"/>
                  <a:pt x="4574" y="5866"/>
                  <a:pt x="4589" y="6003"/>
                </a:cubicBezTo>
                <a:cubicBezTo>
                  <a:pt x="4602" y="6125"/>
                  <a:pt x="4656" y="6268"/>
                  <a:pt x="4713" y="6375"/>
                </a:cubicBezTo>
                <a:cubicBezTo>
                  <a:pt x="4800" y="6538"/>
                  <a:pt x="4968" y="6585"/>
                  <a:pt x="5135" y="659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Ink 7"/>
          <p:cNvSpPr/>
          <p:nvPr/>
        </p:nvSpPr>
        <p:spPr>
          <a:xfrm>
            <a:off x="2581200" y="1581120"/>
            <a:ext cx="204840" cy="741240"/>
          </a:xfrm>
          <a:custGeom>
            <a:avLst/>
            <a:gdLst/>
            <a:ahLst/>
            <a:rect l="l" t="t" r="r" b="b"/>
            <a:pathLst>
              <a:path w="571" h="2060">
                <a:moveTo>
                  <a:pt x="7516" y="4390"/>
                </a:moveTo>
                <a:cubicBezTo>
                  <a:pt x="7568" y="4451"/>
                  <a:pt x="7636" y="4538"/>
                  <a:pt x="7665" y="4614"/>
                </a:cubicBezTo>
                <a:cubicBezTo>
                  <a:pt x="7716" y="4748"/>
                  <a:pt x="7729" y="4919"/>
                  <a:pt x="7739" y="5060"/>
                </a:cubicBezTo>
                <a:cubicBezTo>
                  <a:pt x="7750" y="5206"/>
                  <a:pt x="7752" y="5366"/>
                  <a:pt x="7714" y="5507"/>
                </a:cubicBezTo>
                <a:cubicBezTo>
                  <a:pt x="7664" y="5692"/>
                  <a:pt x="7595" y="5888"/>
                  <a:pt x="7491" y="6052"/>
                </a:cubicBezTo>
                <a:cubicBezTo>
                  <a:pt x="7418" y="6167"/>
                  <a:pt x="7341" y="6261"/>
                  <a:pt x="7243" y="6350"/>
                </a:cubicBezTo>
                <a:cubicBezTo>
                  <a:pt x="7197" y="6396"/>
                  <a:pt x="7183" y="6408"/>
                  <a:pt x="7169" y="644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Ink 8"/>
          <p:cNvSpPr/>
          <p:nvPr/>
        </p:nvSpPr>
        <p:spPr>
          <a:xfrm>
            <a:off x="3224160" y="1652760"/>
            <a:ext cx="196920" cy="704520"/>
          </a:xfrm>
          <a:custGeom>
            <a:avLst/>
            <a:gdLst/>
            <a:ahLst/>
            <a:rect l="l" t="t" r="r" b="b"/>
            <a:pathLst>
              <a:path w="547" h="1960">
                <a:moveTo>
                  <a:pt x="9401" y="4589"/>
                </a:moveTo>
                <a:cubicBezTo>
                  <a:pt x="9323" y="4746"/>
                  <a:pt x="9252" y="4891"/>
                  <a:pt x="9203" y="5060"/>
                </a:cubicBezTo>
                <a:cubicBezTo>
                  <a:pt x="9160" y="5209"/>
                  <a:pt x="9072" y="5331"/>
                  <a:pt x="9029" y="5482"/>
                </a:cubicBezTo>
                <a:cubicBezTo>
                  <a:pt x="8980" y="5652"/>
                  <a:pt x="8937" y="5852"/>
                  <a:pt x="8954" y="6028"/>
                </a:cubicBezTo>
                <a:cubicBezTo>
                  <a:pt x="8964" y="6130"/>
                  <a:pt x="9003" y="6300"/>
                  <a:pt x="9079" y="6375"/>
                </a:cubicBezTo>
                <a:cubicBezTo>
                  <a:pt x="9155" y="6451"/>
                  <a:pt x="9295" y="6533"/>
                  <a:pt x="9401" y="6548"/>
                </a:cubicBezTo>
                <a:cubicBezTo>
                  <a:pt x="9434" y="6548"/>
                  <a:pt x="9467" y="6548"/>
                  <a:pt x="9500" y="654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Ink 9"/>
          <p:cNvSpPr/>
          <p:nvPr/>
        </p:nvSpPr>
        <p:spPr>
          <a:xfrm>
            <a:off x="2259000" y="2643120"/>
            <a:ext cx="1938240" cy="571680"/>
          </a:xfrm>
          <a:custGeom>
            <a:avLst/>
            <a:gdLst/>
            <a:ahLst/>
            <a:rect l="l" t="t" r="r" b="b"/>
            <a:pathLst>
              <a:path w="5383" h="1589">
                <a:moveTo>
                  <a:pt x="6325" y="7392"/>
                </a:moveTo>
                <a:cubicBezTo>
                  <a:pt x="6401" y="7468"/>
                  <a:pt x="6395" y="7534"/>
                  <a:pt x="6424" y="7640"/>
                </a:cubicBezTo>
                <a:cubicBezTo>
                  <a:pt x="6456" y="7758"/>
                  <a:pt x="6468" y="7848"/>
                  <a:pt x="6524" y="7962"/>
                </a:cubicBezTo>
                <a:cubicBezTo>
                  <a:pt x="6595" y="8107"/>
                  <a:pt x="6621" y="8258"/>
                  <a:pt x="6722" y="8384"/>
                </a:cubicBezTo>
                <a:cubicBezTo>
                  <a:pt x="6793" y="8472"/>
                  <a:pt x="6808" y="8533"/>
                  <a:pt x="6896" y="8607"/>
                </a:cubicBezTo>
                <a:cubicBezTo>
                  <a:pt x="6955" y="8657"/>
                  <a:pt x="6977" y="8730"/>
                  <a:pt x="7069" y="8706"/>
                </a:cubicBezTo>
                <a:cubicBezTo>
                  <a:pt x="7077" y="8698"/>
                  <a:pt x="7086" y="8690"/>
                  <a:pt x="7094" y="8682"/>
                </a:cubicBezTo>
              </a:path>
              <a:path w="5383" h="1589">
                <a:moveTo>
                  <a:pt x="6995" y="7392"/>
                </a:moveTo>
                <a:cubicBezTo>
                  <a:pt x="6892" y="7502"/>
                  <a:pt x="6854" y="7595"/>
                  <a:pt x="6772" y="7714"/>
                </a:cubicBezTo>
                <a:cubicBezTo>
                  <a:pt x="6671" y="7861"/>
                  <a:pt x="6591" y="8008"/>
                  <a:pt x="6499" y="8161"/>
                </a:cubicBezTo>
                <a:cubicBezTo>
                  <a:pt x="6437" y="8264"/>
                  <a:pt x="6389" y="8355"/>
                  <a:pt x="6325" y="8458"/>
                </a:cubicBezTo>
                <a:cubicBezTo>
                  <a:pt x="6290" y="8514"/>
                  <a:pt x="6281" y="8533"/>
                  <a:pt x="6300" y="8582"/>
                </a:cubicBezTo>
              </a:path>
              <a:path w="5383" h="1589">
                <a:moveTo>
                  <a:pt x="7417" y="7863"/>
                </a:moveTo>
                <a:cubicBezTo>
                  <a:pt x="7508" y="7879"/>
                  <a:pt x="7626" y="7867"/>
                  <a:pt x="7714" y="7888"/>
                </a:cubicBezTo>
                <a:cubicBezTo>
                  <a:pt x="7796" y="7908"/>
                  <a:pt x="7892" y="7902"/>
                  <a:pt x="7962" y="7938"/>
                </a:cubicBezTo>
              </a:path>
              <a:path w="5383" h="1589">
                <a:moveTo>
                  <a:pt x="7441" y="8086"/>
                </a:moveTo>
                <a:cubicBezTo>
                  <a:pt x="7614" y="8128"/>
                  <a:pt x="7783" y="8157"/>
                  <a:pt x="7962" y="8161"/>
                </a:cubicBezTo>
                <a:cubicBezTo>
                  <a:pt x="8061" y="8161"/>
                  <a:pt x="8078" y="8161"/>
                  <a:pt x="8136" y="8161"/>
                </a:cubicBezTo>
              </a:path>
              <a:path w="5383" h="1589">
                <a:moveTo>
                  <a:pt x="8682" y="7392"/>
                </a:moveTo>
                <a:cubicBezTo>
                  <a:pt x="8898" y="7392"/>
                  <a:pt x="9143" y="7424"/>
                  <a:pt x="9351" y="7367"/>
                </a:cubicBezTo>
              </a:path>
              <a:path w="5383" h="1589">
                <a:moveTo>
                  <a:pt x="8682" y="7392"/>
                </a:moveTo>
                <a:cubicBezTo>
                  <a:pt x="8674" y="7477"/>
                  <a:pt x="8666" y="7561"/>
                  <a:pt x="8632" y="7640"/>
                </a:cubicBezTo>
                <a:cubicBezTo>
                  <a:pt x="8600" y="7715"/>
                  <a:pt x="8580" y="7787"/>
                  <a:pt x="8558" y="7863"/>
                </a:cubicBezTo>
                <a:cubicBezTo>
                  <a:pt x="8533" y="7951"/>
                  <a:pt x="8518" y="7971"/>
                  <a:pt x="8558" y="8037"/>
                </a:cubicBezTo>
                <a:cubicBezTo>
                  <a:pt x="8612" y="8029"/>
                  <a:pt x="8649" y="8014"/>
                  <a:pt x="8682" y="7962"/>
                </a:cubicBezTo>
                <a:cubicBezTo>
                  <a:pt x="8725" y="7895"/>
                  <a:pt x="8760" y="7847"/>
                  <a:pt x="8855" y="7863"/>
                </a:cubicBezTo>
                <a:cubicBezTo>
                  <a:pt x="8947" y="7878"/>
                  <a:pt x="8989" y="7897"/>
                  <a:pt x="9054" y="7962"/>
                </a:cubicBezTo>
                <a:cubicBezTo>
                  <a:pt x="9126" y="8034"/>
                  <a:pt x="9194" y="8080"/>
                  <a:pt x="9227" y="8186"/>
                </a:cubicBezTo>
                <a:cubicBezTo>
                  <a:pt x="9251" y="8261"/>
                  <a:pt x="9271" y="8362"/>
                  <a:pt x="9227" y="8434"/>
                </a:cubicBezTo>
                <a:cubicBezTo>
                  <a:pt x="9160" y="8542"/>
                  <a:pt x="9098" y="8597"/>
                  <a:pt x="8979" y="8632"/>
                </a:cubicBezTo>
                <a:cubicBezTo>
                  <a:pt x="8854" y="8669"/>
                  <a:pt x="8805" y="8676"/>
                  <a:pt x="8682" y="8657"/>
                </a:cubicBezTo>
                <a:cubicBezTo>
                  <a:pt x="8604" y="8645"/>
                  <a:pt x="8565" y="8638"/>
                  <a:pt x="8508" y="8582"/>
                </a:cubicBezTo>
                <a:cubicBezTo>
                  <a:pt x="8446" y="8522"/>
                  <a:pt x="8507" y="8456"/>
                  <a:pt x="8533" y="8384"/>
                </a:cubicBezTo>
              </a:path>
              <a:path w="5383" h="1589">
                <a:moveTo>
                  <a:pt x="9674" y="7342"/>
                </a:moveTo>
                <a:cubicBezTo>
                  <a:pt x="9703" y="7457"/>
                  <a:pt x="9723" y="7522"/>
                  <a:pt x="9723" y="7640"/>
                </a:cubicBezTo>
                <a:cubicBezTo>
                  <a:pt x="9723" y="7790"/>
                  <a:pt x="9699" y="7936"/>
                  <a:pt x="9699" y="8086"/>
                </a:cubicBezTo>
                <a:cubicBezTo>
                  <a:pt x="9699" y="8232"/>
                  <a:pt x="9693" y="8367"/>
                  <a:pt x="9674" y="8508"/>
                </a:cubicBezTo>
                <a:cubicBezTo>
                  <a:pt x="9666" y="8566"/>
                  <a:pt x="9665" y="8635"/>
                  <a:pt x="9699" y="8657"/>
                </a:cubicBezTo>
              </a:path>
              <a:path w="5383" h="1589">
                <a:moveTo>
                  <a:pt x="10145" y="7764"/>
                </a:moveTo>
                <a:cubicBezTo>
                  <a:pt x="10206" y="7665"/>
                  <a:pt x="10260" y="7628"/>
                  <a:pt x="10344" y="7565"/>
                </a:cubicBezTo>
                <a:cubicBezTo>
                  <a:pt x="10410" y="7516"/>
                  <a:pt x="10512" y="7498"/>
                  <a:pt x="10592" y="7516"/>
                </a:cubicBezTo>
                <a:cubicBezTo>
                  <a:pt x="10675" y="7535"/>
                  <a:pt x="10745" y="7576"/>
                  <a:pt x="10765" y="7665"/>
                </a:cubicBezTo>
                <a:cubicBezTo>
                  <a:pt x="10789" y="7773"/>
                  <a:pt x="10836" y="7897"/>
                  <a:pt x="10815" y="8012"/>
                </a:cubicBezTo>
                <a:cubicBezTo>
                  <a:pt x="10793" y="8129"/>
                  <a:pt x="10774" y="8242"/>
                  <a:pt x="10740" y="8359"/>
                </a:cubicBezTo>
                <a:cubicBezTo>
                  <a:pt x="10716" y="8439"/>
                  <a:pt x="10628" y="8603"/>
                  <a:pt x="10567" y="8657"/>
                </a:cubicBezTo>
                <a:cubicBezTo>
                  <a:pt x="10500" y="8716"/>
                  <a:pt x="10394" y="8770"/>
                  <a:pt x="10319" y="8706"/>
                </a:cubicBezTo>
                <a:cubicBezTo>
                  <a:pt x="10289" y="8677"/>
                  <a:pt x="10277" y="8663"/>
                  <a:pt x="10269" y="8632"/>
                </a:cubicBezTo>
                <a:cubicBezTo>
                  <a:pt x="10322" y="8559"/>
                  <a:pt x="10343" y="8560"/>
                  <a:pt x="10418" y="8533"/>
                </a:cubicBezTo>
                <a:cubicBezTo>
                  <a:pt x="10514" y="8498"/>
                  <a:pt x="10639" y="8509"/>
                  <a:pt x="10740" y="8533"/>
                </a:cubicBezTo>
                <a:cubicBezTo>
                  <a:pt x="10874" y="8564"/>
                  <a:pt x="11011" y="8594"/>
                  <a:pt x="11137" y="8657"/>
                </a:cubicBezTo>
                <a:cubicBezTo>
                  <a:pt x="11246" y="8711"/>
                  <a:pt x="11383" y="8745"/>
                  <a:pt x="11485" y="8806"/>
                </a:cubicBezTo>
                <a:cubicBezTo>
                  <a:pt x="11543" y="8840"/>
                  <a:pt x="11600" y="8893"/>
                  <a:pt x="11658" y="893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Ink 10"/>
          <p:cNvSpPr/>
          <p:nvPr/>
        </p:nvSpPr>
        <p:spPr>
          <a:xfrm>
            <a:off x="919080" y="3697200"/>
            <a:ext cx="2243160" cy="642960"/>
          </a:xfrm>
          <a:custGeom>
            <a:avLst/>
            <a:gdLst/>
            <a:ahLst/>
            <a:rect l="l" t="t" r="r" b="b"/>
            <a:pathLst>
              <a:path w="6227" h="1787">
                <a:moveTo>
                  <a:pt x="2753" y="10368"/>
                </a:moveTo>
                <a:cubicBezTo>
                  <a:pt x="2753" y="10485"/>
                  <a:pt x="2744" y="10579"/>
                  <a:pt x="2704" y="10691"/>
                </a:cubicBezTo>
                <a:cubicBezTo>
                  <a:pt x="2662" y="10807"/>
                  <a:pt x="2625" y="10923"/>
                  <a:pt x="2580" y="11038"/>
                </a:cubicBezTo>
                <a:cubicBezTo>
                  <a:pt x="2526" y="11176"/>
                  <a:pt x="2546" y="11339"/>
                  <a:pt x="2629" y="11460"/>
                </a:cubicBezTo>
                <a:cubicBezTo>
                  <a:pt x="2681" y="11536"/>
                  <a:pt x="2733" y="11591"/>
                  <a:pt x="2828" y="11609"/>
                </a:cubicBezTo>
                <a:cubicBezTo>
                  <a:pt x="2930" y="11629"/>
                  <a:pt x="3003" y="11599"/>
                  <a:pt x="3076" y="11534"/>
                </a:cubicBezTo>
                <a:cubicBezTo>
                  <a:pt x="3157" y="11462"/>
                  <a:pt x="3215" y="11416"/>
                  <a:pt x="3225" y="11311"/>
                </a:cubicBezTo>
                <a:cubicBezTo>
                  <a:pt x="3233" y="11226"/>
                  <a:pt x="3210" y="11137"/>
                  <a:pt x="3101" y="11137"/>
                </a:cubicBezTo>
                <a:cubicBezTo>
                  <a:pt x="2962" y="11137"/>
                  <a:pt x="2870" y="11289"/>
                  <a:pt x="2853" y="11410"/>
                </a:cubicBezTo>
                <a:cubicBezTo>
                  <a:pt x="2839" y="11510"/>
                  <a:pt x="2851" y="11555"/>
                  <a:pt x="2927" y="11609"/>
                </a:cubicBezTo>
              </a:path>
              <a:path w="6227" h="1787">
                <a:moveTo>
                  <a:pt x="3423" y="10691"/>
                </a:moveTo>
                <a:cubicBezTo>
                  <a:pt x="3415" y="10788"/>
                  <a:pt x="3393" y="10852"/>
                  <a:pt x="3349" y="10939"/>
                </a:cubicBezTo>
                <a:cubicBezTo>
                  <a:pt x="3327" y="10983"/>
                  <a:pt x="3300" y="11067"/>
                  <a:pt x="3373" y="11088"/>
                </a:cubicBezTo>
                <a:cubicBezTo>
                  <a:pt x="3451" y="11110"/>
                  <a:pt x="3539" y="11112"/>
                  <a:pt x="3621" y="11112"/>
                </a:cubicBezTo>
                <a:cubicBezTo>
                  <a:pt x="3737" y="11112"/>
                  <a:pt x="3790" y="11065"/>
                  <a:pt x="3870" y="10988"/>
                </a:cubicBezTo>
                <a:cubicBezTo>
                  <a:pt x="3916" y="10942"/>
                  <a:pt x="3930" y="10930"/>
                  <a:pt x="3944" y="10889"/>
                </a:cubicBezTo>
              </a:path>
              <a:path w="6227" h="1787">
                <a:moveTo>
                  <a:pt x="3870" y="10393"/>
                </a:moveTo>
                <a:cubicBezTo>
                  <a:pt x="3924" y="10502"/>
                  <a:pt x="3970" y="10589"/>
                  <a:pt x="3944" y="10716"/>
                </a:cubicBezTo>
                <a:cubicBezTo>
                  <a:pt x="3922" y="10823"/>
                  <a:pt x="3919" y="10924"/>
                  <a:pt x="3919" y="11038"/>
                </a:cubicBezTo>
                <a:cubicBezTo>
                  <a:pt x="3919" y="11163"/>
                  <a:pt x="3894" y="11283"/>
                  <a:pt x="3894" y="11410"/>
                </a:cubicBezTo>
                <a:cubicBezTo>
                  <a:pt x="3894" y="11524"/>
                  <a:pt x="3889" y="11624"/>
                  <a:pt x="3919" y="11733"/>
                </a:cubicBezTo>
              </a:path>
              <a:path w="6227" h="1787">
                <a:moveTo>
                  <a:pt x="4440" y="11609"/>
                </a:moveTo>
                <a:cubicBezTo>
                  <a:pt x="4420" y="11708"/>
                  <a:pt x="4412" y="11723"/>
                  <a:pt x="4415" y="11782"/>
                </a:cubicBezTo>
                <a:cubicBezTo>
                  <a:pt x="4456" y="11726"/>
                  <a:pt x="4511" y="11674"/>
                  <a:pt x="4539" y="11609"/>
                </a:cubicBezTo>
                <a:cubicBezTo>
                  <a:pt x="4583" y="11508"/>
                  <a:pt x="4628" y="11389"/>
                  <a:pt x="4663" y="11286"/>
                </a:cubicBezTo>
                <a:cubicBezTo>
                  <a:pt x="4712" y="11144"/>
                  <a:pt x="4750" y="11003"/>
                  <a:pt x="4787" y="10864"/>
                </a:cubicBezTo>
                <a:cubicBezTo>
                  <a:pt x="4809" y="10781"/>
                  <a:pt x="4835" y="10663"/>
                  <a:pt x="4887" y="10592"/>
                </a:cubicBezTo>
                <a:cubicBezTo>
                  <a:pt x="4911" y="10567"/>
                  <a:pt x="4919" y="10558"/>
                  <a:pt x="4936" y="10542"/>
                </a:cubicBezTo>
                <a:cubicBezTo>
                  <a:pt x="5015" y="10611"/>
                  <a:pt x="5017" y="10634"/>
                  <a:pt x="5060" y="10740"/>
                </a:cubicBezTo>
                <a:cubicBezTo>
                  <a:pt x="5147" y="10952"/>
                  <a:pt x="5217" y="11157"/>
                  <a:pt x="5333" y="11361"/>
                </a:cubicBezTo>
                <a:cubicBezTo>
                  <a:pt x="5394" y="11468"/>
                  <a:pt x="5467" y="11577"/>
                  <a:pt x="5531" y="11683"/>
                </a:cubicBezTo>
                <a:cubicBezTo>
                  <a:pt x="5548" y="11712"/>
                  <a:pt x="5610" y="11846"/>
                  <a:pt x="5655" y="11857"/>
                </a:cubicBezTo>
                <a:cubicBezTo>
                  <a:pt x="5683" y="11884"/>
                  <a:pt x="5692" y="11888"/>
                  <a:pt x="5680" y="11832"/>
                </a:cubicBezTo>
              </a:path>
              <a:path w="6227" h="1787">
                <a:moveTo>
                  <a:pt x="6102" y="10393"/>
                </a:moveTo>
                <a:cubicBezTo>
                  <a:pt x="6069" y="10484"/>
                  <a:pt x="6053" y="10560"/>
                  <a:pt x="6003" y="10641"/>
                </a:cubicBezTo>
                <a:cubicBezTo>
                  <a:pt x="5942" y="10740"/>
                  <a:pt x="5883" y="10825"/>
                  <a:pt x="5854" y="10939"/>
                </a:cubicBezTo>
                <a:cubicBezTo>
                  <a:pt x="5816" y="11085"/>
                  <a:pt x="5794" y="11189"/>
                  <a:pt x="5829" y="11336"/>
                </a:cubicBezTo>
                <a:cubicBezTo>
                  <a:pt x="5854" y="11443"/>
                  <a:pt x="5880" y="11571"/>
                  <a:pt x="5953" y="11658"/>
                </a:cubicBezTo>
                <a:cubicBezTo>
                  <a:pt x="6038" y="11743"/>
                  <a:pt x="6051" y="11769"/>
                  <a:pt x="6127" y="11782"/>
                </a:cubicBezTo>
              </a:path>
              <a:path w="6227" h="1787">
                <a:moveTo>
                  <a:pt x="6424" y="10691"/>
                </a:moveTo>
                <a:cubicBezTo>
                  <a:pt x="6579" y="10671"/>
                  <a:pt x="6690" y="10637"/>
                  <a:pt x="6821" y="10740"/>
                </a:cubicBezTo>
                <a:cubicBezTo>
                  <a:pt x="6868" y="10777"/>
                  <a:pt x="6976" y="10878"/>
                  <a:pt x="6896" y="10939"/>
                </a:cubicBezTo>
                <a:cubicBezTo>
                  <a:pt x="6837" y="10985"/>
                  <a:pt x="6773" y="11048"/>
                  <a:pt x="6697" y="11063"/>
                </a:cubicBezTo>
                <a:cubicBezTo>
                  <a:pt x="6634" y="11076"/>
                  <a:pt x="6577" y="11081"/>
                  <a:pt x="6524" y="11112"/>
                </a:cubicBezTo>
                <a:cubicBezTo>
                  <a:pt x="6626" y="11146"/>
                  <a:pt x="6716" y="11166"/>
                  <a:pt x="6796" y="11237"/>
                </a:cubicBezTo>
                <a:cubicBezTo>
                  <a:pt x="6868" y="11301"/>
                  <a:pt x="6905" y="11350"/>
                  <a:pt x="6945" y="11435"/>
                </a:cubicBezTo>
                <a:cubicBezTo>
                  <a:pt x="6980" y="11509"/>
                  <a:pt x="6938" y="11582"/>
                  <a:pt x="6871" y="11633"/>
                </a:cubicBezTo>
                <a:cubicBezTo>
                  <a:pt x="6812" y="11678"/>
                  <a:pt x="6694" y="11680"/>
                  <a:pt x="6623" y="11683"/>
                </a:cubicBezTo>
                <a:cubicBezTo>
                  <a:pt x="6516" y="11687"/>
                  <a:pt x="6416" y="11698"/>
                  <a:pt x="6400" y="11584"/>
                </a:cubicBezTo>
              </a:path>
              <a:path w="6227" h="1787">
                <a:moveTo>
                  <a:pt x="7491" y="10616"/>
                </a:moveTo>
                <a:cubicBezTo>
                  <a:pt x="7476" y="10778"/>
                  <a:pt x="7430" y="10903"/>
                  <a:pt x="7392" y="11063"/>
                </a:cubicBezTo>
                <a:cubicBezTo>
                  <a:pt x="7353" y="11227"/>
                  <a:pt x="7289" y="11374"/>
                  <a:pt x="7243" y="11534"/>
                </a:cubicBezTo>
                <a:cubicBezTo>
                  <a:pt x="7203" y="11673"/>
                  <a:pt x="7169" y="11812"/>
                  <a:pt x="7169" y="11956"/>
                </a:cubicBezTo>
                <a:cubicBezTo>
                  <a:pt x="7169" y="11972"/>
                  <a:pt x="7169" y="11989"/>
                  <a:pt x="7169" y="12005"/>
                </a:cubicBezTo>
              </a:path>
              <a:path w="6227" h="1787">
                <a:moveTo>
                  <a:pt x="7665" y="10939"/>
                </a:moveTo>
                <a:cubicBezTo>
                  <a:pt x="7778" y="10906"/>
                  <a:pt x="7871" y="10860"/>
                  <a:pt x="7987" y="10914"/>
                </a:cubicBezTo>
                <a:cubicBezTo>
                  <a:pt x="8082" y="10958"/>
                  <a:pt x="8108" y="11039"/>
                  <a:pt x="8111" y="11137"/>
                </a:cubicBezTo>
                <a:cubicBezTo>
                  <a:pt x="8117" y="11302"/>
                  <a:pt x="8051" y="11337"/>
                  <a:pt x="7962" y="11460"/>
                </a:cubicBezTo>
                <a:cubicBezTo>
                  <a:pt x="7895" y="11553"/>
                  <a:pt x="7858" y="11591"/>
                  <a:pt x="7764" y="11658"/>
                </a:cubicBezTo>
                <a:cubicBezTo>
                  <a:pt x="7725" y="11686"/>
                  <a:pt x="7712" y="11678"/>
                  <a:pt x="7665" y="11683"/>
                </a:cubicBezTo>
                <a:cubicBezTo>
                  <a:pt x="7665" y="11597"/>
                  <a:pt x="7654" y="11568"/>
                  <a:pt x="7714" y="11509"/>
                </a:cubicBezTo>
                <a:cubicBezTo>
                  <a:pt x="7722" y="11501"/>
                  <a:pt x="7731" y="11493"/>
                  <a:pt x="7739" y="11485"/>
                </a:cubicBezTo>
                <a:cubicBezTo>
                  <a:pt x="7835" y="11541"/>
                  <a:pt x="7897" y="11606"/>
                  <a:pt x="7987" y="11658"/>
                </a:cubicBezTo>
                <a:cubicBezTo>
                  <a:pt x="8133" y="11742"/>
                  <a:pt x="8257" y="11903"/>
                  <a:pt x="8458" y="11857"/>
                </a:cubicBezTo>
                <a:cubicBezTo>
                  <a:pt x="8475" y="11840"/>
                  <a:pt x="8491" y="11824"/>
                  <a:pt x="8508" y="11807"/>
                </a:cubicBezTo>
              </a:path>
              <a:path w="6227" h="1787">
                <a:moveTo>
                  <a:pt x="8409" y="10269"/>
                </a:moveTo>
                <a:cubicBezTo>
                  <a:pt x="8513" y="10355"/>
                  <a:pt x="8636" y="10483"/>
                  <a:pt x="8682" y="10616"/>
                </a:cubicBezTo>
                <a:cubicBezTo>
                  <a:pt x="8758" y="10836"/>
                  <a:pt x="8790" y="11136"/>
                  <a:pt x="8781" y="11361"/>
                </a:cubicBezTo>
                <a:cubicBezTo>
                  <a:pt x="8775" y="11515"/>
                  <a:pt x="8719" y="11728"/>
                  <a:pt x="8632" y="11857"/>
                </a:cubicBezTo>
                <a:cubicBezTo>
                  <a:pt x="8586" y="11925"/>
                  <a:pt x="8513" y="11993"/>
                  <a:pt x="8458" y="1205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Ink 11"/>
          <p:cNvSpPr/>
          <p:nvPr/>
        </p:nvSpPr>
        <p:spPr>
          <a:xfrm>
            <a:off x="4187880" y="1251000"/>
            <a:ext cx="571320" cy="455400"/>
          </a:xfrm>
          <a:custGeom>
            <a:avLst/>
            <a:gdLst/>
            <a:ahLst/>
            <a:rect l="l" t="t" r="r" b="b"/>
            <a:pathLst>
              <a:path w="1589" h="1266">
                <a:moveTo>
                  <a:pt x="11708" y="3696"/>
                </a:moveTo>
                <a:cubicBezTo>
                  <a:pt x="11754" y="3649"/>
                  <a:pt x="11815" y="3608"/>
                  <a:pt x="11881" y="3597"/>
                </a:cubicBezTo>
                <a:cubicBezTo>
                  <a:pt x="11950" y="3586"/>
                  <a:pt x="11994" y="3599"/>
                  <a:pt x="12055" y="3621"/>
                </a:cubicBezTo>
                <a:cubicBezTo>
                  <a:pt x="12040" y="3760"/>
                  <a:pt x="11988" y="3732"/>
                  <a:pt x="11906" y="3820"/>
                </a:cubicBezTo>
                <a:cubicBezTo>
                  <a:pt x="11856" y="3874"/>
                  <a:pt x="11825" y="3905"/>
                  <a:pt x="11757" y="3944"/>
                </a:cubicBezTo>
                <a:cubicBezTo>
                  <a:pt x="11801" y="3918"/>
                  <a:pt x="11875" y="3879"/>
                  <a:pt x="11931" y="3870"/>
                </a:cubicBezTo>
                <a:cubicBezTo>
                  <a:pt x="11980" y="3862"/>
                  <a:pt x="12087" y="3881"/>
                  <a:pt x="12105" y="3944"/>
                </a:cubicBezTo>
                <a:cubicBezTo>
                  <a:pt x="12121" y="4000"/>
                  <a:pt x="12105" y="4083"/>
                  <a:pt x="12055" y="4118"/>
                </a:cubicBezTo>
                <a:cubicBezTo>
                  <a:pt x="12016" y="4146"/>
                  <a:pt x="11920" y="4188"/>
                  <a:pt x="11881" y="4192"/>
                </a:cubicBezTo>
                <a:cubicBezTo>
                  <a:pt x="11795" y="4201"/>
                  <a:pt x="11717" y="4217"/>
                  <a:pt x="11633" y="4217"/>
                </a:cubicBezTo>
              </a:path>
              <a:path w="1589" h="1266">
                <a:moveTo>
                  <a:pt x="12402" y="3473"/>
                </a:moveTo>
                <a:cubicBezTo>
                  <a:pt x="12371" y="3652"/>
                  <a:pt x="12310" y="3796"/>
                  <a:pt x="12254" y="3969"/>
                </a:cubicBezTo>
                <a:cubicBezTo>
                  <a:pt x="12217" y="4083"/>
                  <a:pt x="12215" y="4199"/>
                  <a:pt x="12179" y="4316"/>
                </a:cubicBezTo>
                <a:cubicBezTo>
                  <a:pt x="12151" y="4409"/>
                  <a:pt x="12114" y="4499"/>
                  <a:pt x="12080" y="4589"/>
                </a:cubicBezTo>
                <a:cubicBezTo>
                  <a:pt x="12067" y="4624"/>
                  <a:pt x="12001" y="4768"/>
                  <a:pt x="12080" y="4663"/>
                </a:cubicBezTo>
              </a:path>
              <a:path w="1589" h="1266">
                <a:moveTo>
                  <a:pt x="12427" y="4217"/>
                </a:moveTo>
                <a:cubicBezTo>
                  <a:pt x="12492" y="4159"/>
                  <a:pt x="12560" y="4110"/>
                  <a:pt x="12650" y="4093"/>
                </a:cubicBezTo>
                <a:cubicBezTo>
                  <a:pt x="12715" y="4081"/>
                  <a:pt x="12785" y="4089"/>
                  <a:pt x="12799" y="4167"/>
                </a:cubicBezTo>
                <a:cubicBezTo>
                  <a:pt x="12816" y="4260"/>
                  <a:pt x="12758" y="4328"/>
                  <a:pt x="12700" y="4390"/>
                </a:cubicBezTo>
                <a:cubicBezTo>
                  <a:pt x="12637" y="4456"/>
                  <a:pt x="12598" y="4508"/>
                  <a:pt x="12526" y="4564"/>
                </a:cubicBezTo>
                <a:cubicBezTo>
                  <a:pt x="12459" y="4616"/>
                  <a:pt x="12438" y="4626"/>
                  <a:pt x="12427" y="4713"/>
                </a:cubicBezTo>
                <a:cubicBezTo>
                  <a:pt x="12559" y="4713"/>
                  <a:pt x="12673" y="4721"/>
                  <a:pt x="12799" y="4738"/>
                </a:cubicBezTo>
                <a:cubicBezTo>
                  <a:pt x="12884" y="4750"/>
                  <a:pt x="13185" y="4766"/>
                  <a:pt x="13221" y="471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 (x + 1)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/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Ink 4"/>
          <p:cNvSpPr/>
          <p:nvPr/>
        </p:nvSpPr>
        <p:spPr>
          <a:xfrm>
            <a:off x="1027080" y="6518160"/>
            <a:ext cx="27000" cy="27000"/>
          </a:xfrm>
          <a:custGeom>
            <a:avLst/>
            <a:gdLst/>
            <a:ahLst/>
            <a:rect l="l" t="t" r="r" b="b"/>
            <a:pathLst>
              <a:path w="75" h="76">
                <a:moveTo>
                  <a:pt x="2853" y="18107"/>
                </a:moveTo>
                <a:cubicBezTo>
                  <a:pt x="2894" y="18149"/>
                  <a:pt x="2902" y="18157"/>
                  <a:pt x="2927" y="1818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Ink 5"/>
          <p:cNvSpPr/>
          <p:nvPr/>
        </p:nvSpPr>
        <p:spPr>
          <a:xfrm>
            <a:off x="2670120" y="1366920"/>
            <a:ext cx="554040" cy="527040"/>
          </a:xfrm>
          <a:custGeom>
            <a:avLst/>
            <a:gdLst/>
            <a:ahLst/>
            <a:rect l="l" t="t" r="r" b="b"/>
            <a:pathLst>
              <a:path w="1538" h="1465">
                <a:moveTo>
                  <a:pt x="7913" y="4068"/>
                </a:moveTo>
                <a:cubicBezTo>
                  <a:pt x="7965" y="4048"/>
                  <a:pt x="8053" y="4005"/>
                  <a:pt x="8111" y="4018"/>
                </a:cubicBezTo>
                <a:cubicBezTo>
                  <a:pt x="8216" y="4041"/>
                  <a:pt x="8185" y="4133"/>
                  <a:pt x="8136" y="4192"/>
                </a:cubicBezTo>
                <a:cubicBezTo>
                  <a:pt x="8092" y="4245"/>
                  <a:pt x="8036" y="4272"/>
                  <a:pt x="7987" y="4316"/>
                </a:cubicBezTo>
                <a:cubicBezTo>
                  <a:pt x="7979" y="4324"/>
                  <a:pt x="7970" y="4333"/>
                  <a:pt x="7962" y="4341"/>
                </a:cubicBezTo>
                <a:cubicBezTo>
                  <a:pt x="8052" y="4341"/>
                  <a:pt x="8085" y="4348"/>
                  <a:pt x="8161" y="4390"/>
                </a:cubicBezTo>
                <a:cubicBezTo>
                  <a:pt x="8110" y="4441"/>
                  <a:pt x="8098" y="4443"/>
                  <a:pt x="8037" y="4465"/>
                </a:cubicBezTo>
                <a:cubicBezTo>
                  <a:pt x="7943" y="4499"/>
                  <a:pt x="7905" y="4507"/>
                  <a:pt x="7838" y="4440"/>
                </a:cubicBezTo>
              </a:path>
              <a:path w="1538" h="1465">
                <a:moveTo>
                  <a:pt x="8458" y="3795"/>
                </a:moveTo>
                <a:cubicBezTo>
                  <a:pt x="8411" y="3920"/>
                  <a:pt x="8350" y="4039"/>
                  <a:pt x="8310" y="4167"/>
                </a:cubicBezTo>
                <a:cubicBezTo>
                  <a:pt x="8267" y="4303"/>
                  <a:pt x="8233" y="4432"/>
                  <a:pt x="8186" y="4564"/>
                </a:cubicBezTo>
                <a:cubicBezTo>
                  <a:pt x="8163" y="4628"/>
                  <a:pt x="8161" y="4669"/>
                  <a:pt x="8161" y="4738"/>
                </a:cubicBezTo>
              </a:path>
              <a:path w="1538" h="1465">
                <a:moveTo>
                  <a:pt x="8409" y="4316"/>
                </a:moveTo>
                <a:cubicBezTo>
                  <a:pt x="8493" y="4262"/>
                  <a:pt x="8555" y="4222"/>
                  <a:pt x="8657" y="4217"/>
                </a:cubicBezTo>
                <a:cubicBezTo>
                  <a:pt x="8745" y="4212"/>
                  <a:pt x="8759" y="4271"/>
                  <a:pt x="8731" y="4341"/>
                </a:cubicBezTo>
                <a:cubicBezTo>
                  <a:pt x="8693" y="4437"/>
                  <a:pt x="8663" y="4502"/>
                  <a:pt x="8582" y="4564"/>
                </a:cubicBezTo>
                <a:cubicBezTo>
                  <a:pt x="8523" y="4604"/>
                  <a:pt x="8512" y="4608"/>
                  <a:pt x="8483" y="4638"/>
                </a:cubicBezTo>
                <a:cubicBezTo>
                  <a:pt x="8551" y="4706"/>
                  <a:pt x="8589" y="4691"/>
                  <a:pt x="8682" y="4663"/>
                </a:cubicBezTo>
                <a:cubicBezTo>
                  <a:pt x="8774" y="4635"/>
                  <a:pt x="8863" y="4597"/>
                  <a:pt x="8954" y="4564"/>
                </a:cubicBezTo>
              </a:path>
              <a:path w="1538" h="1465">
                <a:moveTo>
                  <a:pt x="7417" y="4738"/>
                </a:moveTo>
                <a:cubicBezTo>
                  <a:pt x="7524" y="4751"/>
                  <a:pt x="7543" y="4821"/>
                  <a:pt x="7640" y="4862"/>
                </a:cubicBezTo>
                <a:cubicBezTo>
                  <a:pt x="7827" y="4941"/>
                  <a:pt x="7969" y="5075"/>
                  <a:pt x="8136" y="5159"/>
                </a:cubicBezTo>
                <a:cubicBezTo>
                  <a:pt x="8215" y="5198"/>
                  <a:pt x="8296" y="5254"/>
                  <a:pt x="8384" y="5259"/>
                </a:cubicBezTo>
                <a:cubicBezTo>
                  <a:pt x="8429" y="5259"/>
                  <a:pt x="8442" y="5263"/>
                  <a:pt x="8458" y="5234"/>
                </a:cubicBezTo>
              </a:path>
              <a:path w="1538" h="1465">
                <a:moveTo>
                  <a:pt x="7714" y="4018"/>
                </a:moveTo>
                <a:cubicBezTo>
                  <a:pt x="7772" y="4076"/>
                  <a:pt x="7839" y="4131"/>
                  <a:pt x="7913" y="4167"/>
                </a:cubicBezTo>
                <a:cubicBezTo>
                  <a:pt x="8015" y="4216"/>
                  <a:pt x="8113" y="4235"/>
                  <a:pt x="8210" y="4291"/>
                </a:cubicBezTo>
                <a:cubicBezTo>
                  <a:pt x="8307" y="4347"/>
                  <a:pt x="8420" y="4371"/>
                  <a:pt x="8508" y="4440"/>
                </a:cubicBezTo>
                <a:cubicBezTo>
                  <a:pt x="8567" y="4499"/>
                  <a:pt x="8596" y="4522"/>
                  <a:pt x="8657" y="453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Ink 6"/>
          <p:cNvSpPr/>
          <p:nvPr/>
        </p:nvSpPr>
        <p:spPr>
          <a:xfrm>
            <a:off x="3679920" y="1455840"/>
            <a:ext cx="419040" cy="339480"/>
          </a:xfrm>
          <a:custGeom>
            <a:avLst/>
            <a:gdLst/>
            <a:ahLst/>
            <a:rect l="l" t="t" r="r" b="b"/>
            <a:pathLst>
              <a:path w="1166" h="944">
                <a:moveTo>
                  <a:pt x="10220" y="4217"/>
                </a:moveTo>
                <a:cubicBezTo>
                  <a:pt x="10320" y="4170"/>
                  <a:pt x="10371" y="4133"/>
                  <a:pt x="10468" y="4167"/>
                </a:cubicBezTo>
                <a:cubicBezTo>
                  <a:pt x="10534" y="4191"/>
                  <a:pt x="10580" y="4253"/>
                  <a:pt x="10517" y="4316"/>
                </a:cubicBezTo>
                <a:cubicBezTo>
                  <a:pt x="10480" y="4354"/>
                  <a:pt x="10392" y="4388"/>
                  <a:pt x="10344" y="4415"/>
                </a:cubicBezTo>
                <a:cubicBezTo>
                  <a:pt x="10445" y="4443"/>
                  <a:pt x="10478" y="4437"/>
                  <a:pt x="10542" y="4514"/>
                </a:cubicBezTo>
                <a:cubicBezTo>
                  <a:pt x="10605" y="4589"/>
                  <a:pt x="10495" y="4615"/>
                  <a:pt x="10443" y="4638"/>
                </a:cubicBezTo>
                <a:cubicBezTo>
                  <a:pt x="10352" y="4679"/>
                  <a:pt x="10325" y="4666"/>
                  <a:pt x="10269" y="4589"/>
                </a:cubicBezTo>
              </a:path>
              <a:path w="1166" h="944">
                <a:moveTo>
                  <a:pt x="10840" y="4043"/>
                </a:moveTo>
                <a:cubicBezTo>
                  <a:pt x="10778" y="4204"/>
                  <a:pt x="10702" y="4318"/>
                  <a:pt x="10616" y="4465"/>
                </a:cubicBezTo>
                <a:cubicBezTo>
                  <a:pt x="10557" y="4566"/>
                  <a:pt x="10478" y="4710"/>
                  <a:pt x="10443" y="4812"/>
                </a:cubicBezTo>
                <a:cubicBezTo>
                  <a:pt x="10428" y="4856"/>
                  <a:pt x="10424" y="4914"/>
                  <a:pt x="10418" y="4961"/>
                </a:cubicBezTo>
              </a:path>
              <a:path w="1166" h="944">
                <a:moveTo>
                  <a:pt x="10765" y="4440"/>
                </a:moveTo>
                <a:cubicBezTo>
                  <a:pt x="10880" y="4411"/>
                  <a:pt x="10997" y="4360"/>
                  <a:pt x="11088" y="4465"/>
                </a:cubicBezTo>
                <a:cubicBezTo>
                  <a:pt x="11165" y="4554"/>
                  <a:pt x="11118" y="4588"/>
                  <a:pt x="11063" y="4663"/>
                </a:cubicBezTo>
                <a:cubicBezTo>
                  <a:pt x="11025" y="4715"/>
                  <a:pt x="10820" y="4840"/>
                  <a:pt x="10815" y="4887"/>
                </a:cubicBezTo>
                <a:cubicBezTo>
                  <a:pt x="10823" y="4895"/>
                  <a:pt x="10832" y="4903"/>
                  <a:pt x="10840" y="4911"/>
                </a:cubicBezTo>
                <a:cubicBezTo>
                  <a:pt x="10927" y="4944"/>
                  <a:pt x="11042" y="4978"/>
                  <a:pt x="11137" y="4986"/>
                </a:cubicBezTo>
                <a:cubicBezTo>
                  <a:pt x="11270" y="4986"/>
                  <a:pt x="11305" y="4990"/>
                  <a:pt x="11385" y="496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Ink 7"/>
          <p:cNvSpPr/>
          <p:nvPr/>
        </p:nvSpPr>
        <p:spPr>
          <a:xfrm>
            <a:off x="2108160" y="2411280"/>
            <a:ext cx="909720" cy="339840"/>
          </a:xfrm>
          <a:custGeom>
            <a:avLst/>
            <a:gdLst/>
            <a:ahLst/>
            <a:rect l="l" t="t" r="r" b="b"/>
            <a:pathLst>
              <a:path w="2531" h="944">
                <a:moveTo>
                  <a:pt x="5854" y="6697"/>
                </a:moveTo>
                <a:cubicBezTo>
                  <a:pt x="5888" y="6754"/>
                  <a:pt x="5888" y="6836"/>
                  <a:pt x="5928" y="6896"/>
                </a:cubicBezTo>
                <a:cubicBezTo>
                  <a:pt x="6000" y="7003"/>
                  <a:pt x="6117" y="7095"/>
                  <a:pt x="6201" y="7193"/>
                </a:cubicBezTo>
                <a:cubicBezTo>
                  <a:pt x="6289" y="7295"/>
                  <a:pt x="6376" y="7457"/>
                  <a:pt x="6474" y="7541"/>
                </a:cubicBezTo>
                <a:cubicBezTo>
                  <a:pt x="6532" y="7591"/>
                  <a:pt x="6603" y="7630"/>
                  <a:pt x="6672" y="7640"/>
                </a:cubicBezTo>
              </a:path>
              <a:path w="2531" h="944">
                <a:moveTo>
                  <a:pt x="6400" y="6747"/>
                </a:moveTo>
                <a:cubicBezTo>
                  <a:pt x="6298" y="6913"/>
                  <a:pt x="6238" y="7060"/>
                  <a:pt x="6127" y="7218"/>
                </a:cubicBezTo>
                <a:cubicBezTo>
                  <a:pt x="6065" y="7307"/>
                  <a:pt x="6037" y="7402"/>
                  <a:pt x="5978" y="7491"/>
                </a:cubicBezTo>
                <a:cubicBezTo>
                  <a:pt x="5941" y="7547"/>
                  <a:pt x="5933" y="7566"/>
                  <a:pt x="5953" y="7615"/>
                </a:cubicBezTo>
              </a:path>
              <a:path w="2531" h="944">
                <a:moveTo>
                  <a:pt x="6796" y="6896"/>
                </a:moveTo>
                <a:cubicBezTo>
                  <a:pt x="6819" y="7058"/>
                  <a:pt x="6816" y="7234"/>
                  <a:pt x="6846" y="7392"/>
                </a:cubicBezTo>
                <a:cubicBezTo>
                  <a:pt x="6860" y="7466"/>
                  <a:pt x="6886" y="7474"/>
                  <a:pt x="6896" y="7541"/>
                </a:cubicBezTo>
              </a:path>
              <a:path w="2531" h="944">
                <a:moveTo>
                  <a:pt x="6573" y="7144"/>
                </a:moveTo>
                <a:cubicBezTo>
                  <a:pt x="6664" y="7196"/>
                  <a:pt x="6742" y="7193"/>
                  <a:pt x="6846" y="7193"/>
                </a:cubicBezTo>
                <a:cubicBezTo>
                  <a:pt x="6896" y="7193"/>
                  <a:pt x="6945" y="7193"/>
                  <a:pt x="6995" y="7193"/>
                </a:cubicBezTo>
              </a:path>
              <a:path w="2531" h="944">
                <a:moveTo>
                  <a:pt x="7466" y="6722"/>
                </a:moveTo>
                <a:cubicBezTo>
                  <a:pt x="7466" y="6896"/>
                  <a:pt x="7447" y="7050"/>
                  <a:pt x="7441" y="7218"/>
                </a:cubicBezTo>
                <a:cubicBezTo>
                  <a:pt x="7438" y="7305"/>
                  <a:pt x="7422" y="7414"/>
                  <a:pt x="7466" y="7491"/>
                </a:cubicBezTo>
                <a:cubicBezTo>
                  <a:pt x="7492" y="7536"/>
                  <a:pt x="7527" y="7596"/>
                  <a:pt x="7565" y="7615"/>
                </a:cubicBezTo>
              </a:path>
              <a:path w="2531" h="944">
                <a:moveTo>
                  <a:pt x="7714" y="7169"/>
                </a:moveTo>
                <a:cubicBezTo>
                  <a:pt x="7824" y="7143"/>
                  <a:pt x="7923" y="7144"/>
                  <a:pt x="8037" y="7144"/>
                </a:cubicBezTo>
                <a:cubicBezTo>
                  <a:pt x="8105" y="7144"/>
                  <a:pt x="8124" y="7141"/>
                  <a:pt x="8161" y="7169"/>
                </a:cubicBezTo>
              </a:path>
              <a:path w="2531" h="944">
                <a:moveTo>
                  <a:pt x="7913" y="7392"/>
                </a:moveTo>
                <a:cubicBezTo>
                  <a:pt x="8010" y="7408"/>
                  <a:pt x="8117" y="7429"/>
                  <a:pt x="8210" y="7441"/>
                </a:cubicBezTo>
                <a:cubicBezTo>
                  <a:pt x="8265" y="7448"/>
                  <a:pt x="8328" y="7441"/>
                  <a:pt x="8384" y="744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Ink 8"/>
          <p:cNvSpPr/>
          <p:nvPr/>
        </p:nvSpPr>
        <p:spPr>
          <a:xfrm>
            <a:off x="3251160" y="2394000"/>
            <a:ext cx="177840" cy="374760"/>
          </a:xfrm>
          <a:custGeom>
            <a:avLst/>
            <a:gdLst/>
            <a:ahLst/>
            <a:rect l="l" t="t" r="r" b="b"/>
            <a:pathLst>
              <a:path w="497" h="1042">
                <a:moveTo>
                  <a:pt x="9426" y="6796"/>
                </a:moveTo>
                <a:cubicBezTo>
                  <a:pt x="9426" y="6909"/>
                  <a:pt x="9424" y="6759"/>
                  <a:pt x="9401" y="6722"/>
                </a:cubicBezTo>
                <a:cubicBezTo>
                  <a:pt x="9348" y="6637"/>
                  <a:pt x="9282" y="6665"/>
                  <a:pt x="9203" y="6672"/>
                </a:cubicBezTo>
                <a:cubicBezTo>
                  <a:pt x="9152" y="6676"/>
                  <a:pt x="9048" y="6681"/>
                  <a:pt x="9029" y="6747"/>
                </a:cubicBezTo>
                <a:cubicBezTo>
                  <a:pt x="9014" y="6800"/>
                  <a:pt x="9061" y="6909"/>
                  <a:pt x="9103" y="6945"/>
                </a:cubicBezTo>
                <a:cubicBezTo>
                  <a:pt x="9177" y="7009"/>
                  <a:pt x="9284" y="7071"/>
                  <a:pt x="9351" y="7144"/>
                </a:cubicBezTo>
                <a:cubicBezTo>
                  <a:pt x="9427" y="7227"/>
                  <a:pt x="9470" y="7334"/>
                  <a:pt x="9500" y="7441"/>
                </a:cubicBezTo>
                <a:cubicBezTo>
                  <a:pt x="9524" y="7526"/>
                  <a:pt x="9536" y="7611"/>
                  <a:pt x="9451" y="7665"/>
                </a:cubicBezTo>
                <a:cubicBezTo>
                  <a:pt x="9371" y="7716"/>
                  <a:pt x="9259" y="7701"/>
                  <a:pt x="9178" y="7665"/>
                </a:cubicBezTo>
                <a:cubicBezTo>
                  <a:pt x="9079" y="7621"/>
                  <a:pt x="9058" y="7601"/>
                  <a:pt x="9054" y="7491"/>
                </a:cubicBezTo>
                <a:cubicBezTo>
                  <a:pt x="9050" y="7378"/>
                  <a:pt x="9077" y="7323"/>
                  <a:pt x="9153" y="7243"/>
                </a:cubicBezTo>
                <a:cubicBezTo>
                  <a:pt x="9224" y="7169"/>
                  <a:pt x="9278" y="7093"/>
                  <a:pt x="9351" y="7020"/>
                </a:cubicBezTo>
                <a:cubicBezTo>
                  <a:pt x="9422" y="6949"/>
                  <a:pt x="9436" y="6913"/>
                  <a:pt x="9475" y="6821"/>
                </a:cubicBezTo>
                <a:cubicBezTo>
                  <a:pt x="9497" y="6778"/>
                  <a:pt x="9501" y="6766"/>
                  <a:pt x="9525" y="674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Ink 9"/>
          <p:cNvSpPr/>
          <p:nvPr/>
        </p:nvSpPr>
        <p:spPr>
          <a:xfrm>
            <a:off x="2178000" y="2830680"/>
            <a:ext cx="1295280" cy="992160"/>
          </a:xfrm>
          <a:custGeom>
            <a:avLst/>
            <a:gdLst/>
            <a:ahLst/>
            <a:rect l="l" t="t" r="r" b="b"/>
            <a:pathLst>
              <a:path w="3598" h="2754">
                <a:moveTo>
                  <a:pt x="6052" y="8186"/>
                </a:moveTo>
                <a:cubicBezTo>
                  <a:pt x="6176" y="8186"/>
                  <a:pt x="6300" y="8186"/>
                  <a:pt x="6424" y="8186"/>
                </a:cubicBezTo>
              </a:path>
              <a:path w="3598" h="2754">
                <a:moveTo>
                  <a:pt x="7045" y="7863"/>
                </a:moveTo>
                <a:cubicBezTo>
                  <a:pt x="7045" y="8053"/>
                  <a:pt x="7035" y="8259"/>
                  <a:pt x="7069" y="8434"/>
                </a:cubicBezTo>
                <a:cubicBezTo>
                  <a:pt x="7069" y="8485"/>
                  <a:pt x="7070" y="8504"/>
                  <a:pt x="7094" y="8533"/>
                </a:cubicBezTo>
              </a:path>
              <a:path w="3598" h="2754">
                <a:moveTo>
                  <a:pt x="8161" y="8210"/>
                </a:moveTo>
                <a:cubicBezTo>
                  <a:pt x="8293" y="8210"/>
                  <a:pt x="8426" y="8210"/>
                  <a:pt x="8558" y="8210"/>
                </a:cubicBezTo>
              </a:path>
              <a:path w="3598" h="2754">
                <a:moveTo>
                  <a:pt x="9103" y="7913"/>
                </a:moveTo>
                <a:cubicBezTo>
                  <a:pt x="9103" y="8071"/>
                  <a:pt x="9076" y="8260"/>
                  <a:pt x="9128" y="8409"/>
                </a:cubicBezTo>
                <a:cubicBezTo>
                  <a:pt x="9160" y="8472"/>
                  <a:pt x="9173" y="8504"/>
                  <a:pt x="9178" y="8558"/>
                </a:cubicBezTo>
              </a:path>
              <a:path w="3598" h="2754">
                <a:moveTo>
                  <a:pt x="7144" y="9227"/>
                </a:moveTo>
                <a:cubicBezTo>
                  <a:pt x="7194" y="9417"/>
                  <a:pt x="7214" y="9542"/>
                  <a:pt x="7367" y="9674"/>
                </a:cubicBezTo>
                <a:cubicBezTo>
                  <a:pt x="7481" y="9772"/>
                  <a:pt x="7597" y="9859"/>
                  <a:pt x="7714" y="9947"/>
                </a:cubicBezTo>
                <a:cubicBezTo>
                  <a:pt x="7731" y="9963"/>
                  <a:pt x="7747" y="9980"/>
                  <a:pt x="7764" y="9996"/>
                </a:cubicBezTo>
              </a:path>
              <a:path w="3598" h="2754">
                <a:moveTo>
                  <a:pt x="7441" y="9203"/>
                </a:moveTo>
                <a:cubicBezTo>
                  <a:pt x="7372" y="9327"/>
                  <a:pt x="7320" y="9456"/>
                  <a:pt x="7243" y="9575"/>
                </a:cubicBezTo>
                <a:cubicBezTo>
                  <a:pt x="7191" y="9656"/>
                  <a:pt x="7139" y="9738"/>
                  <a:pt x="7094" y="9823"/>
                </a:cubicBezTo>
                <a:cubicBezTo>
                  <a:pt x="7071" y="9865"/>
                  <a:pt x="7054" y="9902"/>
                  <a:pt x="7045" y="9947"/>
                </a:cubicBezTo>
              </a:path>
              <a:path w="3598" h="2754">
                <a:moveTo>
                  <a:pt x="7838" y="9426"/>
                </a:moveTo>
                <a:cubicBezTo>
                  <a:pt x="7937" y="9426"/>
                  <a:pt x="7954" y="9426"/>
                  <a:pt x="8012" y="9426"/>
                </a:cubicBezTo>
              </a:path>
              <a:path w="3598" h="2754">
                <a:moveTo>
                  <a:pt x="7764" y="9550"/>
                </a:moveTo>
                <a:cubicBezTo>
                  <a:pt x="7914" y="9550"/>
                  <a:pt x="7964" y="9550"/>
                  <a:pt x="8062" y="9525"/>
                </a:cubicBezTo>
              </a:path>
              <a:path w="3598" h="2754">
                <a:moveTo>
                  <a:pt x="8310" y="9153"/>
                </a:moveTo>
                <a:cubicBezTo>
                  <a:pt x="8448" y="9153"/>
                  <a:pt x="8576" y="9157"/>
                  <a:pt x="8706" y="9178"/>
                </a:cubicBezTo>
                <a:cubicBezTo>
                  <a:pt x="8756" y="9178"/>
                  <a:pt x="8773" y="9178"/>
                  <a:pt x="8806" y="9178"/>
                </a:cubicBezTo>
              </a:path>
              <a:path w="3598" h="2754">
                <a:moveTo>
                  <a:pt x="8930" y="9128"/>
                </a:moveTo>
                <a:cubicBezTo>
                  <a:pt x="8998" y="9142"/>
                  <a:pt x="8949" y="9207"/>
                  <a:pt x="8930" y="9302"/>
                </a:cubicBezTo>
                <a:cubicBezTo>
                  <a:pt x="8903" y="9435"/>
                  <a:pt x="8880" y="9538"/>
                  <a:pt x="8880" y="9674"/>
                </a:cubicBezTo>
                <a:cubicBezTo>
                  <a:pt x="8880" y="9772"/>
                  <a:pt x="8853" y="9930"/>
                  <a:pt x="8905" y="10021"/>
                </a:cubicBezTo>
                <a:cubicBezTo>
                  <a:pt x="8930" y="10046"/>
                  <a:pt x="8938" y="10054"/>
                  <a:pt x="8954" y="10071"/>
                </a:cubicBezTo>
              </a:path>
              <a:path w="3598" h="2754">
                <a:moveTo>
                  <a:pt x="9451" y="9302"/>
                </a:moveTo>
                <a:cubicBezTo>
                  <a:pt x="9296" y="9082"/>
                  <a:pt x="9254" y="9018"/>
                  <a:pt x="9029" y="8905"/>
                </a:cubicBezTo>
                <a:cubicBezTo>
                  <a:pt x="8840" y="8810"/>
                  <a:pt x="8685" y="8780"/>
                  <a:pt x="8483" y="8731"/>
                </a:cubicBezTo>
                <a:cubicBezTo>
                  <a:pt x="8240" y="8673"/>
                  <a:pt x="8035" y="8674"/>
                  <a:pt x="7789" y="8682"/>
                </a:cubicBezTo>
                <a:cubicBezTo>
                  <a:pt x="7579" y="8689"/>
                  <a:pt x="7367" y="8702"/>
                  <a:pt x="7169" y="8781"/>
                </a:cubicBezTo>
                <a:cubicBezTo>
                  <a:pt x="7008" y="8845"/>
                  <a:pt x="6776" y="8934"/>
                  <a:pt x="6648" y="9054"/>
                </a:cubicBezTo>
                <a:cubicBezTo>
                  <a:pt x="6495" y="9197"/>
                  <a:pt x="6429" y="9301"/>
                  <a:pt x="6424" y="9500"/>
                </a:cubicBezTo>
                <a:cubicBezTo>
                  <a:pt x="6419" y="9684"/>
                  <a:pt x="6491" y="9754"/>
                  <a:pt x="6598" y="9897"/>
                </a:cubicBezTo>
                <a:cubicBezTo>
                  <a:pt x="6714" y="10051"/>
                  <a:pt x="6847" y="10143"/>
                  <a:pt x="7020" y="10220"/>
                </a:cubicBezTo>
                <a:cubicBezTo>
                  <a:pt x="7242" y="10319"/>
                  <a:pt x="7479" y="10381"/>
                  <a:pt x="7714" y="10443"/>
                </a:cubicBezTo>
                <a:cubicBezTo>
                  <a:pt x="8093" y="10543"/>
                  <a:pt x="8460" y="10646"/>
                  <a:pt x="8855" y="10616"/>
                </a:cubicBezTo>
                <a:cubicBezTo>
                  <a:pt x="9047" y="10601"/>
                  <a:pt x="9267" y="10527"/>
                  <a:pt x="9426" y="10418"/>
                </a:cubicBezTo>
                <a:cubicBezTo>
                  <a:pt x="9504" y="10364"/>
                  <a:pt x="9576" y="10282"/>
                  <a:pt x="9649" y="10220"/>
                </a:cubicBezTo>
              </a:path>
              <a:path w="3598" h="2754">
                <a:moveTo>
                  <a:pt x="9054" y="8731"/>
                </a:moveTo>
                <a:cubicBezTo>
                  <a:pt x="8676" y="8576"/>
                  <a:pt x="8388" y="8487"/>
                  <a:pt x="7987" y="843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 (x – 1)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/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1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Ink 4"/>
          <p:cNvSpPr/>
          <p:nvPr/>
        </p:nvSpPr>
        <p:spPr>
          <a:xfrm>
            <a:off x="2840040" y="1366920"/>
            <a:ext cx="392040" cy="276120"/>
          </a:xfrm>
          <a:custGeom>
            <a:avLst/>
            <a:gdLst/>
            <a:ahLst/>
            <a:rect l="l" t="t" r="r" b="b"/>
            <a:pathLst>
              <a:path w="1092" h="770">
                <a:moveTo>
                  <a:pt x="7888" y="4291"/>
                </a:moveTo>
                <a:lnTo>
                  <a:pt x="7888" y="4291"/>
                </a:lnTo>
              </a:path>
              <a:path w="1092" h="770">
                <a:moveTo>
                  <a:pt x="8210" y="3894"/>
                </a:moveTo>
                <a:cubicBezTo>
                  <a:pt x="8290" y="3866"/>
                  <a:pt x="8358" y="3866"/>
                  <a:pt x="8434" y="3845"/>
                </a:cubicBezTo>
                <a:cubicBezTo>
                  <a:pt x="8450" y="3837"/>
                  <a:pt x="8467" y="3828"/>
                  <a:pt x="8483" y="3820"/>
                </a:cubicBezTo>
              </a:path>
              <a:path w="1092" h="770">
                <a:moveTo>
                  <a:pt x="8260" y="3894"/>
                </a:moveTo>
                <a:cubicBezTo>
                  <a:pt x="8201" y="3974"/>
                  <a:pt x="8176" y="3982"/>
                  <a:pt x="8186" y="4043"/>
                </a:cubicBezTo>
                <a:cubicBezTo>
                  <a:pt x="8272" y="4072"/>
                  <a:pt x="8266" y="4013"/>
                  <a:pt x="8334" y="3994"/>
                </a:cubicBezTo>
                <a:cubicBezTo>
                  <a:pt x="8373" y="3983"/>
                  <a:pt x="8446" y="4026"/>
                  <a:pt x="8458" y="4068"/>
                </a:cubicBezTo>
                <a:cubicBezTo>
                  <a:pt x="8477" y="4136"/>
                  <a:pt x="8450" y="4216"/>
                  <a:pt x="8409" y="4266"/>
                </a:cubicBezTo>
                <a:cubicBezTo>
                  <a:pt x="8362" y="4323"/>
                  <a:pt x="8315" y="4326"/>
                  <a:pt x="8260" y="4291"/>
                </a:cubicBezTo>
                <a:cubicBezTo>
                  <a:pt x="8195" y="4248"/>
                  <a:pt x="8175" y="4242"/>
                  <a:pt x="8161" y="4192"/>
                </a:cubicBezTo>
              </a:path>
              <a:path w="1092" h="770">
                <a:moveTo>
                  <a:pt x="8582" y="3795"/>
                </a:moveTo>
                <a:cubicBezTo>
                  <a:pt x="8574" y="3912"/>
                  <a:pt x="8564" y="4027"/>
                  <a:pt x="8533" y="4142"/>
                </a:cubicBezTo>
                <a:cubicBezTo>
                  <a:pt x="8507" y="4241"/>
                  <a:pt x="8495" y="4349"/>
                  <a:pt x="8458" y="4440"/>
                </a:cubicBezTo>
                <a:cubicBezTo>
                  <a:pt x="8439" y="4486"/>
                  <a:pt x="8409" y="4521"/>
                  <a:pt x="8384" y="4564"/>
                </a:cubicBezTo>
              </a:path>
              <a:path w="1092" h="770">
                <a:moveTo>
                  <a:pt x="8607" y="4217"/>
                </a:moveTo>
                <a:cubicBezTo>
                  <a:pt x="8694" y="4148"/>
                  <a:pt x="8744" y="4118"/>
                  <a:pt x="8855" y="4118"/>
                </a:cubicBezTo>
                <a:cubicBezTo>
                  <a:pt x="8855" y="4224"/>
                  <a:pt x="8855" y="4263"/>
                  <a:pt x="8781" y="4341"/>
                </a:cubicBezTo>
                <a:cubicBezTo>
                  <a:pt x="8716" y="4410"/>
                  <a:pt x="8682" y="4404"/>
                  <a:pt x="8706" y="4490"/>
                </a:cubicBezTo>
                <a:cubicBezTo>
                  <a:pt x="8801" y="4479"/>
                  <a:pt x="8886" y="4442"/>
                  <a:pt x="8979" y="441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Ink 5"/>
          <p:cNvSpPr/>
          <p:nvPr/>
        </p:nvSpPr>
        <p:spPr>
          <a:xfrm>
            <a:off x="1847880" y="2544840"/>
            <a:ext cx="376200" cy="304560"/>
          </a:xfrm>
          <a:custGeom>
            <a:avLst/>
            <a:gdLst/>
            <a:ahLst/>
            <a:rect l="l" t="t" r="r" b="b"/>
            <a:pathLst>
              <a:path w="1042" h="845">
                <a:moveTo>
                  <a:pt x="5209" y="7069"/>
                </a:moveTo>
                <a:cubicBezTo>
                  <a:pt x="5280" y="7344"/>
                  <a:pt x="5312" y="7421"/>
                  <a:pt x="5482" y="7640"/>
                </a:cubicBezTo>
                <a:cubicBezTo>
                  <a:pt x="5540" y="7714"/>
                  <a:pt x="5610" y="7806"/>
                  <a:pt x="5680" y="7863"/>
                </a:cubicBezTo>
                <a:cubicBezTo>
                  <a:pt x="5747" y="7917"/>
                  <a:pt x="5777" y="7917"/>
                  <a:pt x="5854" y="7888"/>
                </a:cubicBezTo>
              </a:path>
              <a:path w="1042" h="845">
                <a:moveTo>
                  <a:pt x="5556" y="7069"/>
                </a:moveTo>
                <a:cubicBezTo>
                  <a:pt x="5482" y="7197"/>
                  <a:pt x="5446" y="7345"/>
                  <a:pt x="5358" y="7466"/>
                </a:cubicBezTo>
                <a:cubicBezTo>
                  <a:pt x="5304" y="7540"/>
                  <a:pt x="5234" y="7611"/>
                  <a:pt x="5184" y="7689"/>
                </a:cubicBezTo>
                <a:cubicBezTo>
                  <a:pt x="5146" y="7766"/>
                  <a:pt x="5112" y="7781"/>
                  <a:pt x="5159" y="7813"/>
                </a:cubicBezTo>
              </a:path>
              <a:path w="1042" h="845">
                <a:moveTo>
                  <a:pt x="5705" y="7491"/>
                </a:moveTo>
                <a:cubicBezTo>
                  <a:pt x="5797" y="7526"/>
                  <a:pt x="5876" y="7516"/>
                  <a:pt x="5978" y="7516"/>
                </a:cubicBezTo>
                <a:cubicBezTo>
                  <a:pt x="6044" y="7516"/>
                  <a:pt x="6110" y="7516"/>
                  <a:pt x="6176" y="751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Ink 6"/>
          <p:cNvSpPr/>
          <p:nvPr/>
        </p:nvSpPr>
        <p:spPr>
          <a:xfrm>
            <a:off x="2411280" y="2544840"/>
            <a:ext cx="303480" cy="322200"/>
          </a:xfrm>
          <a:custGeom>
            <a:avLst/>
            <a:gdLst/>
            <a:ahLst/>
            <a:rect l="l" t="t" r="r" b="b"/>
            <a:pathLst>
              <a:path w="845" h="894">
                <a:moveTo>
                  <a:pt x="6772" y="7069"/>
                </a:moveTo>
                <a:cubicBezTo>
                  <a:pt x="6746" y="7172"/>
                  <a:pt x="6733" y="7286"/>
                  <a:pt x="6722" y="7392"/>
                </a:cubicBezTo>
                <a:cubicBezTo>
                  <a:pt x="6713" y="7485"/>
                  <a:pt x="6697" y="7570"/>
                  <a:pt x="6697" y="7665"/>
                </a:cubicBezTo>
                <a:cubicBezTo>
                  <a:pt x="6697" y="7700"/>
                  <a:pt x="6672" y="7962"/>
                  <a:pt x="6722" y="7962"/>
                </a:cubicBezTo>
                <a:cubicBezTo>
                  <a:pt x="6730" y="7954"/>
                  <a:pt x="6739" y="7946"/>
                  <a:pt x="6747" y="7938"/>
                </a:cubicBezTo>
              </a:path>
              <a:path w="845" h="894">
                <a:moveTo>
                  <a:pt x="6995" y="7541"/>
                </a:moveTo>
                <a:cubicBezTo>
                  <a:pt x="7127" y="7541"/>
                  <a:pt x="7260" y="7541"/>
                  <a:pt x="7392" y="7541"/>
                </a:cubicBezTo>
              </a:path>
              <a:path w="845" h="894">
                <a:moveTo>
                  <a:pt x="7169" y="7714"/>
                </a:moveTo>
                <a:cubicBezTo>
                  <a:pt x="7219" y="7804"/>
                  <a:pt x="7238" y="7789"/>
                  <a:pt x="7342" y="7789"/>
                </a:cubicBezTo>
                <a:cubicBezTo>
                  <a:pt x="7408" y="7789"/>
                  <a:pt x="7475" y="7789"/>
                  <a:pt x="7541" y="778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Ink 7"/>
          <p:cNvSpPr/>
          <p:nvPr/>
        </p:nvSpPr>
        <p:spPr>
          <a:xfrm>
            <a:off x="2919240" y="2500200"/>
            <a:ext cx="839880" cy="428760"/>
          </a:xfrm>
          <a:custGeom>
            <a:avLst/>
            <a:gdLst/>
            <a:ahLst/>
            <a:rect l="l" t="t" r="r" b="b"/>
            <a:pathLst>
              <a:path w="2333" h="1192">
                <a:moveTo>
                  <a:pt x="8111" y="7119"/>
                </a:moveTo>
                <a:cubicBezTo>
                  <a:pt x="8111" y="7461"/>
                  <a:pt x="7961" y="8430"/>
                  <a:pt x="8136" y="8136"/>
                </a:cubicBezTo>
                <a:cubicBezTo>
                  <a:pt x="8136" y="8119"/>
                  <a:pt x="8136" y="8103"/>
                  <a:pt x="8136" y="8086"/>
                </a:cubicBezTo>
              </a:path>
              <a:path w="2333" h="1192">
                <a:moveTo>
                  <a:pt x="8508" y="7317"/>
                </a:moveTo>
                <a:cubicBezTo>
                  <a:pt x="8484" y="7403"/>
                  <a:pt x="8477" y="7481"/>
                  <a:pt x="8458" y="7565"/>
                </a:cubicBezTo>
                <a:cubicBezTo>
                  <a:pt x="8430" y="7688"/>
                  <a:pt x="8385" y="7776"/>
                  <a:pt x="8409" y="7913"/>
                </a:cubicBezTo>
                <a:cubicBezTo>
                  <a:pt x="8425" y="8005"/>
                  <a:pt x="8531" y="8049"/>
                  <a:pt x="8607" y="8062"/>
                </a:cubicBezTo>
                <a:cubicBezTo>
                  <a:pt x="8691" y="8077"/>
                  <a:pt x="8779" y="8043"/>
                  <a:pt x="8855" y="8012"/>
                </a:cubicBezTo>
                <a:cubicBezTo>
                  <a:pt x="8934" y="7979"/>
                  <a:pt x="9024" y="7893"/>
                  <a:pt x="9054" y="7813"/>
                </a:cubicBezTo>
                <a:cubicBezTo>
                  <a:pt x="9101" y="7691"/>
                  <a:pt x="9124" y="7565"/>
                  <a:pt x="9079" y="7441"/>
                </a:cubicBezTo>
                <a:cubicBezTo>
                  <a:pt x="9043" y="7343"/>
                  <a:pt x="9021" y="7298"/>
                  <a:pt x="8930" y="7243"/>
                </a:cubicBezTo>
                <a:cubicBezTo>
                  <a:pt x="8848" y="7193"/>
                  <a:pt x="8795" y="7180"/>
                  <a:pt x="8706" y="7218"/>
                </a:cubicBezTo>
                <a:cubicBezTo>
                  <a:pt x="8675" y="7231"/>
                  <a:pt x="8569" y="7285"/>
                  <a:pt x="8558" y="7317"/>
                </a:cubicBezTo>
                <a:cubicBezTo>
                  <a:pt x="8535" y="7384"/>
                  <a:pt x="8543" y="7393"/>
                  <a:pt x="8558" y="7466"/>
                </a:cubicBezTo>
              </a:path>
              <a:path w="2333" h="1192">
                <a:moveTo>
                  <a:pt x="9327" y="7293"/>
                </a:moveTo>
                <a:cubicBezTo>
                  <a:pt x="9396" y="7243"/>
                  <a:pt x="9393" y="7174"/>
                  <a:pt x="9451" y="7119"/>
                </a:cubicBezTo>
                <a:cubicBezTo>
                  <a:pt x="9504" y="7068"/>
                  <a:pt x="9601" y="7043"/>
                  <a:pt x="9649" y="7119"/>
                </a:cubicBezTo>
                <a:cubicBezTo>
                  <a:pt x="9694" y="7190"/>
                  <a:pt x="9696" y="7337"/>
                  <a:pt x="9699" y="7417"/>
                </a:cubicBezTo>
                <a:cubicBezTo>
                  <a:pt x="9703" y="7536"/>
                  <a:pt x="9663" y="7626"/>
                  <a:pt x="9649" y="7739"/>
                </a:cubicBezTo>
                <a:cubicBezTo>
                  <a:pt x="9634" y="7864"/>
                  <a:pt x="9642" y="7966"/>
                  <a:pt x="9525" y="8037"/>
                </a:cubicBezTo>
                <a:cubicBezTo>
                  <a:pt x="9451" y="8082"/>
                  <a:pt x="9430" y="8092"/>
                  <a:pt x="9351" y="8037"/>
                </a:cubicBezTo>
                <a:cubicBezTo>
                  <a:pt x="9276" y="7984"/>
                  <a:pt x="9364" y="7903"/>
                  <a:pt x="9401" y="7863"/>
                </a:cubicBezTo>
                <a:cubicBezTo>
                  <a:pt x="9409" y="7855"/>
                  <a:pt x="9418" y="7846"/>
                  <a:pt x="9426" y="7838"/>
                </a:cubicBezTo>
                <a:cubicBezTo>
                  <a:pt x="9470" y="7864"/>
                  <a:pt x="9521" y="7893"/>
                  <a:pt x="9550" y="7938"/>
                </a:cubicBezTo>
                <a:cubicBezTo>
                  <a:pt x="9564" y="7959"/>
                  <a:pt x="9622" y="8107"/>
                  <a:pt x="9649" y="8111"/>
                </a:cubicBezTo>
                <a:cubicBezTo>
                  <a:pt x="9703" y="8084"/>
                  <a:pt x="9723" y="8073"/>
                  <a:pt x="9748" y="8037"/>
                </a:cubicBezTo>
              </a:path>
              <a:path w="2333" h="1192">
                <a:moveTo>
                  <a:pt x="10021" y="7243"/>
                </a:moveTo>
                <a:cubicBezTo>
                  <a:pt x="10069" y="7322"/>
                  <a:pt x="10014" y="7363"/>
                  <a:pt x="9996" y="7441"/>
                </a:cubicBezTo>
                <a:cubicBezTo>
                  <a:pt x="9986" y="7485"/>
                  <a:pt x="10021" y="7576"/>
                  <a:pt x="10071" y="7590"/>
                </a:cubicBezTo>
                <a:cubicBezTo>
                  <a:pt x="10157" y="7615"/>
                  <a:pt x="10210" y="7603"/>
                  <a:pt x="10294" y="7590"/>
                </a:cubicBezTo>
                <a:cubicBezTo>
                  <a:pt x="10346" y="7590"/>
                  <a:pt x="10363" y="7589"/>
                  <a:pt x="10368" y="7541"/>
                </a:cubicBezTo>
              </a:path>
              <a:path w="2333" h="1192">
                <a:moveTo>
                  <a:pt x="10443" y="6945"/>
                </a:moveTo>
                <a:cubicBezTo>
                  <a:pt x="10405" y="7048"/>
                  <a:pt x="10371" y="7107"/>
                  <a:pt x="10368" y="7218"/>
                </a:cubicBezTo>
                <a:cubicBezTo>
                  <a:pt x="10361" y="7444"/>
                  <a:pt x="10376" y="7665"/>
                  <a:pt x="10393" y="7888"/>
                </a:cubicBezTo>
                <a:cubicBezTo>
                  <a:pt x="10399" y="7961"/>
                  <a:pt x="10413" y="8012"/>
                  <a:pt x="10393" y="806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Ink 8"/>
          <p:cNvSpPr/>
          <p:nvPr/>
        </p:nvSpPr>
        <p:spPr>
          <a:xfrm>
            <a:off x="4714920" y="2517840"/>
            <a:ext cx="1876320" cy="590400"/>
          </a:xfrm>
          <a:custGeom>
            <a:avLst/>
            <a:gdLst/>
            <a:ahLst/>
            <a:rect l="l" t="t" r="r" b="b"/>
            <a:pathLst>
              <a:path w="5210" h="1638">
                <a:moveTo>
                  <a:pt x="13221" y="7119"/>
                </a:moveTo>
                <a:cubicBezTo>
                  <a:pt x="13211" y="7245"/>
                  <a:pt x="13196" y="7363"/>
                  <a:pt x="13196" y="7491"/>
                </a:cubicBezTo>
                <a:cubicBezTo>
                  <a:pt x="13196" y="7639"/>
                  <a:pt x="13192" y="7815"/>
                  <a:pt x="13171" y="7962"/>
                </a:cubicBezTo>
                <a:cubicBezTo>
                  <a:pt x="13157" y="8060"/>
                  <a:pt x="13082" y="8217"/>
                  <a:pt x="13097" y="8310"/>
                </a:cubicBezTo>
                <a:cubicBezTo>
                  <a:pt x="13105" y="8364"/>
                  <a:pt x="13141" y="8265"/>
                  <a:pt x="13146" y="8210"/>
                </a:cubicBezTo>
              </a:path>
              <a:path w="5210" h="1638">
                <a:moveTo>
                  <a:pt x="13543" y="7218"/>
                </a:moveTo>
                <a:cubicBezTo>
                  <a:pt x="13535" y="7312"/>
                  <a:pt x="13508" y="7402"/>
                  <a:pt x="13469" y="7491"/>
                </a:cubicBezTo>
                <a:cubicBezTo>
                  <a:pt x="13410" y="7623"/>
                  <a:pt x="13374" y="7741"/>
                  <a:pt x="13370" y="7888"/>
                </a:cubicBezTo>
                <a:cubicBezTo>
                  <a:pt x="13368" y="7947"/>
                  <a:pt x="13342" y="8160"/>
                  <a:pt x="13395" y="8210"/>
                </a:cubicBezTo>
                <a:cubicBezTo>
                  <a:pt x="13460" y="8272"/>
                  <a:pt x="13573" y="8332"/>
                  <a:pt x="13667" y="8310"/>
                </a:cubicBezTo>
                <a:cubicBezTo>
                  <a:pt x="13738" y="8293"/>
                  <a:pt x="13845" y="8239"/>
                  <a:pt x="13891" y="8186"/>
                </a:cubicBezTo>
                <a:cubicBezTo>
                  <a:pt x="13941" y="8128"/>
                  <a:pt x="13987" y="8042"/>
                  <a:pt x="13965" y="7962"/>
                </a:cubicBezTo>
                <a:cubicBezTo>
                  <a:pt x="13943" y="7882"/>
                  <a:pt x="13800" y="7855"/>
                  <a:pt x="13742" y="7913"/>
                </a:cubicBezTo>
                <a:cubicBezTo>
                  <a:pt x="13708" y="7947"/>
                  <a:pt x="13580" y="8037"/>
                  <a:pt x="13568" y="8086"/>
                </a:cubicBezTo>
                <a:cubicBezTo>
                  <a:pt x="13544" y="8180"/>
                  <a:pt x="13579" y="8192"/>
                  <a:pt x="13643" y="8210"/>
                </a:cubicBezTo>
              </a:path>
              <a:path w="5210" h="1638">
                <a:moveTo>
                  <a:pt x="14312" y="8012"/>
                </a:moveTo>
                <a:cubicBezTo>
                  <a:pt x="14290" y="8134"/>
                  <a:pt x="14284" y="8208"/>
                  <a:pt x="14238" y="8310"/>
                </a:cubicBezTo>
                <a:cubicBezTo>
                  <a:pt x="14230" y="8326"/>
                  <a:pt x="14221" y="8343"/>
                  <a:pt x="14213" y="8359"/>
                </a:cubicBezTo>
                <a:cubicBezTo>
                  <a:pt x="14244" y="8274"/>
                  <a:pt x="14257" y="8194"/>
                  <a:pt x="14288" y="8111"/>
                </a:cubicBezTo>
                <a:cubicBezTo>
                  <a:pt x="14325" y="8013"/>
                  <a:pt x="14382" y="7909"/>
                  <a:pt x="14412" y="7813"/>
                </a:cubicBezTo>
                <a:cubicBezTo>
                  <a:pt x="14456" y="7674"/>
                  <a:pt x="14514" y="7510"/>
                  <a:pt x="14536" y="7367"/>
                </a:cubicBezTo>
                <a:cubicBezTo>
                  <a:pt x="14550" y="7277"/>
                  <a:pt x="14568" y="7227"/>
                  <a:pt x="14610" y="7144"/>
                </a:cubicBezTo>
                <a:cubicBezTo>
                  <a:pt x="14654" y="7209"/>
                  <a:pt x="14668" y="7268"/>
                  <a:pt x="14684" y="7342"/>
                </a:cubicBezTo>
                <a:cubicBezTo>
                  <a:pt x="14711" y="7467"/>
                  <a:pt x="14771" y="7574"/>
                  <a:pt x="14808" y="7689"/>
                </a:cubicBezTo>
                <a:cubicBezTo>
                  <a:pt x="14854" y="7831"/>
                  <a:pt x="14880" y="7972"/>
                  <a:pt x="14932" y="8111"/>
                </a:cubicBezTo>
                <a:cubicBezTo>
                  <a:pt x="14941" y="8136"/>
                  <a:pt x="15023" y="8302"/>
                  <a:pt x="15056" y="8310"/>
                </a:cubicBezTo>
                <a:cubicBezTo>
                  <a:pt x="15079" y="8287"/>
                  <a:pt x="15087" y="8283"/>
                  <a:pt x="15081" y="8260"/>
                </a:cubicBezTo>
              </a:path>
              <a:path w="5210" h="1638">
                <a:moveTo>
                  <a:pt x="15627" y="7119"/>
                </a:moveTo>
                <a:cubicBezTo>
                  <a:pt x="15596" y="7236"/>
                  <a:pt x="15556" y="7360"/>
                  <a:pt x="15503" y="7466"/>
                </a:cubicBezTo>
                <a:cubicBezTo>
                  <a:pt x="15434" y="7603"/>
                  <a:pt x="15431" y="7691"/>
                  <a:pt x="15404" y="7838"/>
                </a:cubicBezTo>
                <a:cubicBezTo>
                  <a:pt x="15381" y="7966"/>
                  <a:pt x="15340" y="8031"/>
                  <a:pt x="15379" y="8161"/>
                </a:cubicBezTo>
                <a:cubicBezTo>
                  <a:pt x="15416" y="8284"/>
                  <a:pt x="15449" y="8355"/>
                  <a:pt x="15577" y="8409"/>
                </a:cubicBezTo>
                <a:cubicBezTo>
                  <a:pt x="15594" y="8409"/>
                  <a:pt x="15610" y="8409"/>
                  <a:pt x="15627" y="8409"/>
                </a:cubicBezTo>
              </a:path>
              <a:path w="5210" h="1638">
                <a:moveTo>
                  <a:pt x="15999" y="7317"/>
                </a:moveTo>
                <a:cubicBezTo>
                  <a:pt x="16167" y="7252"/>
                  <a:pt x="16316" y="7220"/>
                  <a:pt x="16495" y="7193"/>
                </a:cubicBezTo>
                <a:cubicBezTo>
                  <a:pt x="16547" y="7193"/>
                  <a:pt x="16565" y="7192"/>
                  <a:pt x="16594" y="7169"/>
                </a:cubicBezTo>
              </a:path>
              <a:path w="5210" h="1638">
                <a:moveTo>
                  <a:pt x="15974" y="7317"/>
                </a:moveTo>
                <a:cubicBezTo>
                  <a:pt x="15925" y="7400"/>
                  <a:pt x="15863" y="7476"/>
                  <a:pt x="15850" y="7565"/>
                </a:cubicBezTo>
                <a:cubicBezTo>
                  <a:pt x="15913" y="7628"/>
                  <a:pt x="15931" y="7632"/>
                  <a:pt x="15999" y="7565"/>
                </a:cubicBezTo>
                <a:cubicBezTo>
                  <a:pt x="16031" y="7534"/>
                  <a:pt x="16152" y="7487"/>
                  <a:pt x="16197" y="7491"/>
                </a:cubicBezTo>
                <a:cubicBezTo>
                  <a:pt x="16316" y="7501"/>
                  <a:pt x="16340" y="7566"/>
                  <a:pt x="16396" y="7640"/>
                </a:cubicBezTo>
                <a:cubicBezTo>
                  <a:pt x="16477" y="7746"/>
                  <a:pt x="16523" y="7821"/>
                  <a:pt x="16495" y="7962"/>
                </a:cubicBezTo>
                <a:cubicBezTo>
                  <a:pt x="16476" y="8058"/>
                  <a:pt x="16402" y="8114"/>
                  <a:pt x="16321" y="8161"/>
                </a:cubicBezTo>
                <a:cubicBezTo>
                  <a:pt x="16198" y="8232"/>
                  <a:pt x="16064" y="8256"/>
                  <a:pt x="15925" y="8260"/>
                </a:cubicBezTo>
                <a:cubicBezTo>
                  <a:pt x="15808" y="8263"/>
                  <a:pt x="15814" y="8304"/>
                  <a:pt x="15801" y="8235"/>
                </a:cubicBezTo>
              </a:path>
              <a:path w="5210" h="1638">
                <a:moveTo>
                  <a:pt x="17090" y="7268"/>
                </a:moveTo>
                <a:cubicBezTo>
                  <a:pt x="16979" y="7532"/>
                  <a:pt x="16844" y="7806"/>
                  <a:pt x="16768" y="8086"/>
                </a:cubicBezTo>
                <a:cubicBezTo>
                  <a:pt x="16752" y="8146"/>
                  <a:pt x="16624" y="8439"/>
                  <a:pt x="16669" y="8483"/>
                </a:cubicBezTo>
                <a:cubicBezTo>
                  <a:pt x="16677" y="8475"/>
                  <a:pt x="16686" y="8466"/>
                  <a:pt x="16694" y="8458"/>
                </a:cubicBezTo>
              </a:path>
              <a:path w="5210" h="1638">
                <a:moveTo>
                  <a:pt x="17140" y="7491"/>
                </a:moveTo>
                <a:cubicBezTo>
                  <a:pt x="17275" y="7413"/>
                  <a:pt x="17376" y="7309"/>
                  <a:pt x="17512" y="7417"/>
                </a:cubicBezTo>
                <a:cubicBezTo>
                  <a:pt x="17615" y="7499"/>
                  <a:pt x="17632" y="7561"/>
                  <a:pt x="17636" y="7689"/>
                </a:cubicBezTo>
                <a:cubicBezTo>
                  <a:pt x="17640" y="7801"/>
                  <a:pt x="17591" y="7931"/>
                  <a:pt x="17512" y="8012"/>
                </a:cubicBezTo>
                <a:cubicBezTo>
                  <a:pt x="17479" y="8046"/>
                  <a:pt x="17332" y="8170"/>
                  <a:pt x="17264" y="8186"/>
                </a:cubicBezTo>
                <a:cubicBezTo>
                  <a:pt x="17207" y="8199"/>
                  <a:pt x="17145" y="8157"/>
                  <a:pt x="17115" y="8111"/>
                </a:cubicBezTo>
                <a:cubicBezTo>
                  <a:pt x="17107" y="8095"/>
                  <a:pt x="17098" y="8078"/>
                  <a:pt x="17090" y="8062"/>
                </a:cubicBezTo>
                <a:cubicBezTo>
                  <a:pt x="17186" y="8041"/>
                  <a:pt x="17265" y="8074"/>
                  <a:pt x="17363" y="8111"/>
                </a:cubicBezTo>
                <a:cubicBezTo>
                  <a:pt x="17525" y="8172"/>
                  <a:pt x="17680" y="8232"/>
                  <a:pt x="17859" y="8210"/>
                </a:cubicBezTo>
                <a:cubicBezTo>
                  <a:pt x="17876" y="8202"/>
                  <a:pt x="17892" y="8194"/>
                  <a:pt x="17909" y="8186"/>
                </a:cubicBezTo>
              </a:path>
              <a:path w="5210" h="1638">
                <a:moveTo>
                  <a:pt x="18083" y="6995"/>
                </a:moveTo>
                <a:cubicBezTo>
                  <a:pt x="18166" y="7234"/>
                  <a:pt x="18249" y="7441"/>
                  <a:pt x="18281" y="7689"/>
                </a:cubicBezTo>
                <a:cubicBezTo>
                  <a:pt x="18315" y="7953"/>
                  <a:pt x="18279" y="8093"/>
                  <a:pt x="18157" y="8334"/>
                </a:cubicBezTo>
                <a:cubicBezTo>
                  <a:pt x="18075" y="8495"/>
                  <a:pt x="18005" y="8547"/>
                  <a:pt x="17859" y="863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Ink 9"/>
          <p:cNvSpPr/>
          <p:nvPr/>
        </p:nvSpPr>
        <p:spPr>
          <a:xfrm>
            <a:off x="1776240" y="3044880"/>
            <a:ext cx="2162520" cy="455400"/>
          </a:xfrm>
          <a:custGeom>
            <a:avLst/>
            <a:gdLst/>
            <a:ahLst/>
            <a:rect l="l" t="t" r="r" b="b"/>
            <a:pathLst>
              <a:path w="6004" h="1266">
                <a:moveTo>
                  <a:pt x="6400" y="8458"/>
                </a:moveTo>
                <a:cubicBezTo>
                  <a:pt x="6400" y="8620"/>
                  <a:pt x="6407" y="8776"/>
                  <a:pt x="6424" y="8930"/>
                </a:cubicBezTo>
                <a:cubicBezTo>
                  <a:pt x="6433" y="9009"/>
                  <a:pt x="6439" y="9077"/>
                  <a:pt x="6449" y="9153"/>
                </a:cubicBezTo>
              </a:path>
              <a:path w="6004" h="1266">
                <a:moveTo>
                  <a:pt x="6102" y="8855"/>
                </a:moveTo>
                <a:cubicBezTo>
                  <a:pt x="6217" y="8872"/>
                  <a:pt x="6309" y="8880"/>
                  <a:pt x="6424" y="8880"/>
                </a:cubicBezTo>
                <a:cubicBezTo>
                  <a:pt x="6441" y="8880"/>
                  <a:pt x="6457" y="8880"/>
                  <a:pt x="6474" y="8880"/>
                </a:cubicBezTo>
              </a:path>
              <a:path w="6004" h="1266">
                <a:moveTo>
                  <a:pt x="6871" y="8533"/>
                </a:moveTo>
                <a:cubicBezTo>
                  <a:pt x="6871" y="8651"/>
                  <a:pt x="6862" y="8743"/>
                  <a:pt x="6846" y="8855"/>
                </a:cubicBezTo>
                <a:cubicBezTo>
                  <a:pt x="6838" y="8912"/>
                  <a:pt x="6835" y="9056"/>
                  <a:pt x="6871" y="9103"/>
                </a:cubicBezTo>
                <a:cubicBezTo>
                  <a:pt x="6879" y="9103"/>
                  <a:pt x="6888" y="9103"/>
                  <a:pt x="6896" y="9103"/>
                </a:cubicBezTo>
              </a:path>
              <a:path w="6004" h="1266">
                <a:moveTo>
                  <a:pt x="9277" y="8607"/>
                </a:moveTo>
                <a:cubicBezTo>
                  <a:pt x="9277" y="8789"/>
                  <a:pt x="9277" y="8971"/>
                  <a:pt x="9277" y="9153"/>
                </a:cubicBezTo>
              </a:path>
              <a:path w="6004" h="1266">
                <a:moveTo>
                  <a:pt x="9054" y="8880"/>
                </a:moveTo>
                <a:cubicBezTo>
                  <a:pt x="9161" y="8909"/>
                  <a:pt x="9241" y="8930"/>
                  <a:pt x="9351" y="8930"/>
                </a:cubicBezTo>
                <a:cubicBezTo>
                  <a:pt x="9417" y="8930"/>
                  <a:pt x="9434" y="8930"/>
                  <a:pt x="9475" y="8930"/>
                </a:cubicBezTo>
              </a:path>
              <a:path w="6004" h="1266">
                <a:moveTo>
                  <a:pt x="10046" y="8483"/>
                </a:moveTo>
                <a:cubicBezTo>
                  <a:pt x="10046" y="8635"/>
                  <a:pt x="10029" y="8781"/>
                  <a:pt x="10021" y="8930"/>
                </a:cubicBezTo>
                <a:cubicBezTo>
                  <a:pt x="10016" y="9037"/>
                  <a:pt x="10021" y="9145"/>
                  <a:pt x="10021" y="9252"/>
                </a:cubicBezTo>
              </a:path>
              <a:path w="6004" h="1266">
                <a:moveTo>
                  <a:pt x="10939" y="9699"/>
                </a:moveTo>
                <a:cubicBezTo>
                  <a:pt x="10802" y="9714"/>
                  <a:pt x="10708" y="9688"/>
                  <a:pt x="10567" y="9674"/>
                </a:cubicBezTo>
                <a:cubicBezTo>
                  <a:pt x="10393" y="9657"/>
                  <a:pt x="10221" y="9625"/>
                  <a:pt x="10046" y="9599"/>
                </a:cubicBezTo>
                <a:cubicBezTo>
                  <a:pt x="9492" y="9517"/>
                  <a:pt x="8941" y="9464"/>
                  <a:pt x="8384" y="9426"/>
                </a:cubicBezTo>
                <a:cubicBezTo>
                  <a:pt x="8048" y="9403"/>
                  <a:pt x="7704" y="9361"/>
                  <a:pt x="7367" y="9376"/>
                </a:cubicBezTo>
                <a:cubicBezTo>
                  <a:pt x="7035" y="9391"/>
                  <a:pt x="6706" y="9418"/>
                  <a:pt x="6375" y="9451"/>
                </a:cubicBezTo>
                <a:cubicBezTo>
                  <a:pt x="5945" y="9494"/>
                  <a:pt x="5515" y="9592"/>
                  <a:pt x="5085" y="9624"/>
                </a:cubicBezTo>
                <a:cubicBezTo>
                  <a:pt x="4893" y="9638"/>
                  <a:pt x="4998" y="9611"/>
                  <a:pt x="5011" y="964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Ink 10"/>
          <p:cNvSpPr/>
          <p:nvPr/>
        </p:nvSpPr>
        <p:spPr>
          <a:xfrm>
            <a:off x="2224080" y="3562200"/>
            <a:ext cx="1463760" cy="447840"/>
          </a:xfrm>
          <a:custGeom>
            <a:avLst/>
            <a:gdLst/>
            <a:ahLst/>
            <a:rect l="l" t="t" r="r" b="b"/>
            <a:pathLst>
              <a:path w="4069" h="1241">
                <a:moveTo>
                  <a:pt x="6325" y="9971"/>
                </a:moveTo>
                <a:cubicBezTo>
                  <a:pt x="6368" y="10099"/>
                  <a:pt x="6405" y="10227"/>
                  <a:pt x="6474" y="10344"/>
                </a:cubicBezTo>
                <a:cubicBezTo>
                  <a:pt x="6565" y="10498"/>
                  <a:pt x="6661" y="10598"/>
                  <a:pt x="6796" y="10716"/>
                </a:cubicBezTo>
                <a:cubicBezTo>
                  <a:pt x="6859" y="10772"/>
                  <a:pt x="6926" y="10818"/>
                  <a:pt x="6995" y="10790"/>
                </a:cubicBezTo>
              </a:path>
              <a:path w="4069" h="1241">
                <a:moveTo>
                  <a:pt x="6623" y="9897"/>
                </a:moveTo>
                <a:cubicBezTo>
                  <a:pt x="6560" y="10045"/>
                  <a:pt x="6491" y="10211"/>
                  <a:pt x="6400" y="10344"/>
                </a:cubicBezTo>
                <a:cubicBezTo>
                  <a:pt x="6344" y="10427"/>
                  <a:pt x="6275" y="10504"/>
                  <a:pt x="6226" y="10592"/>
                </a:cubicBezTo>
                <a:cubicBezTo>
                  <a:pt x="6201" y="10641"/>
                  <a:pt x="6192" y="10658"/>
                  <a:pt x="6176" y="10691"/>
                </a:cubicBezTo>
              </a:path>
              <a:path w="4069" h="1241">
                <a:moveTo>
                  <a:pt x="7045" y="10195"/>
                </a:moveTo>
                <a:cubicBezTo>
                  <a:pt x="7243" y="10213"/>
                  <a:pt x="7259" y="10222"/>
                  <a:pt x="7367" y="10220"/>
                </a:cubicBezTo>
              </a:path>
              <a:path w="4069" h="1241">
                <a:moveTo>
                  <a:pt x="6995" y="10418"/>
                </a:moveTo>
                <a:cubicBezTo>
                  <a:pt x="7097" y="10436"/>
                  <a:pt x="7239" y="10485"/>
                  <a:pt x="7342" y="10468"/>
                </a:cubicBezTo>
                <a:cubicBezTo>
                  <a:pt x="7359" y="10460"/>
                  <a:pt x="7375" y="10451"/>
                  <a:pt x="7392" y="10443"/>
                </a:cubicBezTo>
              </a:path>
              <a:path w="4069" h="1241">
                <a:moveTo>
                  <a:pt x="7938" y="9996"/>
                </a:moveTo>
                <a:cubicBezTo>
                  <a:pt x="7933" y="10143"/>
                  <a:pt x="7913" y="10273"/>
                  <a:pt x="7913" y="10418"/>
                </a:cubicBezTo>
                <a:cubicBezTo>
                  <a:pt x="7913" y="10534"/>
                  <a:pt x="7913" y="10649"/>
                  <a:pt x="7913" y="10765"/>
                </a:cubicBezTo>
              </a:path>
              <a:path w="4069" h="1241">
                <a:moveTo>
                  <a:pt x="8285" y="10021"/>
                </a:moveTo>
                <a:cubicBezTo>
                  <a:pt x="8247" y="10149"/>
                  <a:pt x="8141" y="10277"/>
                  <a:pt x="8136" y="10418"/>
                </a:cubicBezTo>
                <a:cubicBezTo>
                  <a:pt x="8131" y="10566"/>
                  <a:pt x="8166" y="10623"/>
                  <a:pt x="8260" y="10716"/>
                </a:cubicBezTo>
                <a:cubicBezTo>
                  <a:pt x="8315" y="10770"/>
                  <a:pt x="8384" y="10786"/>
                  <a:pt x="8458" y="10790"/>
                </a:cubicBezTo>
                <a:cubicBezTo>
                  <a:pt x="8533" y="10794"/>
                  <a:pt x="8601" y="10759"/>
                  <a:pt x="8632" y="10691"/>
                </a:cubicBezTo>
                <a:cubicBezTo>
                  <a:pt x="8668" y="10612"/>
                  <a:pt x="8673" y="10478"/>
                  <a:pt x="8657" y="10393"/>
                </a:cubicBezTo>
                <a:cubicBezTo>
                  <a:pt x="8632" y="10259"/>
                  <a:pt x="8544" y="10170"/>
                  <a:pt x="8458" y="10071"/>
                </a:cubicBezTo>
                <a:cubicBezTo>
                  <a:pt x="8405" y="10009"/>
                  <a:pt x="8349" y="9968"/>
                  <a:pt x="8310" y="9897"/>
                </a:cubicBezTo>
              </a:path>
              <a:path w="4069" h="1241">
                <a:moveTo>
                  <a:pt x="8830" y="9971"/>
                </a:moveTo>
                <a:cubicBezTo>
                  <a:pt x="8967" y="10025"/>
                  <a:pt x="9019" y="10060"/>
                  <a:pt x="9128" y="10145"/>
                </a:cubicBezTo>
                <a:cubicBezTo>
                  <a:pt x="9235" y="10228"/>
                  <a:pt x="9273" y="10290"/>
                  <a:pt x="9252" y="10443"/>
                </a:cubicBezTo>
                <a:cubicBezTo>
                  <a:pt x="9235" y="10566"/>
                  <a:pt x="9149" y="10609"/>
                  <a:pt x="9079" y="10691"/>
                </a:cubicBezTo>
                <a:cubicBezTo>
                  <a:pt x="9035" y="10743"/>
                  <a:pt x="8964" y="10781"/>
                  <a:pt x="8880" y="10765"/>
                </a:cubicBezTo>
                <a:cubicBezTo>
                  <a:pt x="8797" y="10749"/>
                  <a:pt x="8779" y="10655"/>
                  <a:pt x="8830" y="10592"/>
                </a:cubicBezTo>
                <a:cubicBezTo>
                  <a:pt x="8876" y="10536"/>
                  <a:pt x="9000" y="10598"/>
                  <a:pt x="9054" y="10616"/>
                </a:cubicBezTo>
                <a:cubicBezTo>
                  <a:pt x="9144" y="10647"/>
                  <a:pt x="9213" y="10693"/>
                  <a:pt x="9302" y="10716"/>
                </a:cubicBezTo>
                <a:cubicBezTo>
                  <a:pt x="9375" y="10740"/>
                  <a:pt x="9399" y="10748"/>
                  <a:pt x="9451" y="10740"/>
                </a:cubicBezTo>
              </a:path>
              <a:path w="4069" h="1241">
                <a:moveTo>
                  <a:pt x="9649" y="10046"/>
                </a:moveTo>
                <a:cubicBezTo>
                  <a:pt x="9796" y="10046"/>
                  <a:pt x="9982" y="10074"/>
                  <a:pt x="10120" y="10021"/>
                </a:cubicBezTo>
              </a:path>
              <a:path w="4069" h="1241">
                <a:moveTo>
                  <a:pt x="9525" y="10120"/>
                </a:moveTo>
                <a:cubicBezTo>
                  <a:pt x="9462" y="10236"/>
                  <a:pt x="9456" y="10224"/>
                  <a:pt x="9550" y="10294"/>
                </a:cubicBezTo>
                <a:cubicBezTo>
                  <a:pt x="9613" y="10341"/>
                  <a:pt x="9717" y="10319"/>
                  <a:pt x="9798" y="10344"/>
                </a:cubicBezTo>
                <a:cubicBezTo>
                  <a:pt x="9863" y="10364"/>
                  <a:pt x="9939" y="10374"/>
                  <a:pt x="9996" y="10418"/>
                </a:cubicBezTo>
                <a:cubicBezTo>
                  <a:pt x="10065" y="10472"/>
                  <a:pt x="10155" y="10588"/>
                  <a:pt x="10195" y="10666"/>
                </a:cubicBezTo>
                <a:cubicBezTo>
                  <a:pt x="10234" y="10743"/>
                  <a:pt x="10261" y="10853"/>
                  <a:pt x="10244" y="10939"/>
                </a:cubicBezTo>
                <a:cubicBezTo>
                  <a:pt x="10218" y="11068"/>
                  <a:pt x="10149" y="11072"/>
                  <a:pt x="10046" y="11112"/>
                </a:cubicBezTo>
                <a:cubicBezTo>
                  <a:pt x="9952" y="11149"/>
                  <a:pt x="9892" y="11123"/>
                  <a:pt x="9798" y="11112"/>
                </a:cubicBezTo>
                <a:cubicBezTo>
                  <a:pt x="9718" y="11102"/>
                  <a:pt x="9652" y="11111"/>
                  <a:pt x="9575" y="1108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Ink 11"/>
          <p:cNvSpPr/>
          <p:nvPr/>
        </p:nvSpPr>
        <p:spPr>
          <a:xfrm>
            <a:off x="3919680" y="1482840"/>
            <a:ext cx="563400" cy="295200"/>
          </a:xfrm>
          <a:custGeom>
            <a:avLst/>
            <a:gdLst/>
            <a:ahLst/>
            <a:rect l="l" t="t" r="r" b="b"/>
            <a:pathLst>
              <a:path w="1564" h="819">
                <a:moveTo>
                  <a:pt x="11088" y="4118"/>
                </a:moveTo>
                <a:cubicBezTo>
                  <a:pt x="11034" y="4211"/>
                  <a:pt x="10973" y="4281"/>
                  <a:pt x="10939" y="4390"/>
                </a:cubicBezTo>
                <a:cubicBezTo>
                  <a:pt x="10902" y="4511"/>
                  <a:pt x="10868" y="4648"/>
                  <a:pt x="10939" y="4762"/>
                </a:cubicBezTo>
                <a:cubicBezTo>
                  <a:pt x="10969" y="4810"/>
                  <a:pt x="11016" y="4806"/>
                  <a:pt x="11063" y="4812"/>
                </a:cubicBezTo>
              </a:path>
              <a:path w="1564" h="819">
                <a:moveTo>
                  <a:pt x="11385" y="4217"/>
                </a:moveTo>
                <a:cubicBezTo>
                  <a:pt x="11501" y="4217"/>
                  <a:pt x="11518" y="4217"/>
                  <a:pt x="11584" y="4217"/>
                </a:cubicBezTo>
              </a:path>
              <a:path w="1564" h="819">
                <a:moveTo>
                  <a:pt x="11286" y="4242"/>
                </a:moveTo>
                <a:cubicBezTo>
                  <a:pt x="11249" y="4292"/>
                  <a:pt x="11199" y="4349"/>
                  <a:pt x="11286" y="4390"/>
                </a:cubicBezTo>
                <a:cubicBezTo>
                  <a:pt x="11388" y="4438"/>
                  <a:pt x="11449" y="4393"/>
                  <a:pt x="11534" y="4465"/>
                </a:cubicBezTo>
                <a:cubicBezTo>
                  <a:pt x="11584" y="4507"/>
                  <a:pt x="11558" y="4579"/>
                  <a:pt x="11509" y="4614"/>
                </a:cubicBezTo>
                <a:cubicBezTo>
                  <a:pt x="11443" y="4661"/>
                  <a:pt x="11409" y="4638"/>
                  <a:pt x="11361" y="4589"/>
                </a:cubicBezTo>
              </a:path>
              <a:path w="1564" h="819">
                <a:moveTo>
                  <a:pt x="11881" y="4118"/>
                </a:moveTo>
                <a:cubicBezTo>
                  <a:pt x="11844" y="4297"/>
                  <a:pt x="11787" y="4422"/>
                  <a:pt x="11708" y="4589"/>
                </a:cubicBezTo>
                <a:cubicBezTo>
                  <a:pt x="11677" y="4655"/>
                  <a:pt x="11624" y="4741"/>
                  <a:pt x="11609" y="4812"/>
                </a:cubicBezTo>
                <a:cubicBezTo>
                  <a:pt x="11609" y="4853"/>
                  <a:pt x="11600" y="4870"/>
                  <a:pt x="11633" y="4862"/>
                </a:cubicBezTo>
              </a:path>
              <a:path w="1564" h="819">
                <a:moveTo>
                  <a:pt x="11881" y="4415"/>
                </a:moveTo>
                <a:cubicBezTo>
                  <a:pt x="11991" y="4379"/>
                  <a:pt x="12012" y="4334"/>
                  <a:pt x="12055" y="4390"/>
                </a:cubicBezTo>
                <a:cubicBezTo>
                  <a:pt x="12097" y="4448"/>
                  <a:pt x="12114" y="4523"/>
                  <a:pt x="12030" y="4589"/>
                </a:cubicBezTo>
                <a:cubicBezTo>
                  <a:pt x="11970" y="4636"/>
                  <a:pt x="11939" y="4671"/>
                  <a:pt x="11881" y="4713"/>
                </a:cubicBezTo>
                <a:cubicBezTo>
                  <a:pt x="11937" y="4801"/>
                  <a:pt x="11952" y="4812"/>
                  <a:pt x="12055" y="4812"/>
                </a:cubicBezTo>
                <a:cubicBezTo>
                  <a:pt x="12114" y="4812"/>
                  <a:pt x="12140" y="4809"/>
                  <a:pt x="12179" y="4787"/>
                </a:cubicBezTo>
              </a:path>
              <a:path w="1564" h="819">
                <a:moveTo>
                  <a:pt x="12353" y="4142"/>
                </a:moveTo>
                <a:cubicBezTo>
                  <a:pt x="12414" y="4366"/>
                  <a:pt x="12487" y="4520"/>
                  <a:pt x="12427" y="4738"/>
                </a:cubicBezTo>
                <a:cubicBezTo>
                  <a:pt x="12410" y="4799"/>
                  <a:pt x="12330" y="4877"/>
                  <a:pt x="12278" y="4911"/>
                </a:cubicBezTo>
                <a:cubicBezTo>
                  <a:pt x="12262" y="4919"/>
                  <a:pt x="12245" y="4928"/>
                  <a:pt x="12229" y="493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Absolute Value Equations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1371600" y="289548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Equations with absolute value symbols in i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(most have two solutions)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5T15:10:39Z</dcterms:created>
  <dc:creator>jnewman</dc:creator>
  <dc:description/>
  <dc:language>en-US</dc:language>
  <cp:lastModifiedBy>abeason</cp:lastModifiedBy>
  <dcterms:modified xsi:type="dcterms:W3CDTF">2009-09-11T14:26:52Z</dcterms:modified>
  <cp:revision>12</cp:revision>
  <dc:subject/>
  <dc:title>Friday, September 14th</dc:title>
</cp:coreProperties>
</file>